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948-278A-48B8-AD57-4C87890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81D-463A-41CA-855B-5C59641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0BF-2061-4A0A-9E36-6D6DE74B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5BF-20FF-403C-B16F-F5842D05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E05-48FF-4972-BEEE-6ADB9C9A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095-066F-48BF-82CC-AE48094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67C6-9401-4B39-BBD8-A37C3B7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3DC-D6C5-478C-9B58-0C8FED9A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2294-9C40-4FB3-9AEC-C01460E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857-5965-4F12-A8B6-7914345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F57-6CA2-4CCB-BA0D-481BCEC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097-5D6C-4404-810C-3F8CDE5A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90B0-9223-4996-A3E2-B50EABB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365A-C8D3-4E4F-8CA0-E9CEA08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B6B-3D47-44F0-9C4F-CCD062BE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0953-3679-43EA-BC13-E3237BD9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6E82-287E-4167-B567-8EA3DA5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2AF-DD5F-4DC9-88F8-42B9F03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6E4-2808-4D23-A137-295D1CE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147-EEF0-4967-8B26-0F9F1860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58A-F943-4149-B00B-4D3175A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B72-8328-4B36-A013-175D639D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E26-B40F-4A56-BBDA-784130F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B51-C501-4ADF-B278-E5D4F9A2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12AE-4C34-4768-95A2-8C3DECCB1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DE4B-2AAC-470E-AF85-A973202FC26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Школа здоровья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52320" y="69840"/>
            <a:ext cx="788688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Основные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группы витамин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одорастворимые(С, В!,В2,В3) и жирорастворимые (А,Д,Е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P1020154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Cj04368940000[1]"/>
          <p:cNvPicPr/>
          <p:nvPr/>
        </p:nvPicPr>
        <p:blipFill>
          <a:blip r:embed="rId1"/>
          <a:stretch/>
        </p:blipFill>
        <p:spPr>
          <a:xfrm>
            <a:off x="1752480" y="685800"/>
            <a:ext cx="426744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MCj04368970000[1]"/>
          <p:cNvPicPr/>
          <p:nvPr/>
        </p:nvPicPr>
        <p:blipFill>
          <a:blip r:embed="rId2"/>
          <a:stretch/>
        </p:blipFill>
        <p:spPr>
          <a:xfrm>
            <a:off x="3733920" y="16765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Cj04368950000[1]"/>
          <p:cNvPicPr/>
          <p:nvPr/>
        </p:nvPicPr>
        <p:blipFill>
          <a:blip r:embed="rId3"/>
          <a:stretch/>
        </p:blipFill>
        <p:spPr>
          <a:xfrm rot="18629400">
            <a:off x="838080" y="2361960"/>
            <a:ext cx="398448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MCj04368980000[1]"/>
          <p:cNvPicPr/>
          <p:nvPr/>
        </p:nvPicPr>
        <p:blipFill>
          <a:blip r:embed="rId1"/>
          <a:stretch/>
        </p:blipFill>
        <p:spPr>
          <a:xfrm>
            <a:off x="3733920" y="609480"/>
            <a:ext cx="3390840" cy="339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MCj04368960000[1]"/>
          <p:cNvPicPr/>
          <p:nvPr/>
        </p:nvPicPr>
        <p:blipFill>
          <a:blip r:embed="rId2"/>
          <a:stretch/>
        </p:blipFill>
        <p:spPr>
          <a:xfrm>
            <a:off x="990720" y="1066680"/>
            <a:ext cx="5181480" cy="518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Cj04368910000[1]"/>
          <p:cNvPicPr/>
          <p:nvPr/>
        </p:nvPicPr>
        <p:blipFill>
          <a:blip r:embed="rId3"/>
          <a:stretch/>
        </p:blipFill>
        <p:spPr>
          <a:xfrm>
            <a:off x="4952880" y="2971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MCj04368990000[1]"/>
          <p:cNvPicPr/>
          <p:nvPr/>
        </p:nvPicPr>
        <p:blipFill>
          <a:blip r:embed="rId1"/>
          <a:stretch/>
        </p:blipFill>
        <p:spPr>
          <a:xfrm>
            <a:off x="4191120" y="2743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MCj04369020000[1]"/>
          <p:cNvPicPr/>
          <p:nvPr/>
        </p:nvPicPr>
        <p:blipFill>
          <a:blip r:embed="rId2"/>
          <a:stretch/>
        </p:blipFill>
        <p:spPr>
          <a:xfrm>
            <a:off x="685800" y="22096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Cj04369010000[1]"/>
          <p:cNvPicPr/>
          <p:nvPr/>
        </p:nvPicPr>
        <p:blipFill>
          <a:blip r:embed="rId3"/>
          <a:stretch/>
        </p:blipFill>
        <p:spPr>
          <a:xfrm>
            <a:off x="1981080" y="60948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4369000000[1]"/>
          <p:cNvPicPr/>
          <p:nvPr/>
        </p:nvPicPr>
        <p:blipFill>
          <a:blip r:embed="rId4"/>
          <a:stretch/>
        </p:blipFill>
        <p:spPr>
          <a:xfrm rot="18801000">
            <a:off x="5059080" y="910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MCj04369030000[1]"/>
          <p:cNvPicPr/>
          <p:nvPr/>
        </p:nvPicPr>
        <p:blipFill>
          <a:blip r:embed="rId1"/>
          <a:stretch/>
        </p:blipFill>
        <p:spPr>
          <a:xfrm>
            <a:off x="1600200" y="5335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MCj04369060000[1]"/>
          <p:cNvPicPr/>
          <p:nvPr/>
        </p:nvPicPr>
        <p:blipFill>
          <a:blip r:embed="rId2"/>
          <a:stretch/>
        </p:blipFill>
        <p:spPr>
          <a:xfrm>
            <a:off x="3429000" y="16765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MCj04369050000[1]"/>
          <p:cNvPicPr/>
          <p:nvPr/>
        </p:nvPicPr>
        <p:blipFill>
          <a:blip r:embed="rId3"/>
          <a:stretch/>
        </p:blipFill>
        <p:spPr>
          <a:xfrm>
            <a:off x="4038480" y="3352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Cj04369140000[1]"/>
          <p:cNvPicPr/>
          <p:nvPr/>
        </p:nvPicPr>
        <p:blipFill>
          <a:blip r:embed="rId4"/>
          <a:stretch/>
        </p:blipFill>
        <p:spPr>
          <a:xfrm>
            <a:off x="15238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Cj04369090000[1]"/>
          <p:cNvPicPr/>
          <p:nvPr/>
        </p:nvPicPr>
        <p:blipFill>
          <a:blip r:embed="rId5"/>
          <a:stretch/>
        </p:blipFill>
        <p:spPr>
          <a:xfrm rot="1073400">
            <a:off x="5029200" y="5335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MCj04363350000[1]"/>
          <p:cNvPicPr/>
          <p:nvPr/>
        </p:nvPicPr>
        <p:blipFill>
          <a:blip r:embed="rId1"/>
          <a:stretch/>
        </p:blipFill>
        <p:spPr>
          <a:xfrm>
            <a:off x="1676520" y="14479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Cj04363570000[1]"/>
          <p:cNvPicPr/>
          <p:nvPr/>
        </p:nvPicPr>
        <p:blipFill>
          <a:blip r:embed="rId2"/>
          <a:stretch/>
        </p:blipFill>
        <p:spPr>
          <a:xfrm rot="19638600">
            <a:off x="5257800" y="25909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69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. При простуде надо пить чай с малиной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2. От насморка полезен свекольный сок 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3. При кашле пьют настой редьки на меду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4. От головной боли поможет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збавиться капустный лист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Cj04041710000[1]"/>
          <p:cNvPicPr/>
          <p:nvPr/>
        </p:nvPicPr>
        <p:blipFill>
          <a:blip r:embed="rId1"/>
          <a:stretch/>
        </p:blipFill>
        <p:spPr>
          <a:xfrm>
            <a:off x="228600" y="2666880"/>
            <a:ext cx="3624120" cy="3962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905120" y="380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СОВЕТЫ ДОКТОРА АЙБОЛИ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УСПЕВАЙК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j0234131"/>
          <p:cNvPicPr/>
          <p:nvPr/>
        </p:nvPicPr>
        <p:blipFill>
          <a:blip r:embed="rId1"/>
          <a:stretch/>
        </p:blipFill>
        <p:spPr>
          <a:xfrm>
            <a:off x="1143000" y="2362320"/>
            <a:ext cx="3440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ЕЖИМ ДН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стань в 7 утра. Сходи в туалет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бери постель. Сделай зарядк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ойся. Почисти зуб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день форм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завтрака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рога в школу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нятия в школ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рнувшись со школы  аккуратно повесь одежд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день домашнюю одежду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мой руки и пообедай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тдохни. Поиграй с друзьями во дворе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дкрепись полдником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готовь уро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гуля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ужинай. Помоги по хозяйству. Почитай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верь сумку всё ли сложено в школу. Постели постель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желай всем «Спокойной ночи». И ложись спать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В ЗДОРОВОМ ТЕЛЕ – ЗДОРОВЫЙ ДУХ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ыделите признаки здоровь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одр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ил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ру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умянец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лед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едлитель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сеянн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лабос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Спортом необходимо заниматься, чтоб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ть сильнее все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и сильным и здоровы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тобы все тебя боялис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нять свободное врем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АНАТОМ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MCHM00351_0000[1]"/>
          <p:cNvPicPr/>
          <p:nvPr/>
        </p:nvPicPr>
        <p:blipFill>
          <a:blip r:embed="rId1"/>
          <a:stretch/>
        </p:blipFill>
        <p:spPr>
          <a:xfrm>
            <a:off x="4419720" y="2133720"/>
            <a:ext cx="339228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CHM00299_0000[1]"/>
          <p:cNvPicPr/>
          <p:nvPr/>
        </p:nvPicPr>
        <p:blipFill>
          <a:blip r:embed="rId2"/>
          <a:stretch/>
        </p:blipFill>
        <p:spPr>
          <a:xfrm>
            <a:off x="914400" y="2133720"/>
            <a:ext cx="2597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Будь здоров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ГИГИЕН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MCj04339080000[1]"/>
          <p:cNvPicPr/>
          <p:nvPr/>
        </p:nvPicPr>
        <p:blipFill>
          <a:blip r:embed="rId1"/>
          <a:stretch/>
        </p:blipFill>
        <p:spPr>
          <a:xfrm>
            <a:off x="3505320" y="3200400"/>
            <a:ext cx="32194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Cj04240180000[1]"/>
          <p:cNvPicPr/>
          <p:nvPr/>
        </p:nvPicPr>
        <p:blipFill>
          <a:blip r:embed="rId2"/>
          <a:stretch/>
        </p:blipFill>
        <p:spPr>
          <a:xfrm>
            <a:off x="533520" y="1219320"/>
            <a:ext cx="2806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ИЗИЧЕСКАЯ  КУЛЬ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4" descr="MCj04341870000[1]"/>
          <p:cNvPicPr/>
          <p:nvPr/>
        </p:nvPicPr>
        <p:blipFill>
          <a:blip r:embed="rId1"/>
          <a:stretch/>
        </p:blipFill>
        <p:spPr>
          <a:xfrm>
            <a:off x="380880" y="1600200"/>
            <a:ext cx="33148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Cj04354640000[1]"/>
          <p:cNvPicPr/>
          <p:nvPr/>
        </p:nvPicPr>
        <p:blipFill>
          <a:blip r:embed="rId2"/>
          <a:stretch/>
        </p:blipFill>
        <p:spPr>
          <a:xfrm>
            <a:off x="5867280" y="1676520"/>
            <a:ext cx="2700360" cy="426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Cj04360170000[1]"/>
          <p:cNvPicPr/>
          <p:nvPr/>
        </p:nvPicPr>
        <p:blipFill>
          <a:blip r:embed="rId3"/>
          <a:stretch/>
        </p:blipFill>
        <p:spPr>
          <a:xfrm>
            <a:off x="3581280" y="3429000"/>
            <a:ext cx="2143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ЗАКАЛИВА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6" descr="MCj03551330000[1]"/>
          <p:cNvPicPr/>
          <p:nvPr/>
        </p:nvPicPr>
        <p:blipFill>
          <a:blip r:embed="rId1"/>
          <a:stretch/>
        </p:blipFill>
        <p:spPr>
          <a:xfrm>
            <a:off x="685800" y="1981080"/>
            <a:ext cx="4108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ИТАМИ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20914200">
            <a:off x="1023480" y="2585880"/>
            <a:ext cx="2629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 rot="813000">
            <a:off x="3580920" y="2209320"/>
            <a:ext cx="2324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ec85e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eec85e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 rot="20914200">
            <a:off x="5410080" y="3504960"/>
            <a:ext cx="2603520" cy="22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cc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ffffcc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4:33:53Z</dcterms:created>
  <dc:creator>ученик</dc:creator>
  <dc:description/>
  <dc:language>en-US</dc:language>
  <cp:lastModifiedBy>User</cp:lastModifiedBy>
  <dcterms:modified xsi:type="dcterms:W3CDTF">2009-12-22T18:22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