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5.wmf" ContentType="image/x-wmf"/>
  <Override PartName="/ppt/media/image28.wmf" ContentType="image/x-wmf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731-B836-4E97-8A06-5B0A11F5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7F8-E58B-4897-A05B-01661377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005-9192-4395-911E-65E02F50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2FC-F9DE-4C88-8ABF-37543DE5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6873-9D8E-4746-8278-A0BB0FCC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4F70-6D92-4A7E-A070-EE4ABE28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F177-54AB-42F1-B239-DBAC164B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B8BB-AAC2-48BE-8D3D-61CC23D8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8E6D-0AAA-48A5-B49E-F8319275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B7DF-D8A0-490F-BE13-37DFE728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AE86-D4CE-4768-A9E7-58B1C225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5BC-189E-4C56-8A76-8D81ECCA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F618-7817-4AF7-86A9-266890C6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C816-9944-44B1-87B1-E56DA75A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09B4-9127-4135-9D02-C945367D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FA78-1DA4-47E4-B471-0CFCCE94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0636-F82F-4A7A-9641-B09567B3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B64-2E4B-477B-8983-CEAB0F24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A38-1354-4AB1-AD90-A280124C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734-6856-4C58-B687-98C96171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BC9-08B3-4BBF-B3A4-480F737E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63D-BC82-4C0B-8386-DF490941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116-AEE1-40DB-8C03-ABB50BD7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5AD-73A9-47F0-B3FD-79155239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24F1-8929-4D9C-A1F9-CCD51F15D8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8EF8-4B3D-4580-B90C-3CF17B49816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4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Школа здоровья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52320" y="69840"/>
            <a:ext cx="788688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Основные 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группы витаминов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водорастворимые(С, В!,В2,В3) и жирорастворимые (А,Д,Е)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P1020154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MCj04368940000[1]"/>
          <p:cNvPicPr/>
          <p:nvPr/>
        </p:nvPicPr>
        <p:blipFill>
          <a:blip r:embed="rId1"/>
          <a:stretch/>
        </p:blipFill>
        <p:spPr>
          <a:xfrm>
            <a:off x="1752480" y="685800"/>
            <a:ext cx="4267440" cy="426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MCj04368970000[1]"/>
          <p:cNvPicPr/>
          <p:nvPr/>
        </p:nvPicPr>
        <p:blipFill>
          <a:blip r:embed="rId2"/>
          <a:stretch/>
        </p:blipFill>
        <p:spPr>
          <a:xfrm>
            <a:off x="3733920" y="16765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MCj04368950000[1]"/>
          <p:cNvPicPr/>
          <p:nvPr/>
        </p:nvPicPr>
        <p:blipFill>
          <a:blip r:embed="rId3"/>
          <a:stretch/>
        </p:blipFill>
        <p:spPr>
          <a:xfrm rot="18629400">
            <a:off x="838080" y="2361960"/>
            <a:ext cx="39844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MCj04368980000[1]"/>
          <p:cNvPicPr/>
          <p:nvPr/>
        </p:nvPicPr>
        <p:blipFill>
          <a:blip r:embed="rId1"/>
          <a:stretch/>
        </p:blipFill>
        <p:spPr>
          <a:xfrm>
            <a:off x="3733920" y="609480"/>
            <a:ext cx="3390840" cy="3391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MCj04368960000[1]"/>
          <p:cNvPicPr/>
          <p:nvPr/>
        </p:nvPicPr>
        <p:blipFill>
          <a:blip r:embed="rId2"/>
          <a:stretch/>
        </p:blipFill>
        <p:spPr>
          <a:xfrm>
            <a:off x="990720" y="1066680"/>
            <a:ext cx="5181480" cy="5181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MCj04368910000[1]"/>
          <p:cNvPicPr/>
          <p:nvPr/>
        </p:nvPicPr>
        <p:blipFill>
          <a:blip r:embed="rId3"/>
          <a:stretch/>
        </p:blipFill>
        <p:spPr>
          <a:xfrm>
            <a:off x="4952880" y="29718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MCj04368990000[1]"/>
          <p:cNvPicPr/>
          <p:nvPr/>
        </p:nvPicPr>
        <p:blipFill>
          <a:blip r:embed="rId1"/>
          <a:stretch/>
        </p:blipFill>
        <p:spPr>
          <a:xfrm>
            <a:off x="4191120" y="27432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MCj04369020000[1]"/>
          <p:cNvPicPr/>
          <p:nvPr/>
        </p:nvPicPr>
        <p:blipFill>
          <a:blip r:embed="rId2"/>
          <a:stretch/>
        </p:blipFill>
        <p:spPr>
          <a:xfrm>
            <a:off x="685800" y="22096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MCj04369010000[1]"/>
          <p:cNvPicPr/>
          <p:nvPr/>
        </p:nvPicPr>
        <p:blipFill>
          <a:blip r:embed="rId3"/>
          <a:stretch/>
        </p:blipFill>
        <p:spPr>
          <a:xfrm>
            <a:off x="1981080" y="609480"/>
            <a:ext cx="3905280" cy="390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Cj04369000000[1]"/>
          <p:cNvPicPr/>
          <p:nvPr/>
        </p:nvPicPr>
        <p:blipFill>
          <a:blip r:embed="rId4"/>
          <a:stretch/>
        </p:blipFill>
        <p:spPr>
          <a:xfrm rot="18801000">
            <a:off x="5059080" y="910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MCj04369030000[1]"/>
          <p:cNvPicPr/>
          <p:nvPr/>
        </p:nvPicPr>
        <p:blipFill>
          <a:blip r:embed="rId1"/>
          <a:stretch/>
        </p:blipFill>
        <p:spPr>
          <a:xfrm>
            <a:off x="1600200" y="53352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MCj04369060000[1]"/>
          <p:cNvPicPr/>
          <p:nvPr/>
        </p:nvPicPr>
        <p:blipFill>
          <a:blip r:embed="rId2"/>
          <a:stretch/>
        </p:blipFill>
        <p:spPr>
          <a:xfrm>
            <a:off x="3429000" y="16765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MCj04369050000[1]"/>
          <p:cNvPicPr/>
          <p:nvPr/>
        </p:nvPicPr>
        <p:blipFill>
          <a:blip r:embed="rId3"/>
          <a:stretch/>
        </p:blipFill>
        <p:spPr>
          <a:xfrm>
            <a:off x="4038480" y="3352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Cj04369140000[1]"/>
          <p:cNvPicPr/>
          <p:nvPr/>
        </p:nvPicPr>
        <p:blipFill>
          <a:blip r:embed="rId4"/>
          <a:stretch/>
        </p:blipFill>
        <p:spPr>
          <a:xfrm>
            <a:off x="1523880" y="2971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Cj04369090000[1]"/>
          <p:cNvPicPr/>
          <p:nvPr/>
        </p:nvPicPr>
        <p:blipFill>
          <a:blip r:embed="rId5"/>
          <a:stretch/>
        </p:blipFill>
        <p:spPr>
          <a:xfrm rot="1073400">
            <a:off x="5029200" y="5335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MCj04363350000[1]"/>
          <p:cNvPicPr/>
          <p:nvPr/>
        </p:nvPicPr>
        <p:blipFill>
          <a:blip r:embed="rId1"/>
          <a:stretch/>
        </p:blipFill>
        <p:spPr>
          <a:xfrm>
            <a:off x="1676520" y="144792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MCj04363570000[1]"/>
          <p:cNvPicPr/>
          <p:nvPr/>
        </p:nvPicPr>
        <p:blipFill>
          <a:blip r:embed="rId2"/>
          <a:stretch/>
        </p:blipFill>
        <p:spPr>
          <a:xfrm rot="19638600">
            <a:off x="5257800" y="25909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696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1. При простуде надо пить чай с малиной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2. От насморка полезен свекольный сок 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3. При кашле пьют настой редьки на меду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4. От головной боли поможет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збавиться капустный лист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4" descr="MCj04041710000[1]"/>
          <p:cNvPicPr/>
          <p:nvPr/>
        </p:nvPicPr>
        <p:blipFill>
          <a:blip r:embed="rId1"/>
          <a:stretch/>
        </p:blipFill>
        <p:spPr>
          <a:xfrm>
            <a:off x="228600" y="2666880"/>
            <a:ext cx="3624120" cy="3962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905120" y="3808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СОВЕТЫ ДОКТОРА АЙБОЛИ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УСПЕВАЙК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Picture 4" descr="j0234131"/>
          <p:cNvPicPr/>
          <p:nvPr/>
        </p:nvPicPr>
        <p:blipFill>
          <a:blip r:embed="rId1"/>
          <a:stretch/>
        </p:blipFill>
        <p:spPr>
          <a:xfrm>
            <a:off x="1143000" y="2362320"/>
            <a:ext cx="3440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РЕЖИМ ДН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стань в 7 утра. Сходи в туалет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бери постель. Сделай зарядку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мойся. Почисти зуб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день форму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завтрака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рога в школу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анятия в школе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рнувшись со школы  аккуратно повесь одежду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день домашнюю одежду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мой руки и пообедай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тдохни. Поиграй с друзьями во дворе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дкрепись полдником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готовь уроки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гуля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ужинай. Помоги по хозяйству. Почитай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верь сумку всё ли сложено в школу. Постели постель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желай всем «Спокойной ночи». И ложись спать 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В ЗДОРОВОМ ТЕЛЕ – ЗДОРОВЫЙ ДУХ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ажно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Выделите признаки здоровья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бодрос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ил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рус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хорошая памя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умянец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бледнос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едлительнос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сеяннос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лабос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Спортом необходимо заниматься, чтобы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тать сильнее все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ти сильным и здоровы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чтобы все тебя боялис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анять свободное врем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АНАТОМИЯ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4" descr="MCHM00351_0000[1]"/>
          <p:cNvPicPr/>
          <p:nvPr/>
        </p:nvPicPr>
        <p:blipFill>
          <a:blip r:embed="rId1"/>
          <a:stretch/>
        </p:blipFill>
        <p:spPr>
          <a:xfrm>
            <a:off x="4419720" y="2133720"/>
            <a:ext cx="339228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CHM00299_0000[1]"/>
          <p:cNvPicPr/>
          <p:nvPr/>
        </p:nvPicPr>
        <p:blipFill>
          <a:blip r:embed="rId2"/>
          <a:stretch/>
        </p:blipFill>
        <p:spPr>
          <a:xfrm>
            <a:off x="914400" y="2133720"/>
            <a:ext cx="25970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277920"/>
          <a:ext cx="8229600" cy="5852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Будь здоров!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ГИГИЕНА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4" descr="MCj04339080000[1]"/>
          <p:cNvPicPr/>
          <p:nvPr/>
        </p:nvPicPr>
        <p:blipFill>
          <a:blip r:embed="rId1"/>
          <a:stretch/>
        </p:blipFill>
        <p:spPr>
          <a:xfrm>
            <a:off x="3505320" y="3200400"/>
            <a:ext cx="3219480" cy="321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Cj04240180000[1]"/>
          <p:cNvPicPr/>
          <p:nvPr/>
        </p:nvPicPr>
        <p:blipFill>
          <a:blip r:embed="rId2"/>
          <a:stretch/>
        </p:blipFill>
        <p:spPr>
          <a:xfrm>
            <a:off x="533520" y="1219320"/>
            <a:ext cx="2806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ФИЗИЧЕСКАЯ  КУЛЬТУ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4" descr="MCj04341870000[1]"/>
          <p:cNvPicPr/>
          <p:nvPr/>
        </p:nvPicPr>
        <p:blipFill>
          <a:blip r:embed="rId1"/>
          <a:stretch/>
        </p:blipFill>
        <p:spPr>
          <a:xfrm>
            <a:off x="380880" y="1600200"/>
            <a:ext cx="3314880" cy="4038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Cj04354640000[1]"/>
          <p:cNvPicPr/>
          <p:nvPr/>
        </p:nvPicPr>
        <p:blipFill>
          <a:blip r:embed="rId2"/>
          <a:stretch/>
        </p:blipFill>
        <p:spPr>
          <a:xfrm>
            <a:off x="5867280" y="1676520"/>
            <a:ext cx="2700360" cy="426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Cj04360170000[1]"/>
          <p:cNvPicPr/>
          <p:nvPr/>
        </p:nvPicPr>
        <p:blipFill>
          <a:blip r:embed="rId3"/>
          <a:stretch/>
        </p:blipFill>
        <p:spPr>
          <a:xfrm>
            <a:off x="3581280" y="3429000"/>
            <a:ext cx="21430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ЗАКАЛИВАНИЕ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6" descr="MCj03551330000[1]"/>
          <p:cNvPicPr/>
          <p:nvPr/>
        </p:nvPicPr>
        <p:blipFill>
          <a:blip r:embed="rId1"/>
          <a:stretch/>
        </p:blipFill>
        <p:spPr>
          <a:xfrm>
            <a:off x="685800" y="1981080"/>
            <a:ext cx="4108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ВИТАМИ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 rot="20914200">
            <a:off x="1023480" y="2585880"/>
            <a:ext cx="2629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7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7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5"/>
          <p:cNvSpPr txBox="1"/>
          <p:nvPr/>
        </p:nvSpPr>
        <p:spPr>
          <a:xfrm rot="813000">
            <a:off x="3580920" y="2209320"/>
            <a:ext cx="2324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eec85e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eec85e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6"/>
          <p:cNvSpPr txBox="1"/>
          <p:nvPr/>
        </p:nvSpPr>
        <p:spPr>
          <a:xfrm rot="20914200">
            <a:off x="5410080" y="3504960"/>
            <a:ext cx="2603520" cy="22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cc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38160">
                <a:solidFill>
                  <a:srgbClr val="ffffcc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4:33:53Z</dcterms:created>
  <dc:creator>ученик</dc:creator>
  <dc:description/>
  <dc:language>en-US</dc:language>
  <cp:lastModifiedBy>User</cp:lastModifiedBy>
  <dcterms:modified xsi:type="dcterms:W3CDTF">2009-12-22T18:22:5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