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31.gif" ContentType="image/gif"/>
  <Override PartName="/ppt/media/image19.gif" ContentType="image/gif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27.gif" ContentType="image/gif"/>
  <Override PartName="/ppt/media/image1.jpeg" ContentType="image/jpeg"/>
  <Override PartName="/ppt/media/image47.png" ContentType="image/png"/>
  <Override PartName="/ppt/media/image5.png" ContentType="image/png"/>
  <Override PartName="/ppt/media/image35.png" ContentType="image/png"/>
  <Override PartName="/ppt/media/image42.gif" ContentType="image/gif"/>
  <Override PartName="/ppt/media/image2.gif" ContentType="image/gif"/>
  <Override PartName="/ppt/media/image26.gif" ContentType="image/gif"/>
  <Override PartName="/ppt/media/image28.gif" ContentType="image/gif"/>
  <Override PartName="/ppt/media/image33.png" ContentType="image/png"/>
  <Override PartName="/ppt/media/image40.gif" ContentType="image/gif"/>
  <Override PartName="/ppt/media/image34.png" ContentType="image/png"/>
  <Override PartName="/ppt/media/image44.jpeg" ContentType="image/jpeg"/>
  <Override PartName="/ppt/media/image50.gif" ContentType="image/gif"/>
  <Override PartName="/ppt/media/image13.gif" ContentType="image/gif"/>
  <Override PartName="/ppt/media/image36.gif" ContentType="image/gif"/>
  <Override PartName="/ppt/media/image41.png" ContentType="image/png"/>
  <Override PartName="/ppt/media/image39.png" ContentType="image/png"/>
  <Override PartName="/ppt/media/image46.gif" ContentType="image/gif"/>
  <Override PartName="/ppt/media/image48.gif" ContentType="image/gif"/>
  <Override PartName="/ppt/media/image11.gif" ContentType="image/gif"/>
  <Override PartName="/ppt/media/image37.png" ContentType="image/png"/>
  <Override PartName="/ppt/media/image9.gif" ContentType="image/gif"/>
  <Override PartName="/ppt/media/image45.jpeg" ContentType="image/jpeg"/>
  <Override PartName="/ppt/media/image51.gif" ContentType="image/gif"/>
  <Override PartName="/ppt/media/image10.gif" ContentType="image/gif"/>
  <Override PartName="/ppt/media/image8.png" ContentType="image/png"/>
  <Override PartName="/ppt/media/image38.png" ContentType="image/png"/>
  <Override PartName="/ppt/media/image49.gif" ContentType="image/gif"/>
  <Override PartName="/ppt/media/image12.gif" ContentType="image/gif"/>
  <Override PartName="/ppt/media/image7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2.png" ContentType="image/png"/>
  <Override PartName="/ppt/media/image3.gif" ContentType="image/gif"/>
  <Override PartName="/ppt/media/image6.png" ContentType="image/png"/>
  <Override PartName="/ppt/media/image4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E4F-FAF7-41E6-A762-9744BFAC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7D3-4D16-4FB2-A5C1-9A74DB29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D10-C42F-4629-92F8-ADFA4928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89E-B141-4B96-95EF-4299A927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AF3A-4A56-412D-8D12-ABDEFA28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4BA-9406-40B2-B6A6-4F0AF2BA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90C5-9783-4EBF-A0E8-9097EBD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269-722D-4E56-8363-B4B3F93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6F4-9D0A-4610-9CA5-15AAE37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462C-60D0-477B-9F39-26670AF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6F1-B068-4BBE-877E-06B43AE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DFE-2328-4B07-B7BE-810A442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698F-B169-403E-9A18-50CEB5C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ABF-353C-40CC-8E84-75E9191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00E7-485B-48C6-8FDF-324965B2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878-6742-4AA9-B627-BACF8B36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EDB5-2AF1-4B5E-9E86-95242D87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E26-6DE3-4901-807F-9353023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961-311C-4B2A-AC45-FE80FDA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BFB-A3E4-40A9-B337-A5B25800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8BC-7814-4D0D-8FF0-FD786F7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B86-71C6-4EB9-8A3D-2636400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C87-2084-44BC-B9F6-2A19A7A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B7F-31AD-4E0C-8FBA-2F38DF3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46F-8B55-4542-8C8A-132F8883D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D31-009C-4F34-8511-66F16DD86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34.png"/><Relationship Id="rId15" Type="http://schemas.openxmlformats.org/officeDocument/2006/relationships/image" Target="../media/image24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34.png"/><Relationship Id="rId15" Type="http://schemas.openxmlformats.org/officeDocument/2006/relationships/image" Target="../media/image24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34.png"/><Relationship Id="rId15" Type="http://schemas.openxmlformats.org/officeDocument/2006/relationships/image" Target="../media/image24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35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22.gif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6.png"/><Relationship Id="rId8" Type="http://schemas.openxmlformats.org/officeDocument/2006/relationships/image" Target="../media/image40.gif"/><Relationship Id="rId9" Type="http://schemas.openxmlformats.org/officeDocument/2006/relationships/image" Target="../media/image5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Help yourself!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291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42670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647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3701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660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141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4562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7782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905360" cy="327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306864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862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01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303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95640" y="914400"/>
            <a:ext cx="3987720" cy="556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 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3483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1722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5715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do you like for breakfas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453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54104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11800" y="1981080"/>
            <a:ext cx="2046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543800" y="5373720"/>
            <a:ext cx="14479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457200"/>
          <a:ext cx="6096240" cy="6019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609480"/>
            <a:ext cx="2209680" cy="577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ce c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ndw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w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59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80880" y="457200"/>
          <a:ext cx="6096240" cy="6019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4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0800000">
            <a:off x="3885840" y="1066320"/>
            <a:ext cx="1066680" cy="381240"/>
          </a:xfrm>
          <a:prstGeom prst="leftArrow">
            <a:avLst>
              <a:gd name="adj1" fmla="val 50000"/>
              <a:gd name="adj2" fmla="val 69948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609480"/>
            <a:ext cx="2209680" cy="577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ndwi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ee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ce c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80880" y="457200"/>
          <a:ext cx="6096240" cy="6019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0512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371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590920"/>
            <a:ext cx="167652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6095880"/>
            <a:ext cx="129528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2514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733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457200"/>
          <a:ext cx="6096240" cy="6019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52880" y="1828800"/>
            <a:ext cx="919440" cy="10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83808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2743200" y="4114800"/>
            <a:ext cx="1352520" cy="1198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5029200" y="533412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5181480" y="4114800"/>
            <a:ext cx="714600" cy="116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3"/>
          <a:stretch/>
        </p:blipFill>
        <p:spPr>
          <a:xfrm>
            <a:off x="99072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5"/>
          <a:stretch/>
        </p:blipFill>
        <p:spPr>
          <a:xfrm>
            <a:off x="762120" y="5410080"/>
            <a:ext cx="1342800" cy="10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0800000">
            <a:off x="373356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371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5943600"/>
            <a:ext cx="167652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733560" y="5029200"/>
            <a:ext cx="106668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5105520"/>
            <a:ext cx="0" cy="91440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90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38862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6"/>
          <a:stretch/>
        </p:blipFill>
        <p:spPr>
          <a:xfrm>
            <a:off x="2743200" y="2895480"/>
            <a:ext cx="12384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" y="3706920"/>
            <a:ext cx="4876920" cy="2911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477120" y="3352680"/>
            <a:ext cx="1584360" cy="221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572000" y="228600"/>
            <a:ext cx="2362320" cy="2109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rcRect l="33335" t="19877" r="0" b="0"/>
          <a:stretch/>
        </p:blipFill>
        <p:spPr>
          <a:xfrm>
            <a:off x="7315200" y="5257800"/>
            <a:ext cx="1600200" cy="1276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7124760" y="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0" y="152280"/>
            <a:ext cx="3581280" cy="299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1543320" cy="1543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6477120" y="2133720"/>
            <a:ext cx="2209680" cy="1655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3505320" y="1371600"/>
            <a:ext cx="2060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80880" y="2523960"/>
            <a:ext cx="5257800" cy="3889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3808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does Billy lik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96040" y="1981080"/>
            <a:ext cx="1542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505320" cy="2922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676520" y="4514760"/>
            <a:ext cx="2795400" cy="209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867280" y="2819520"/>
            <a:ext cx="2622600" cy="3657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447920"/>
            <a:ext cx="3657600" cy="2895480"/>
          </a:xfrm>
          <a:prstGeom prst="flowChartSummingJunction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does Billy lik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4091040" cy="3066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181480" y="1143000"/>
            <a:ext cx="3168720" cy="441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990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illy likes a sandwich and some te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243828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a recipe 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[ʹresıpı] -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3809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рецеп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rcRect l="0" t="0" r="24658" b="0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3520" y="68580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41f8d"/>
                </a:solidFill>
                <a:latin typeface="Comic Sans MS"/>
              </a:rPr>
              <a:t>bre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hat does Billy nee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or the sandwich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1194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24072" r="0" b="21255"/>
          <a:stretch/>
        </p:blipFill>
        <p:spPr>
          <a:xfrm>
            <a:off x="228600" y="1676520"/>
            <a:ext cx="464832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1890" t="0" r="0" b="5360"/>
          <a:stretch/>
        </p:blipFill>
        <p:spPr>
          <a:xfrm>
            <a:off x="5181480" y="25146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56386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[p]  [p]  [p]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335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[s]  [s]  [s]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I think we need some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22798" t="7731" r="22798" b="0"/>
          <a:stretch/>
        </p:blipFill>
        <p:spPr>
          <a:xfrm>
            <a:off x="6019920" y="4049640"/>
            <a:ext cx="3124080" cy="2808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280" y="25146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for this sandwich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4203720" cy="5105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14400" y="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et’s have a break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495600" cy="365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095880" y="3808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ialo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4038480"/>
            <a:ext cx="6933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ould you like some…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es, please./ No, thank yo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 yoursel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8380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2743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PT ex.3 p.1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1480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Goodbye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0384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es, I 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038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No, I don’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76160" y="1981080"/>
            <a:ext cx="2361960" cy="198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981080"/>
            <a:ext cx="2362320" cy="20574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26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4952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133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986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ся</cp:lastModifiedBy>
  <dcterms:modified xsi:type="dcterms:W3CDTF">2009-10-04T11:10:1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