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FC6-9063-40F4-9675-11317414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391-E53F-4136-8345-23C5217B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5F9-43B4-4E6E-AAE0-597D5CC9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767-4D86-487F-8553-19084D0F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9F2-9399-4726-BD0D-2C42D5BD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D50-CFAC-41B7-AD44-A581E163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430-C6C8-4159-9B13-29F233E8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D54-44F6-410F-AEC2-828BB4BD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101-FF12-49D1-9555-31B96D7B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BAE-3CBF-4719-B8CD-DCDB45B4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42C-DA2B-44C3-AA21-59DFFB87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E49-5E4E-43E8-A88D-1AB1523F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A2B-2509-4CE5-B18A-8EC5BADC5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308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лавная лестница монументального ансамбля, с рельефами на темы героизма советских воин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олг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-892080"/>
            <a:ext cx="5718240" cy="820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6160" y="260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умент Родина-М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49280" y="4237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одной 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66600" y="0"/>
            <a:ext cx="9391680" cy="7101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80320" y="2602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ропавловская креп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18000" y="423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рми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050000" y="136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рми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09800" y="33336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атр оперы и ба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96720" y="260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аматически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5640" y="40464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на город с Вол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5240" y="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нкер Сталина г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p:transition advTm="8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29200" y="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МАМАЕВ КУРГ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«главная высота России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00408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2560" y="2286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умент «Стоять на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2286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ное изображение Женщины-матери, склоняющейся над погибшим во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38160" y="4046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ая 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57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5148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1240" y="3333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ая 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3440" y="26028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ны и башни Москов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52610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30520" y="404640"/>
            <a:ext cx="244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вещ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ов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60200" y="651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овский 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11-04T10:27:3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