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D6BC-E5C2-4E0F-9F19-A915CE2AAB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0359-5764-4BED-9072-7470B6861D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4A4E-9D89-403A-B69E-50B47D304CF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441A-FF67-4EE3-8B54-1469DDFBBB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40D9-5224-4300-B611-F1B0F02B2A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BC4-421D-4F96-8A83-2E0ACBD5C7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1F69-61D8-4B7A-BC96-594709E1F5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755-568C-4340-8B94-B2F40B61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13F-F699-4F31-9FE6-72DB31B6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A90-C940-45CE-A398-52FF0F82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10F-E0B4-4AF7-9392-E45FB8E4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A48F-6CDB-4501-B6E6-A302BD50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1A6B-1175-402E-BC95-BAD21411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9EC8-A963-47FA-90AD-29DFB4B6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F148-E731-463B-9147-865C9C75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CFE4-80BF-4258-8B54-B3CF3ECD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2562-A66E-4F45-8794-5904B558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C45B-6254-4890-9397-4AE9FEB3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709-970E-4BD9-8ED6-DD238DF5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917F-E4A2-4479-9E85-EFABCB7E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A335-2C97-4A65-9520-5C55FC8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7868-EC7C-4813-8857-F30A9D6C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21FD-7067-4235-A555-894BDCAC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374-C285-45B4-A067-7840FA93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8E6-4FF4-4DB9-95B7-3E03047E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F8A-07A5-4B55-B9D7-3AE0EC2C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B84-E9AD-40C6-ACCA-86DB6A41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E16-E2E0-41F7-9103-D9911A7C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7F3-5B3B-48AF-A94C-7721398F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D8E-E512-4D9F-B43F-B47F5317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F7E-5B43-4251-B477-6CBAB35C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CF96-7FFA-4B0E-8D01-938B3B79B2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62FA-497C-4570-90F0-EA03A8D6AF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14200" y="1142640"/>
            <a:ext cx="8421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Классный час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«Толерантность – это дружба!»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500040" y="785880"/>
            <a:ext cx="82821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нглийском – готовность быть терпим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французском – отношение, когда человек думает и действует иначе, чем ты са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китайском – быть по отношению к другим великолепн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рабском – милосердие, терпение, сострадани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русском – умение принять другого таким, какой он е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Заголовок 6"/>
          <p:cNvSpPr/>
          <p:nvPr/>
        </p:nvSpPr>
        <p:spPr>
          <a:xfrm>
            <a:off x="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imes New Roman"/>
              </a:rPr>
              <a:t>Слово «толерантность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Что же такое толерантность?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79280" y="7138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милосерд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сострада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уваже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оброта душ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ружб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Крошка Енот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0229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J:\классный час\wwwonlinerws15bl3.jpeg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Дарите друг </a:t>
            </a:r>
            <a:br>
              <a:rPr sz="9600"/>
            </a:br>
            <a:br>
              <a:rPr sz="9600"/>
            </a:b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другу сердца и </a:t>
            </a:r>
            <a:br>
              <a:rPr sz="9600"/>
            </a:br>
            <a:br>
              <a:rPr sz="9600"/>
            </a:b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улыбки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J:\классный час\5742c64de29c0fa8960ed1a63542e99f_3.gif"/>
          <p:cNvPicPr/>
          <p:nvPr/>
        </p:nvPicPr>
        <p:blipFill>
          <a:blip r:embed="rId2"/>
          <a:stretch/>
        </p:blipFill>
        <p:spPr>
          <a:xfrm>
            <a:off x="7015320" y="4357800"/>
            <a:ext cx="212868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:\классный час\5742c64de29c0fa8960ed1a63542e99f_3.gif"/>
          <p:cNvPicPr/>
          <p:nvPr/>
        </p:nvPicPr>
        <p:blipFill>
          <a:blip r:embed="rId3"/>
          <a:stretch/>
        </p:blipFill>
        <p:spPr>
          <a:xfrm>
            <a:off x="0" y="857160"/>
            <a:ext cx="2128680" cy="214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2:47Z</dcterms:created>
  <dc:creator>Admin</dc:creator>
  <dc:description/>
  <dc:language>en-US</dc:language>
  <cp:lastModifiedBy>Admin</cp:lastModifiedBy>
  <dcterms:modified xsi:type="dcterms:W3CDTF">2009-11-20T18:13:51Z</dcterms:modified>
  <cp:revision>25</cp:revision>
  <dc:subject/>
  <dc:title>Слайд 1</dc:title>
</cp:coreProperties>
</file>