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3DC-A011-43D0-901B-A245D5BE3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08C-4E3E-41C4-9D53-F53379B434EF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074-214D-4536-A119-1FC1D32A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464-5F3A-406A-A32B-E410038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805D-4AE4-4C84-889F-CCD88C90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88D16-CEEE-40F1-8083-E2D38C01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85C79-0D2A-45FD-8D4E-6F1A217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50C7C-B0E3-4854-BAB0-FE545CF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43FB0-2B21-4556-9619-799DABA4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986A6-3C76-472E-91F2-14F99DF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1940F-B988-41BD-8048-1FD7BB9C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AFC5F-D8B4-43E0-B66F-3918239B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78D84-3A6E-4ACC-8D71-24EA7340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7C5DD-D6C8-466A-9456-5AB2D8B3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0D6-B14B-429A-9219-BA9DA573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41171-D837-4C87-AE31-C13D153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18F47-31F0-422A-962C-A6622F8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DEE5-275D-4A25-9951-DB17BDBD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6BCF0-93A6-4DCB-8B16-A3AACF9B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344B9-70F0-460A-9E44-E1983650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551E6-6DA9-404F-BED2-0627F6B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3C312-A315-4FCB-B4F9-6A5210E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5BDE4-8BE3-435E-9816-D4BA6AC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2EAB3-F402-429C-B5B6-FE33585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33AF5-EBC6-4201-9A12-F6F56578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C40-C8BF-4B57-B473-B08A867C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26AEB-8366-4798-8452-BF885B48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0EE762-C318-4A9D-8B20-300747CE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9258FF-7894-43F2-8C6E-25955D6C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5BA6C2-83BB-409A-9271-1114CFCC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BB01C4-FC15-4DC1-BE66-FFEAB1CF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7B356B-8658-4D9C-94DF-7341BF00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AAA805-8053-4839-97D7-CF88F1A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91A017-0E4E-430C-9D77-66DBA512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54C812-8274-4DBB-A92D-17ECBE1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B7ED2F-9645-4547-B05C-A139562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794D-7643-4E31-A479-0C20E361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2DF06F-3B21-4FA8-A778-AD425D9D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A8D806-77D6-45A6-BFD7-90AA8A39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FCA560-3B2E-49D7-9130-5E2601BE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1FA15-582E-4D96-AE31-D04768B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2A259-FE7A-4625-8FE4-C1CC273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4C26E-FC6B-4593-9504-700A4B85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9D08D-3BCD-4481-A4B9-F288EAB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E58B3-22E2-4B95-A644-DF8C0D2F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13D9C-A4B4-4EE7-B4EB-D280D076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B7E18-A08A-4196-A487-4738136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F434-688B-4C2E-8204-1F3C8B9D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DA029-E807-4CB9-ADF5-AFF50EC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DD085-6AD8-4A16-99C7-B62B187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3D475-9449-4846-9702-7553798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FBA53-B4CD-4F36-A017-7C8039C0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20591-9866-45E9-AA4C-3B3F6930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AFAE5-800C-4EE5-A47B-752D41A4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8A89B-C125-4060-BBC7-4DB00DE6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B998E-12AF-4CA3-8934-E2ACB8D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24DE0-1CDB-4DC0-AB4B-60B9481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91FC3-2E56-490E-B46E-FB1F011D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B867-E67F-4DB5-BFAB-9430E76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C13FB-BCAD-4972-AD45-24D9E59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4B8C1-5DCF-4350-B5ED-40BBB62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870E0-D2D9-4927-86F4-9DACC62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9F32C-A2D4-4A08-976C-7B7D381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CB273-17E7-43A0-A4BE-FCB75B4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C7536-CFE9-42B9-89C0-C11BAEB0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62FA4-7067-49A6-9C25-C930A6C7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90BEB-6520-434A-8E89-87AE55F0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843D5-F83E-4B71-8D21-9E5C92E2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6F179-263D-47EA-B1A3-BDDB2C6B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331F-8F13-4E62-9C29-3207E29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B6112-B70C-449F-8CB9-2CB4AA1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FC35D-6396-40E8-8C74-AEAF7893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FCD9A-09CD-473C-8E97-2E6D93E2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9F951-FFB8-4510-ADD6-728059D8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CB377-C74A-4895-B494-9949545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463DE-F646-435E-8654-E198659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3F6EC-9E1A-4357-AEEC-1CDF9D3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F1EED-CAB6-4A34-8A6B-2F7B4BD6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3B9A0-AAB9-42FA-ACDE-3E92833C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DD07C-E286-438F-ABA4-FEF9D73A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A0F-7D13-4E54-9196-DDE0FC1E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7DC43-1555-4E63-8F36-E2B7BFC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114D3-AF3E-426F-AA5E-E627339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E086E-672D-4AC0-B919-28495D2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9F47E-62D7-4931-BC35-FF288629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2C51C-F2F3-4C55-A046-6220B02F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A8635-BDF2-4A9E-92F5-347FA68B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6CBBB-9BBC-4CD1-8C6D-5B24744F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CE6B0-228C-4913-9A9B-4970978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4215C-5D48-4664-87AD-D2093F8D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51821-23F7-4578-B6A7-3CAA5EFD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366E-A3C4-4E17-84BC-63BB9C0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16D81-4620-41FE-AD08-687BE039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54A5-15E7-4E2C-82B3-B0B5EFC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A66-AE02-407B-9BDF-B7764A1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7D7E-7423-4876-8090-459F3C1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AC84-A661-4796-8D7F-08031FC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68DD-2074-411E-8619-0D58AF1B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F1A-C2F7-44C8-AACA-A434F6FA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C0DC-677F-46AC-B31F-17EE87DE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22B8-C218-49FD-A79F-4A66F6F1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7ED5-A428-4CE2-A730-A5A00EF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5971-CDB0-40AA-94ED-9BFBD85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1D17-1FC3-45EB-8BC4-C0234AF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30FE-44BA-4668-9362-92A6A3E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98D-0BAE-4533-9A89-EDF8C3DB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BF4A-AFD7-4F4A-8455-492D376D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5ED8-456D-436A-88CE-5F129ECB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4942-780F-4B07-B2B1-07AC2B43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0AA1-1EE6-419D-BC19-67FD7042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886A-4D2A-4F80-B010-E291875A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96ED-9A3F-40B2-AA46-540D7694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972D-92A4-4649-B020-925B480C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4ED8-39A2-42FD-B491-3D0AFE26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BE87-E065-430C-ADCF-F9397B8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28EA-BED6-4E7F-A112-A384B76A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D4F-28E3-4B2C-8A13-672669B1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E626-3DB1-4559-A396-7C58238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B5F2-EE30-4D71-88F0-A8ACC579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5FC7-5C18-4A2E-A33A-9A15A552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9C8E-6F55-41E1-9086-D133DB0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9B63-CE55-42FB-990B-AB260AA5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4075-820D-444E-98F4-1585C585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76D3-4241-4405-84F6-6EB1A87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4FD5-E51B-4F2B-8A1F-74143CF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B9DC-C30A-4CC3-B36E-347AB415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9DA8-B83A-4298-B6D7-0360402E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11F-A71A-4485-8CD3-7896F3FB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2C82-96F7-4390-8718-C000E3E9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469F-BC91-47E8-B363-D0487C7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7C04-EDE0-4BA2-969D-8CE925D6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A17D-3EB7-4F4A-A636-291CBD0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EE207-87BA-43D8-B27D-D322AF8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A5210-923A-491A-AEE1-F8686E2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D26F-7670-4076-985C-6CE142D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1A5B-A0B7-4659-A3DA-615DEEB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5A31-36EA-4117-AC77-8BA125D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AA8D-AC46-46BA-A77F-00D497C9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4E8-FE16-4030-A3BA-215A755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DD6ED-4F70-4C42-9015-1975D2A9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7524-762E-4E5D-87F8-69D9D804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3001-FDF2-40E8-8EAE-7E2C3A42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8ED3-3745-42B1-9133-F55EF0D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72F4-8C25-4259-898D-603CD869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2E65-299C-4091-BBCF-E309235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5D8A-6CAA-4A0D-83AA-F8C057A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5A84-13F0-4C97-B8AA-7902F72B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84D5-EC1D-4A0F-878B-1FD49FC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BB57-77BD-4675-BBD5-7B1A18B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D68-21D2-421B-BE3E-7708B84A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57508-6CDD-405B-B952-43D2A506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BE1B-38E2-423C-B8A3-0E375845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CEAAC-AA86-4A36-927B-26F43C10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BAAF8-0AA4-4B3F-9EBD-D193338B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FE9FF-ACC7-4496-8EA2-ED8D4E23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04903-2B89-4C9B-98EA-D3031C29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F17185-C765-4405-8EFB-F34720C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E42F6-F724-4E49-8FE0-BEC35FC0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3913E-6BF7-4961-90B0-4C87285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26665-4B48-42AE-B9B9-D2512AE3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3C3-C82B-49FA-B3FC-0F6747E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6D498-1B90-406E-88B6-114CC98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975C9-29ED-4599-915F-695E3B26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BFD14-2DE5-48B9-917E-6985209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94797-ECBC-4F93-A7F3-7EEEA098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38496-8A5F-42C4-824B-ED4D0B1C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3D60A-8DB2-4D7A-BC8E-E4FAE4B7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DBC90-A510-4B92-94B7-3635FDF0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E563-65F3-4475-BF95-645781E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6DC3-13E6-4F98-BB3C-67B0004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F9034-118B-4E92-A004-CDD0BEC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AF4-F11E-4213-A191-F93B628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5089-BC2B-4264-86F9-7BB8F413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65AA-0D9C-47AC-9D26-08B8BDC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B753-7389-4AC3-9E7B-63727962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BE71E-129C-483F-834F-D6878F4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7A5C-047C-4091-B456-2FD4A2E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B8627-A797-4E17-BA6A-3F4EF91E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7EFB8-A821-4E09-BC5D-49B29860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AC9E2-72F1-4F03-9A2B-FB40FA77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8EE33-BAB2-406E-81E0-F3D5D52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13638-B7BB-43C8-A87E-BF16FE9D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BC61-407E-4146-9A36-9762269DE0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91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91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3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4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4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94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E94-EEB7-4F77-A51B-2FBB478DD5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85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86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987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98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89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99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9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996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98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99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00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01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02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03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214-F418-4799-A355-C456C33807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4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5EA-F5C1-49A1-A014-3AE8B2990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09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9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09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9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0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0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0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0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10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105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6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7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10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0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1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1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1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1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11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007-4B65-47AD-8BFC-E1548F992B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15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15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16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16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16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47C1-F751-4AC0-B53F-E3E3BC3608A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C60E-57A5-4679-904B-DEA3242AC40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9D30-8896-414F-95AF-5013FD816C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0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1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1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1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1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5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2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6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B1F4-7D04-40A3-8334-AA60F0BD3B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38DB-B3B9-42B0-80AC-1DC7BBC24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1DA9-BB93-46EC-B430-04B92C4D756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3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3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3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3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3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4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4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B0CC-E781-4F93-BD8F-32681B5799A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0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51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FEA2-6052-4AFC-9B26-640EBF36454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56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56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6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6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6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6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6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6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7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7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8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8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9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9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0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0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1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1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2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2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63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63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3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3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3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4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4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5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5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6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6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6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66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66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66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7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67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67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7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8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9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9911-C178-4F31-8152-B6EDC3C727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73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3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3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3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3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3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4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4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4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4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4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4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4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4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4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4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5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5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5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6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6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6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7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7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7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7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8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8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8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9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9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9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0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0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0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0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1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81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1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1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2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2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2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2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3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3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3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4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4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4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4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4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4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84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4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2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3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4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59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6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9321-1020-403D-A26A-CDBF46C408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29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Урок путешествие по теме: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«Таблица умножения на 6»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0" y="495288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СОШ №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Бугурусл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птухина Людмила Владими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амостоятельная рабо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р. 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5" name="AutoShape 4"/>
          <p:cNvSpPr/>
          <p:nvPr/>
        </p:nvSpPr>
        <p:spPr>
          <a:xfrm>
            <a:off x="2590920" y="1981080"/>
            <a:ext cx="761760" cy="2133720"/>
          </a:xfrm>
          <a:custGeom>
            <a:avLst/>
            <a:gdLst>
              <a:gd name="textAreaLeft" fmla="*/ 0 w 761760"/>
              <a:gd name="textAreaRight" fmla="*/ 275040 w 7617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.40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AutoShape 4"/>
          <p:cNvSpPr/>
          <p:nvPr/>
        </p:nvSpPr>
        <p:spPr>
          <a:xfrm>
            <a:off x="2971800" y="1676520"/>
            <a:ext cx="838080" cy="2209680"/>
          </a:xfrm>
          <a:custGeom>
            <a:avLst/>
            <a:gdLst>
              <a:gd name="textAreaLeft" fmla="*/ 0 w 838080"/>
              <a:gd name="textAreaRight" fmla="*/ 302760 w 8380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19" name="Picture 8" descr="Картинка 19 из 44"/>
          <p:cNvPicPr/>
          <p:nvPr/>
        </p:nvPicPr>
        <p:blipFill>
          <a:blip r:embed="rId1"/>
          <a:stretch/>
        </p:blipFill>
        <p:spPr>
          <a:xfrm>
            <a:off x="4724280" y="2971800"/>
            <a:ext cx="3105360" cy="310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утешествие в школу волшебства Хогвартс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ти волшебную циф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ить таблицу умножения на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ить таблицу деления на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работать карточки волшеб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3" name="Picture 9" descr="IMG"/>
          <p:cNvPicPr/>
          <p:nvPr/>
        </p:nvPicPr>
        <p:blipFill>
          <a:blip r:embed="rId1"/>
          <a:stretch/>
        </p:blipFill>
        <p:spPr>
          <a:xfrm>
            <a:off x="6629400" y="1523880"/>
            <a:ext cx="2133720" cy="4876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олшебна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пал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4"/>
          <p:cNvSpPr/>
          <p:nvPr/>
        </p:nvSpPr>
        <p:spPr>
          <a:xfrm>
            <a:off x="1066680" y="2743200"/>
            <a:ext cx="3962520" cy="20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Line 5"/>
          <p:cNvSpPr/>
          <p:nvPr/>
        </p:nvSpPr>
        <p:spPr>
          <a:xfrm>
            <a:off x="1066680" y="2743200"/>
            <a:ext cx="396252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Rectangle 6"/>
          <p:cNvSpPr/>
          <p:nvPr/>
        </p:nvSpPr>
        <p:spPr>
          <a:xfrm>
            <a:off x="5638680" y="2666880"/>
            <a:ext cx="2971800" cy="1828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Line 7"/>
          <p:cNvSpPr/>
          <p:nvPr/>
        </p:nvSpPr>
        <p:spPr>
          <a:xfrm>
            <a:off x="5638680" y="2666880"/>
            <a:ext cx="2971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0" name="Line 8"/>
          <p:cNvSpPr/>
          <p:nvPr/>
        </p:nvSpPr>
        <p:spPr>
          <a:xfrm flipH="1">
            <a:off x="5638320" y="2666880"/>
            <a:ext cx="2971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AutoShape 9"/>
          <p:cNvSpPr/>
          <p:nvPr/>
        </p:nvSpPr>
        <p:spPr>
          <a:xfrm>
            <a:off x="5638680" y="4495680"/>
            <a:ext cx="2971800" cy="137160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92" name="Picture 11" descr="Картинка 65 из 141"/>
          <p:cNvPicPr/>
          <p:nvPr/>
        </p:nvPicPr>
        <p:blipFill>
          <a:blip r:embed="rId1"/>
          <a:stretch/>
        </p:blipFill>
        <p:spPr>
          <a:xfrm>
            <a:off x="457200" y="4995720"/>
            <a:ext cx="2666880" cy="1662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чет цепоч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 =6                        9 ∙ 2 =18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 ∙ 4 =20                       4 ∙ 6 =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∙ 3 =18                       5 ∙ 5  =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∙ 7 =28                       8 ∙ 2 =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 ∙ 4 =32                       3 ∙ 7 =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∙ 9 =36                       2 ∙ 8 =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аблица умножения на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1 = 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2 = 1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3 = 18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4 = 2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5 = 3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6 = 3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7 = 4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8 = 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9 = 5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6 ∙ 10 = 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8" name="Picture 66" descr="Картинка 17 из 207"/>
          <p:cNvPicPr/>
          <p:nvPr/>
        </p:nvPicPr>
        <p:blipFill>
          <a:blip r:embed="rId1"/>
          <a:stretch/>
        </p:blipFill>
        <p:spPr>
          <a:xfrm>
            <a:off x="7467480" y="5486400"/>
            <a:ext cx="1457280" cy="119556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68" descr="Картинка 20 из 207"/>
          <p:cNvPicPr/>
          <p:nvPr/>
        </p:nvPicPr>
        <p:blipFill>
          <a:blip r:embed="rId2"/>
          <a:stretch/>
        </p:blipFill>
        <p:spPr>
          <a:xfrm>
            <a:off x="-304920" y="5715000"/>
            <a:ext cx="3048120" cy="1111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лшебные слов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6 х 4 = 24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6 х 6 = 36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6 х8 = 48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Таблица умножения и деления на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8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3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5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6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2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4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0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6 = 1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685800" y="1828800"/>
          <a:ext cx="3352680" cy="45720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1 = 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2 = 1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3 = 18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4 = 2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 = 3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6 = 3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7 = 4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8 = 4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9 = 5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54360" rIns="543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10 = 6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54360" marR="54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Box 3"/>
          <p:cNvSpPr/>
          <p:nvPr/>
        </p:nvSpPr>
        <p:spPr>
          <a:xfrm>
            <a:off x="380880" y="16765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Физкультминутка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06" name="Picture 2" descr="C:\Documents and Settings\Admin\Мои документы\Люда\презентации\Vinny[1].gif"/>
          <p:cNvPicPr/>
          <p:nvPr/>
        </p:nvPicPr>
        <p:blipFill>
          <a:blip r:embed="rId1"/>
          <a:stretch/>
        </p:blipFill>
        <p:spPr>
          <a:xfrm>
            <a:off x="2286000" y="2514600"/>
            <a:ext cx="3809880" cy="392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а № 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традь –           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ик - ?         на руб. дорож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58"/>
          <p:cNvSpPr/>
          <p:nvPr/>
        </p:nvSpPr>
        <p:spPr>
          <a:xfrm>
            <a:off x="2514600" y="1676520"/>
            <a:ext cx="6094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Rectangle 59"/>
          <p:cNvSpPr/>
          <p:nvPr/>
        </p:nvSpPr>
        <p:spPr>
          <a:xfrm>
            <a:off x="2743200" y="2895480"/>
            <a:ext cx="53352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AutoShape 62"/>
          <p:cNvSpPr/>
          <p:nvPr/>
        </p:nvSpPr>
        <p:spPr>
          <a:xfrm flipH="1">
            <a:off x="6019200" y="1676520"/>
            <a:ext cx="1066680" cy="16002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2" name="AutoShape 63"/>
          <p:cNvSpPr/>
          <p:nvPr/>
        </p:nvSpPr>
        <p:spPr>
          <a:xfrm>
            <a:off x="7238880" y="152388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1-08T11:49:5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