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gif" ContentType="image/gif"/>
  <Override PartName="/ppt/media/image13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11.gif" ContentType="image/gif"/>
  <Override PartName="/ppt/media/image6.gif" ContentType="image/gif"/>
  <Override PartName="/ppt/media/image10.gif" ContentType="image/gif"/>
  <Override PartName="/ppt/media/image5.gif" ContentType="image/gif"/>
  <Override PartName="/ppt/media/image4.gif" ContentType="image/gif"/>
  <Override PartName="/ppt/media/image3.png" ContentType="image/png"/>
  <Override PartName="/ppt/media/image23.gif" ContentType="image/gif"/>
  <Override PartName="/ppt/media/image24.gif" ContentType="image/gif"/>
  <Override PartName="/ppt/media/image22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1.png" ContentType="image/png"/>
  <Override PartName="/ppt/media/image21.gif" ContentType="image/gif"/>
  <Override PartName="/ppt/media/image19.gif" ContentType="image/gif"/>
  <Override PartName="/ppt/media/image25.gif" ContentType="image/gif"/>
  <Override PartName="/ppt/media/image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9FBE5-3FFE-4CAD-B37E-B7C3D93F74F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ЗЫ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3885-3BF7-4905-852A-FC0203EF5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B9BC-1FFD-4B7A-A947-5E2C9A48E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B25A-6F7F-4BCD-BC8A-35A8BAB87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0CA2-D27F-41C5-A9DA-EC3EED68E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D0D41-7FA6-4A5D-92AE-B7D85725E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B81A8-4D4F-480E-BCE5-1426877C8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B6D79-B8BD-4E04-B1D3-F3CDD891E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EAD54-22C9-46F1-8820-E816EF022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355CB-A0E4-49B6-9A88-35117A124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1101D-8C00-496D-ABB1-7B4E8D9F7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F74D6-5106-4AA7-8D23-7605EDA95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40A9-C3FD-4AA9-8140-308D7054E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CF636-81DD-47CB-B335-F8A88356C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A0DC8-FB65-47DB-8886-96C2398BD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39070-3C76-44C4-94EB-25AD5C39D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9C636-16D6-4CAE-A1E0-583E6199E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88FEA-E87C-49A2-9C8F-982FA3202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A3E7-F36E-4073-B623-9BF46B6A3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82A6-8876-4D82-A2A9-F4BBDCA2F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AEC0-F3A4-41B7-9777-BD4085B42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1468-8952-49EF-ADFF-13B41F7E7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58EA-BB6A-4C8F-BCFD-C0A7658B9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869A-6ABA-4632-8CC8-C1B46E160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0505-4603-481A-8525-06AC57E9F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E8087-187E-48D1-8736-E8A2A69558B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FCD30-54FB-4DED-ACA1-2F1706F7552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gif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image" Target="../media/image12.gif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ff66"/>
                </a:solidFill>
                <a:latin typeface="Garamond"/>
              </a:rPr>
              <a:t>К</a:t>
            </a:r>
            <a:r>
              <a:rPr b="1" lang="en-US" sz="6000" spc="-1" strike="noStrike">
                <a:solidFill>
                  <a:srgbClr val="ccff66"/>
                </a:solidFill>
                <a:latin typeface="Garamond"/>
              </a:rPr>
              <a:t>ТО</a:t>
            </a:r>
            <a:r>
              <a:rPr b="1" lang="en-US" sz="4800" spc="-1" strike="noStrike">
                <a:solidFill>
                  <a:srgbClr val="ccff66"/>
                </a:solidFill>
                <a:latin typeface="Garamond"/>
              </a:rPr>
              <a:t> </a:t>
            </a:r>
            <a:r>
              <a:rPr b="1" lang="en-US" sz="6000" spc="-1" strike="noStrike">
                <a:solidFill>
                  <a:srgbClr val="ccff66"/>
                </a:solidFill>
                <a:latin typeface="Garamond"/>
              </a:rPr>
              <a:t>ХОЧЕТ СТАТЬ МИЛЛИОНЕРОМ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763640" y="3645000"/>
            <a:ext cx="5761080" cy="2376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39528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22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221956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ПРАВИЛЬНЫЙ ОТВЕТ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6000" spc="-1" strike="noStrike">
                <a:solidFill>
                  <a:srgbClr val="0000ff"/>
                </a:solidFill>
                <a:latin typeface="Garamond"/>
              </a:rPr>
              <a:t>ДВЕ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Garamond"/>
              </a:rPr>
              <a:t> </a:t>
            </a:r>
            <a:r>
              <a:rPr b="0" lang="en-US" sz="5400" spc="-1" strike="noStrike">
                <a:solidFill>
                  <a:srgbClr val="0000ff"/>
                </a:solidFill>
                <a:latin typeface="Garamond"/>
              </a:rPr>
              <a:t>( ВОРОБЕЙ, ЛАСТОЧКА)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push dir="r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ПЕРВЫЙ  ТУР</a:t>
            </a:r>
            <a:br>
              <a:rPr sz="4000"/>
            </a:br>
            <a:r>
              <a:rPr b="1" lang="en-US" sz="4400" spc="-1" strike="noStrike">
                <a:solidFill>
                  <a:srgbClr val="df737b"/>
                </a:solidFill>
                <a:latin typeface="Garamond"/>
              </a:rPr>
              <a:t>«ЗНАТОКИ ПРИРОДЫ»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ff"/>
                </a:solidFill>
                <a:latin typeface="Garamond"/>
              </a:rPr>
              <a:t>ОН СЕТИ, КАК РЫБАК ГОТОВИТ, А РЫБЫ НИКОГДА НЕ ЛОВИТ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а)МАЙСКИЙ ЖУК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б) ТАРАКА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в) ПАУК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г) СКОРПИО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rd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28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ПРАВИЛЬНЫЙ ОТВЕТ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Garamond"/>
              </a:rPr>
              <a:t>ПАУК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2484360" y="2997360"/>
            <a:ext cx="3816360" cy="2592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9200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КАКАЯ ПТИЦА ВЫВОДИТ ПТЕНЦОВ ЗИМОЙ</a:t>
            </a:r>
            <a:br>
              <a:rPr sz="4000"/>
            </a:b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95280" y="2133720"/>
            <a:ext cx="6400800" cy="32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ff"/>
                </a:solidFill>
                <a:latin typeface="Garamond"/>
              </a:rPr>
              <a:t>а)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4000" spc="-1" strike="noStrike">
                <a:solidFill>
                  <a:srgbClr val="cc99ff"/>
                </a:solidFill>
                <a:latin typeface="Garamond"/>
              </a:rPr>
              <a:t>СИНИЦ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ff"/>
                </a:solidFill>
                <a:latin typeface="Garamond"/>
              </a:rPr>
              <a:t>б) ВОРОБЕЙ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ff"/>
                </a:solidFill>
                <a:latin typeface="Garamond"/>
              </a:rPr>
              <a:t>в) КЛЁСТ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ff"/>
                </a:solidFill>
                <a:latin typeface="Garamond"/>
              </a:rPr>
              <a:t>г)  СНЕГИРЬ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ПРАВИЛЬНЫЙ ОТВЕТ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6000" spc="-1" strike="noStrike">
                <a:solidFill>
                  <a:srgbClr val="cc99ff"/>
                </a:solidFill>
                <a:latin typeface="Garamond"/>
              </a:rPr>
              <a:t>КЛЕСТ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276800" y="2905200"/>
            <a:ext cx="1807920" cy="23241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905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ff00"/>
                </a:solidFill>
                <a:latin typeface="Garamond"/>
              </a:rPr>
              <a:t>ЧТО ЕСТ  ЖАБА  ЗИМОЙ</a:t>
            </a:r>
            <a:r>
              <a:rPr b="1" lang="en-US" sz="6000" spc="-1" strike="noStrike">
                <a:solidFill>
                  <a:srgbClr val="00ff00"/>
                </a:solidFill>
                <a:latin typeface="Garamond"/>
              </a:rPr>
              <a:t>?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2195640" y="2600280"/>
            <a:ext cx="460836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   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ПРАВИЛЬНЫЙ ОТВЕТ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116000" y="2637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ff00"/>
                </a:solidFill>
                <a:latin typeface="Garamond"/>
              </a:rPr>
              <a:t>НИЧЕГО, 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ff00"/>
                </a:solidFill>
                <a:latin typeface="Garamond"/>
              </a:rPr>
              <a:t>ОНА      СПИТ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2987640" y="4653000"/>
            <a:ext cx="3168720" cy="1512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ВТОРОЙ ТУР</a:t>
            </a:r>
            <a:br>
              <a:rPr sz="4000"/>
            </a:b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«СЧИТАЛИЯ»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ДАНЫ ЧИСЛА: </a:t>
            </a:r>
            <a:r>
              <a:rPr b="0" lang="en-US" sz="4800" spc="-1" strike="noStrike">
                <a:solidFill>
                  <a:srgbClr val="00ff99"/>
                </a:solidFill>
                <a:latin typeface="Garamond"/>
              </a:rPr>
              <a:t>0,1,2,3,4,5,6,7,8,9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ЧТО БОЛЬШЕ ИХ </a:t>
            </a:r>
            <a:r>
              <a:rPr b="0" lang="en-US" sz="4400" spc="-1" strike="noStrike">
                <a:solidFill>
                  <a:srgbClr val="cc99ff"/>
                </a:solidFill>
                <a:latin typeface="Garamond"/>
              </a:rPr>
              <a:t>СУММА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ИЛИ  ИХ </a:t>
            </a:r>
            <a:r>
              <a:rPr b="0" lang="en-US" sz="4400" spc="-1" strike="noStrike">
                <a:solidFill>
                  <a:srgbClr val="cc99ff"/>
                </a:solidFill>
                <a:latin typeface="Garamond"/>
              </a:rPr>
              <a:t>ПРОИЗВЕДЕНИЕ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rd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367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ПРАВИЛЬНЫЙ ОТВЕТ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Garamond"/>
              </a:rPr>
              <a:t>СУММА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99"/>
                </a:solidFill>
                <a:latin typeface="Garamond"/>
              </a:rPr>
              <a:t>0х1х2х3х4х5х6х7х8х9</a:t>
            </a:r>
            <a:r>
              <a:rPr b="0" lang="en-US" sz="5400" spc="-1" strike="noStrike">
                <a:solidFill>
                  <a:srgbClr val="ff0000"/>
                </a:solidFill>
                <a:latin typeface="Garamond"/>
              </a:rPr>
              <a:t>=0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99"/>
                </a:solidFill>
                <a:latin typeface="Garamond"/>
              </a:rPr>
              <a:t>0</a:t>
            </a:r>
            <a:r>
              <a:rPr b="0" lang="en-US" sz="4000" spc="-1" strike="noStrike">
                <a:solidFill>
                  <a:srgbClr val="00ff99"/>
                </a:solidFill>
                <a:latin typeface="Garamond"/>
              </a:rPr>
              <a:t>+</a:t>
            </a:r>
            <a:r>
              <a:rPr b="0" lang="en-US" sz="5400" spc="-1" strike="noStrike">
                <a:solidFill>
                  <a:srgbClr val="00ff99"/>
                </a:solidFill>
                <a:latin typeface="Garamond"/>
              </a:rPr>
              <a:t>1</a:t>
            </a:r>
            <a:r>
              <a:rPr b="0" lang="en-US" sz="4000" spc="-1" strike="noStrike">
                <a:solidFill>
                  <a:srgbClr val="00ff99"/>
                </a:solidFill>
                <a:latin typeface="Garamond"/>
              </a:rPr>
              <a:t>+</a:t>
            </a:r>
            <a:r>
              <a:rPr b="0" lang="en-US" sz="5400" spc="-1" strike="noStrike">
                <a:solidFill>
                  <a:srgbClr val="00ff99"/>
                </a:solidFill>
                <a:latin typeface="Garamond"/>
              </a:rPr>
              <a:t>2</a:t>
            </a:r>
            <a:r>
              <a:rPr b="0" lang="en-US" sz="4000" spc="-1" strike="noStrike">
                <a:solidFill>
                  <a:srgbClr val="00ff99"/>
                </a:solidFill>
                <a:latin typeface="Garamond"/>
              </a:rPr>
              <a:t>+</a:t>
            </a:r>
            <a:r>
              <a:rPr b="0" lang="en-US" sz="5400" spc="-1" strike="noStrike">
                <a:solidFill>
                  <a:srgbClr val="00ff99"/>
                </a:solidFill>
                <a:latin typeface="Garamond"/>
              </a:rPr>
              <a:t>3</a:t>
            </a:r>
            <a:r>
              <a:rPr b="0" lang="en-US" sz="4000" spc="-1" strike="noStrike">
                <a:solidFill>
                  <a:srgbClr val="00ff99"/>
                </a:solidFill>
                <a:latin typeface="Garamond"/>
              </a:rPr>
              <a:t>+</a:t>
            </a:r>
            <a:r>
              <a:rPr b="0" lang="en-US" sz="5400" spc="-1" strike="noStrike">
                <a:solidFill>
                  <a:srgbClr val="00ff99"/>
                </a:solidFill>
                <a:latin typeface="Garamond"/>
              </a:rPr>
              <a:t>4</a:t>
            </a:r>
            <a:r>
              <a:rPr b="0" lang="en-US" sz="4000" spc="-1" strike="noStrike">
                <a:solidFill>
                  <a:srgbClr val="00ff99"/>
                </a:solidFill>
                <a:latin typeface="Garamond"/>
              </a:rPr>
              <a:t>+</a:t>
            </a:r>
            <a:r>
              <a:rPr b="0" lang="en-US" sz="5400" spc="-1" strike="noStrike">
                <a:solidFill>
                  <a:srgbClr val="00ff99"/>
                </a:solidFill>
                <a:latin typeface="Garamond"/>
              </a:rPr>
              <a:t>5</a:t>
            </a:r>
            <a:r>
              <a:rPr b="0" lang="en-US" sz="4000" spc="-1" strike="noStrike">
                <a:solidFill>
                  <a:srgbClr val="00ff99"/>
                </a:solidFill>
                <a:latin typeface="Garamond"/>
              </a:rPr>
              <a:t>+</a:t>
            </a:r>
            <a:r>
              <a:rPr b="0" lang="en-US" sz="5400" spc="-1" strike="noStrike">
                <a:solidFill>
                  <a:srgbClr val="00ff99"/>
                </a:solidFill>
                <a:latin typeface="Garamond"/>
              </a:rPr>
              <a:t>6</a:t>
            </a:r>
            <a:r>
              <a:rPr b="0" lang="en-US" sz="4000" spc="-1" strike="noStrike">
                <a:solidFill>
                  <a:srgbClr val="00ff99"/>
                </a:solidFill>
                <a:latin typeface="Garamond"/>
              </a:rPr>
              <a:t>+</a:t>
            </a:r>
            <a:r>
              <a:rPr b="0" lang="en-US" sz="5400" spc="-1" strike="noStrike">
                <a:solidFill>
                  <a:srgbClr val="00ff99"/>
                </a:solidFill>
                <a:latin typeface="Garamond"/>
              </a:rPr>
              <a:t>7</a:t>
            </a:r>
            <a:r>
              <a:rPr b="0" lang="en-US" sz="4000" spc="-1" strike="noStrike">
                <a:solidFill>
                  <a:srgbClr val="00ff99"/>
                </a:solidFill>
                <a:latin typeface="Garamond"/>
              </a:rPr>
              <a:t>+</a:t>
            </a:r>
            <a:r>
              <a:rPr b="0" lang="en-US" sz="5400" spc="-1" strike="noStrike">
                <a:solidFill>
                  <a:srgbClr val="00ff99"/>
                </a:solidFill>
                <a:latin typeface="Garamond"/>
              </a:rPr>
              <a:t>8</a:t>
            </a:r>
            <a:r>
              <a:rPr b="0" lang="en-US" sz="4000" spc="-1" strike="noStrike">
                <a:solidFill>
                  <a:srgbClr val="00ff99"/>
                </a:solidFill>
                <a:latin typeface="Garamond"/>
              </a:rPr>
              <a:t>+</a:t>
            </a:r>
            <a:r>
              <a:rPr b="0" lang="en-US" sz="5400" spc="-1" strike="noStrike">
                <a:solidFill>
                  <a:srgbClr val="00ff99"/>
                </a:solidFill>
                <a:latin typeface="Garamond"/>
              </a:rPr>
              <a:t>9</a:t>
            </a:r>
            <a:r>
              <a:rPr b="0" lang="en-US" sz="5400" spc="-1" strike="noStrike">
                <a:solidFill>
                  <a:srgbClr val="ff0000"/>
                </a:solidFill>
                <a:latin typeface="Garamond"/>
              </a:rPr>
              <a:t>=45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push dir="r"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1128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cbf0e"/>
                </a:solidFill>
                <a:latin typeface="Garamond"/>
              </a:rPr>
              <a:t>У семерых братьев по одной сестре. </a:t>
            </a:r>
            <a:br>
              <a:rPr sz="6000"/>
            </a:br>
            <a:r>
              <a:rPr b="1" lang="en-US" sz="6000" spc="-1" strike="noStrike">
                <a:solidFill>
                  <a:srgbClr val="dcbf0e"/>
                </a:solidFill>
                <a:latin typeface="Garamond"/>
              </a:rPr>
              <a:t>Сколько всего сестер?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p:transition>
    <p:pull dir="d"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00"/>
                </a:solidFill>
                <a:latin typeface="Garamond"/>
              </a:rPr>
              <a:t>МИЛЛИОНЕР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marL="14724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99ff"/>
                </a:solidFill>
                <a:latin typeface="Garamond"/>
              </a:rPr>
              <a:t>ОБЛАДАТЕЛЬ      ДОХОДОВ, БОГАТСТВА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14724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99ff"/>
                </a:solidFill>
                <a:latin typeface="Garamond"/>
              </a:rPr>
              <a:t>ИСЧИСЛЯЕМЫХ    МИЛЛИОНАМИ ДЕНЕЖНЫХ ЕДИНИЦ 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14724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14724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Правильный ответ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6000" spc="-1" strike="noStrike">
                <a:solidFill>
                  <a:srgbClr val="df737b"/>
                </a:solidFill>
                <a:latin typeface="Garamond"/>
              </a:rPr>
              <a:t>ОДНА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2987640" y="2781360"/>
            <a:ext cx="2232000" cy="2808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11280" y="32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В кармане у Коли монеты звенели</a:t>
            </a:r>
            <a:br>
              <a:rPr sz="4000"/>
            </a:b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Когда он бежал, они песенку пели.</a:t>
            </a:r>
            <a:br>
              <a:rPr sz="4000"/>
            </a:b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По десять копеек шесть было монет,</a:t>
            </a:r>
            <a:br>
              <a:rPr sz="4000"/>
            </a:b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Сорок копеек ушло на обед,</a:t>
            </a:r>
            <a:br>
              <a:rPr sz="4000"/>
            </a:b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И восемь копеек друзьям одолжил</a:t>
            </a:r>
            <a:br>
              <a:rPr sz="4000"/>
            </a:b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Осталась в кармане лишь самая малость.</a:t>
            </a:r>
            <a:br>
              <a:rPr sz="4000"/>
            </a:b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Сколько копеек у Коли осталось?</a:t>
            </a:r>
            <a:br>
              <a:rPr sz="4000"/>
            </a:b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0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Правильный ответ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cbf0e"/>
                </a:solidFill>
                <a:latin typeface="Garamond"/>
              </a:rPr>
              <a:t>Двенадцать копеек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2700360" y="2924280"/>
            <a:ext cx="2519280" cy="2376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ТРЕТИЙ ТУР</a:t>
            </a:r>
            <a:br>
              <a:rPr sz="4000"/>
            </a:b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«ЛИТЕРАТУРНОЕ ПУТЕШЕСТВИЕ»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f737b"/>
                </a:solidFill>
                <a:latin typeface="Garamond"/>
              </a:rPr>
              <a:t>Сколько раз в сказке А.С. Пушкина старуха посылала старика к рыбке?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6588000" y="4508640"/>
            <a:ext cx="1513080" cy="1944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0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478" dur="2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Правильный ответ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Garamond"/>
              </a:rPr>
              <a:t>ПЯТЬ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076720" y="2997360"/>
            <a:ext cx="1727280" cy="24476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611280" y="3573360"/>
            <a:ext cx="2827080" cy="1800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0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0920" y="206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5400" spc="-1" strike="noStrike">
                <a:solidFill>
                  <a:srgbClr val="dcbf0e"/>
                </a:solidFill>
                <a:latin typeface="Garamond"/>
              </a:rPr>
              <a:t>ЧТО   ОСТАНОВИЛО БЕГУЩУЮ   ЛИСУ   В БАСНЕ   </a:t>
            </a:r>
            <a:br>
              <a:rPr sz="5400"/>
            </a:br>
            <a:r>
              <a:rPr b="1" lang="en-US" sz="5400" spc="-1" strike="noStrike">
                <a:solidFill>
                  <a:srgbClr val="dcbf0e"/>
                </a:solidFill>
                <a:latin typeface="Garamond"/>
              </a:rPr>
              <a:t>И.А. КРЫЛОВА?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0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Правильный ответ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ff"/>
                </a:solidFill>
                <a:latin typeface="Garamond"/>
              </a:rPr>
              <a:t> </a:t>
            </a:r>
            <a:r>
              <a:rPr b="0" lang="en-US" sz="4000" spc="-1" strike="noStrike">
                <a:solidFill>
                  <a:srgbClr val="cc99ff"/>
                </a:solidFill>
                <a:latin typeface="Garamond"/>
              </a:rPr>
              <a:t>И </a:t>
            </a:r>
            <a:r>
              <a:rPr b="0" lang="en-US" sz="3200" spc="-1" strike="noStrike">
                <a:solidFill>
                  <a:srgbClr val="cc99ff"/>
                </a:solidFill>
                <a:latin typeface="Garamond"/>
              </a:rPr>
              <a:t>   </a:t>
            </a:r>
            <a:r>
              <a:rPr b="0" lang="en-US" sz="6600" spc="-1" strike="noStrike">
                <a:solidFill>
                  <a:srgbClr val="dcbf0e"/>
                </a:solidFill>
                <a:latin typeface="Garamond"/>
              </a:rPr>
              <a:t>СЫРНЫЙ ДУХ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</a:t>
            </a:r>
            <a:r>
              <a:rPr b="0" lang="en-US" sz="4000" spc="-1" strike="noStrike">
                <a:solidFill>
                  <a:srgbClr val="cc99ff"/>
                </a:solidFill>
                <a:latin typeface="Garamond"/>
              </a:rPr>
              <a:t>ЛИСУ ОСТАНОВИЛ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3995640" y="4005360"/>
            <a:ext cx="1944720" cy="2016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0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9528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c7946"/>
                </a:solidFill>
                <a:latin typeface="Garamond"/>
              </a:rPr>
              <a:t>Какой детский писатель помог оживить неживой предмет.</a:t>
            </a:r>
            <a:br>
              <a:rPr sz="5400"/>
            </a:br>
            <a:r>
              <a:rPr b="1" lang="en-US" sz="5400" spc="-1" strike="noStrike">
                <a:solidFill>
                  <a:srgbClr val="ec7946"/>
                </a:solidFill>
                <a:latin typeface="Garamond"/>
              </a:rPr>
              <a:t> И что это за предмет?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0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42920" y="476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Правильный ответ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332000" y="2491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c7946"/>
                </a:solidFill>
                <a:latin typeface="Garamond"/>
              </a:rPr>
              <a:t>Н. Носов 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c7946"/>
                </a:solidFill>
                <a:latin typeface="Garamond"/>
              </a:rPr>
              <a:t>«Живая шляпа»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c7946"/>
                </a:solidFill>
                <a:latin typeface="Garamond"/>
              </a:rPr>
              <a:t>ШЛЯПА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6443640" y="4581360"/>
            <a:ext cx="2232000" cy="16797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0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ЧЕТВЕРТЫЙ ТУР</a:t>
            </a:r>
            <a:br>
              <a:rPr sz="3200"/>
            </a:br>
            <a:r>
              <a:rPr b="1" lang="en-US" sz="4000" spc="-1" strike="noStrike">
                <a:solidFill>
                  <a:srgbClr val="51ed49"/>
                </a:solidFill>
                <a:latin typeface="Garamond"/>
              </a:rPr>
              <a:t>«ЗАНИМАТЕЛЬНАЯ ГРАММАТИКА»</a:t>
            </a:r>
            <a:br>
              <a:rPr sz="4000"/>
            </a:b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9640" y="24210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aramond"/>
              </a:rPr>
              <a:t>В КАКОМ ГЛАГОЛЕ СЛЫШИТСЯ 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c7946"/>
                </a:solidFill>
                <a:latin typeface="Garamond"/>
              </a:rPr>
              <a:t>100 «НЕТ»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rd"/>
  </p:transition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0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581" dur="2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Garamond"/>
              </a:rPr>
              <a:t>ДЕВИЗ ИГРЫ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8435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ff"/>
                </a:solidFill>
                <a:latin typeface="Garamond"/>
              </a:rPr>
              <a:t>ПРАВИЛО ВАЖНОЕ –В ДЕЛАХ НЕ ЗЕВАЙ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ff"/>
                </a:solidFill>
                <a:latin typeface="Garamond"/>
              </a:rPr>
              <a:t>ПРИБЫЛЬ СВОЮ И СТРАНЫ УМНОЖА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ff"/>
                </a:solidFill>
                <a:latin typeface="Garamond"/>
              </a:rPr>
              <a:t>ПРИБЫЛЬ- ТРУДАМ И УМЕНЬЮ НАГРАД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ff"/>
                </a:solidFill>
                <a:latin typeface="Garamond"/>
              </a:rPr>
              <a:t>КАК ПОЛУЧИТЬ ЕЁ ? ДУМАТЬ ТУТ НАДО!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1800000" cy="1944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5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Правильный ответ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b31924"/>
                </a:solidFill>
                <a:latin typeface="Garamond"/>
              </a:rPr>
              <a:t>СТОНЕТ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push dir="r"/>
  </p:transition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0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Найди слова с неправильным ударением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684000" y="2565360"/>
            <a:ext cx="78483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c7946"/>
                </a:solidFill>
                <a:latin typeface="Garamond"/>
              </a:rPr>
              <a:t>Кил</a:t>
            </a:r>
            <a:r>
              <a:rPr b="1" lang="ru-RU" sz="5400" spc="-1" strike="noStrike">
                <a:solidFill>
                  <a:srgbClr val="ff0000"/>
                </a:solidFill>
                <a:latin typeface="Garamond"/>
              </a:rPr>
              <a:t>о</a:t>
            </a:r>
            <a:r>
              <a:rPr b="1" lang="ru-RU" sz="5400" spc="-1" strike="noStrike">
                <a:solidFill>
                  <a:srgbClr val="ec7946"/>
                </a:solidFill>
                <a:latin typeface="Garamond"/>
              </a:rPr>
              <a:t>метр, щ</a:t>
            </a:r>
            <a:r>
              <a:rPr b="1" lang="ru-RU" sz="5400" spc="-1" strike="noStrike">
                <a:solidFill>
                  <a:srgbClr val="ff0000"/>
                </a:solidFill>
                <a:latin typeface="Garamond"/>
              </a:rPr>
              <a:t>а</a:t>
            </a:r>
            <a:r>
              <a:rPr b="1" lang="ru-RU" sz="5400" spc="-1" strike="noStrike">
                <a:solidFill>
                  <a:srgbClr val="ec7946"/>
                </a:solidFill>
                <a:latin typeface="Garamond"/>
              </a:rPr>
              <a:t>вель, алф</a:t>
            </a:r>
            <a:r>
              <a:rPr b="1" lang="ru-RU" sz="5400" spc="-1" strike="noStrike">
                <a:solidFill>
                  <a:srgbClr val="ff0000"/>
                </a:solidFill>
                <a:latin typeface="Garamond"/>
              </a:rPr>
              <a:t>а</a:t>
            </a:r>
            <a:r>
              <a:rPr b="1" lang="ru-RU" sz="5400" spc="-1" strike="noStrike">
                <a:solidFill>
                  <a:srgbClr val="ec7946"/>
                </a:solidFill>
                <a:latin typeface="Garamond"/>
              </a:rPr>
              <a:t>вит, свёкл</a:t>
            </a:r>
            <a:r>
              <a:rPr b="1" lang="ru-RU" sz="5400" spc="-1" strike="noStrike">
                <a:solidFill>
                  <a:srgbClr val="ff0000"/>
                </a:solidFill>
                <a:latin typeface="Garamond"/>
              </a:rPr>
              <a:t>а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0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Правильный</a:t>
            </a: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 </a:t>
            </a: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ответ</a:t>
            </a:r>
            <a:br>
              <a:rPr sz="5400"/>
            </a:b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КИЛОМ</a:t>
            </a:r>
            <a:r>
              <a:rPr b="1" lang="en-US" sz="6000" spc="-1" strike="noStrike">
                <a:solidFill>
                  <a:srgbClr val="ff0000"/>
                </a:solidFill>
                <a:latin typeface="Garamond"/>
              </a:rPr>
              <a:t>Е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ТР  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ЩАВ</a:t>
            </a:r>
            <a:r>
              <a:rPr b="1" lang="en-US" sz="6000" spc="-1" strike="noStrike">
                <a:solidFill>
                  <a:srgbClr val="ff0000"/>
                </a:solidFill>
                <a:latin typeface="Garamond"/>
              </a:rPr>
              <a:t>Е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ЛЬ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АЛФАВ</a:t>
            </a:r>
            <a:r>
              <a:rPr b="1" lang="en-US" sz="6000" spc="-1" strike="noStrike">
                <a:solidFill>
                  <a:srgbClr val="ff0000"/>
                </a:solidFill>
                <a:latin typeface="Garamond"/>
              </a:rPr>
              <a:t>И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Т 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СВ</a:t>
            </a:r>
            <a:r>
              <a:rPr b="1" lang="en-US" sz="6000" spc="-1" strike="noStrike">
                <a:solidFill>
                  <a:srgbClr val="ff0000"/>
                </a:solidFill>
                <a:latin typeface="Garamond"/>
              </a:rPr>
              <a:t>Ё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КЛА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push dir="r"/>
  </p:transition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0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В КАКОМ СЛОВЕ КОЛИЧЕСТВО ЗВУКОВ И БУКВ СОВПАДАЕТ?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79280" y="2349000"/>
            <a:ext cx="822960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cbf0e"/>
                </a:solidFill>
                <a:latin typeface="Garamond"/>
              </a:rPr>
              <a:t>СОЛНЦЕ, СЕМЬ, ВЕЕТ, ЕЛЬ, РАК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0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0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Правильный ответ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1ed49"/>
                </a:solidFill>
                <a:latin typeface="Garamond"/>
              </a:rPr>
              <a:t>РАК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2843280" y="2952720"/>
            <a:ext cx="3960720" cy="2852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0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ПЯТЫЙ ТУР</a:t>
            </a:r>
            <a:br>
              <a:rPr sz="5400"/>
            </a:b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«МОЁ ЗДОРОВЬЕ»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ЗАКОНЧИ ПОСЛОВИЦУ О ЗДОРОВЬ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c7946"/>
                </a:solidFill>
                <a:latin typeface="Garamond"/>
              </a:rPr>
              <a:t>В  ЗДОРОВОМ  ТЕЛЕ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………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rd"/>
  </p:transition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0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703" dur="200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4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705" dur="2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709" dur="2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Правильный ответ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187280" y="2349360"/>
            <a:ext cx="640080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6000" spc="-1" strike="noStrike">
                <a:solidFill>
                  <a:srgbClr val="ec7946"/>
                </a:solidFill>
                <a:latin typeface="Garamond"/>
              </a:rPr>
              <a:t>В ЗДОРОВОМ ТЕЛЕ</a:t>
            </a: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6000" spc="-1" strike="noStrike">
                <a:solidFill>
                  <a:srgbClr val="b31924"/>
                </a:solidFill>
                <a:latin typeface="Garamond"/>
              </a:rPr>
              <a:t>ЗДОРОВЫЙ ДУХ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push dir="r"/>
  </p:transition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0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400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30d0d"/>
                </a:solidFill>
                <a:latin typeface="Garamond"/>
              </a:rPr>
              <a:t>КАКИЕ ТРИ САМЫЕ ВРЕДНЫЕ ПРИВЫЧКИ ОТРИЦАТЕЛЬНО СКАЗЫВАЮТСЯ НА ЗДОРОВЬЕ ЧЕЛОВЕКА?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0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Правильный ответ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Garamond"/>
              </a:rPr>
              <a:t>АЛКОГОЛЬ,   КУРЕНИЕ, НАРКОТИКИ.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push dir="r"/>
  </p:transition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0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737b"/>
                </a:solidFill>
                <a:latin typeface="Garamond"/>
              </a:rPr>
              <a:t>ИЗ   КАКОГО ПРОИЗВЕДЕНИЯ И  КТО  АВТОР  СТРОК</a:t>
            </a:r>
            <a:br>
              <a:rPr sz="44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c7946"/>
                </a:solidFill>
                <a:latin typeface="Garamond"/>
              </a:rPr>
              <a:t>ДА ЗДРАВСТВУЕТ МЫЛО ДУШИСТОЕ…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0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9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31924"/>
                </a:solidFill>
                <a:latin typeface="Garamond"/>
              </a:rPr>
              <a:t>КОНКУРЕНЦИЯ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99ff"/>
                </a:solidFill>
                <a:latin typeface="Garamond"/>
              </a:rPr>
              <a:t>СОСТЯЗАНИЕ, СТОЛКНОВЕНИЕ ИНТЕРЕСОВ РАЗЛИЧНЫХ ЭКОНОМИЧЕСКИХ АГЕНТОВ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Правильный ответ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ff99"/>
                </a:solidFill>
                <a:latin typeface="Garamond"/>
              </a:rPr>
              <a:t>К.И. Чуковский «Мойдодыр»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push dir="r"/>
  </p:transition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0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Garamond"/>
              </a:rPr>
              <a:t>МОЛОДЦЫ!</a:t>
            </a:r>
            <a:endParaRPr b="1" lang="en-US" sz="7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f737b"/>
                </a:solidFill>
                <a:latin typeface="Garamond"/>
              </a:rPr>
              <a:t>СПАСИБО ЗА ИГРУ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3059280" y="3789360"/>
            <a:ext cx="2160360" cy="27352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0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6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0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7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ff"/>
                </a:solidFill>
                <a:latin typeface="Garamond"/>
              </a:rPr>
              <a:t>ОТБОРОЧНЫЙ ТУР</a:t>
            </a:r>
            <a:br>
              <a:rPr sz="4000"/>
            </a:b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ЗАДАНИЕ 1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aramond"/>
              </a:rPr>
              <a:t>РАССТАВЬТЕ БУКВЫ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aramond"/>
              </a:rPr>
              <a:t>В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Garamond"/>
              </a:rPr>
              <a:t>АЛФАВИТНОМ   ПОРЯДКЕ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427640" y="3068640"/>
            <a:ext cx="1604880" cy="10810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684360" y="2997360"/>
            <a:ext cx="1511280" cy="12236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2700360" y="3068640"/>
            <a:ext cx="1511280" cy="11523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6443640" y="3141720"/>
            <a:ext cx="1657440" cy="100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09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ПРАВИЛЬНЫЙ ОТВЕТ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643280" y="3933720"/>
            <a:ext cx="1729080" cy="1224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2987640" y="3068640"/>
            <a:ext cx="1584360" cy="12970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755640" y="2349360"/>
            <a:ext cx="1512720" cy="16560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5"/>
          <a:stretch/>
        </p:blipFill>
        <p:spPr>
          <a:xfrm>
            <a:off x="6732720" y="4724280"/>
            <a:ext cx="1617480" cy="11145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ЗАДАНИЕ  2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РАСПОЛОЖИ НАЗВАНИЯ ПРЕДМЕТОВ ПО УМЕНЬШЕНИЮ ИХ  РАЗМЕР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ff99"/>
                </a:solidFill>
                <a:latin typeface="Garamond"/>
              </a:rPr>
              <a:t>ГОРА, КУСТ, 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ff99"/>
                </a:solidFill>
                <a:latin typeface="Garamond"/>
              </a:rPr>
              <a:t>ДЕРЕВО, ТРАВА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ПРАВИЛЬНЫЙ ОТВЕТ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99ff"/>
                </a:solidFill>
                <a:latin typeface="Garamond"/>
              </a:rPr>
              <a:t>ГОРА   ДЕРЕВО  КУСТ    ТРАВА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push dir="r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ЗАДАНИЕ 3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ПО НЕБУ ЛЕТЕЛИ: ВОРОБЕЙ, СТРЕКОЗА, ЛАСТОЧКА И ШМЕЛЬ. СКОЛЬКО ВСЕГО ПТИЦ ЛЕТЕЛО ПО НЕБУ?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15:07:42Z</dcterms:created>
  <dc:creator>User</dc:creator>
  <dc:description/>
  <dc:language>en-US</dc:language>
  <cp:lastModifiedBy>Vlad</cp:lastModifiedBy>
  <dcterms:modified xsi:type="dcterms:W3CDTF">2009-11-21T19:14:46Z</dcterms:modified>
  <cp:revision>9</cp:revision>
  <dc:subject/>
  <dc:title>КТО ХОЧЕТ СТАТЬ МИЛЛИОНЕРОМ</dc:title>
</cp:coreProperties>
</file>