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9FD-BDFA-41EB-AB21-2356C0FF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E50-7FE7-49F6-AA67-E77876BD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BB4-6657-4535-85EF-01A3BF11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63D-70C4-4CCD-AF7B-76EC40EF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9F841-4888-45CC-8322-09E42B6D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0A835-A7D9-4FA8-8351-11D342BC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DB2B8-CE29-4F96-8B55-27ED8EC2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976D-8D59-4728-944D-8DC77EEE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02E25-A349-4451-8D0F-DA2056D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A545E-C59D-4F5B-9F8D-23EA2076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5C9B6-B519-4304-89CB-8AC631E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178-3D3A-4921-9400-FC6EC6B8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845B-98B6-4E90-B92B-B455D87F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24C96-D7C5-4468-AD3D-D016D36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86D70-3FE0-4318-AF93-1A7A88C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68A76-6651-4C16-BBFA-DC85B707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782B5-C85D-4BE1-BD1C-E332ABAC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A493-F095-473D-8DF6-B67266BA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75AA-7AB5-4DC1-9438-287DA2F1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577B-7F88-4BFD-83CB-32B3BA6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3429-8B85-450C-B1F0-3AF710B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5E78-DA7F-44E8-8121-01163F4E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3C8-E357-4B7E-B632-DD19FF1F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25F7-CD58-4B6A-B68A-B95B09CE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8431-B5F3-4A73-A30B-BF72DCA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58B0-ABBD-4DF4-AD25-2330E7E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17A6-E80C-4DCE-B318-A9424E72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BFCB-B00C-49CB-9FF0-F1210385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D6E7-BCB3-4D1E-BF42-477F7DB8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F079-ED1A-4CCD-A9A3-D4018F0A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2B1F-833C-4233-BC25-07162657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4837-C101-43DF-9AE7-77D9A2E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4505-826D-4DA2-88A7-88713F43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537-EE19-4EFA-BAD4-FFDD496E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1691-2DBB-4E1F-98E1-E45FEB1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C644-22AE-4B8F-9A4F-F52746FD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6BE2-FE00-4946-BBB2-B22F48D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654E-8236-4DCA-99EF-FC18BF13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C68E-5813-41DE-B651-277CF25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7997-6BA6-4DC9-AE14-3051BC7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39B8-64F4-4F93-897A-65BFE38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4E89-43DE-4D70-BA39-EF4160BC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0D58-CEDB-4260-B166-2F8EE55C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28F1-61DF-48C1-A69E-029AB24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DA4-760B-41A1-A72D-F1E864F6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25AF-84A0-4AB2-A714-1477A8D2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06540-C636-48EE-9C0B-73295D7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89CD-53D3-4F4C-86DE-41CD609E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8D3D8-0056-41D4-A4AD-512DCB14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E994-02B5-4C91-BCAC-0CBA51B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F581-217D-44AD-A593-770A781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63E5-4E7F-4CD3-A383-2146F53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D487-194C-47FC-B3CF-7B4A2F8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DCC13-1325-4CDE-B2B5-9A436218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E6E1D-F249-49D0-B656-658329C8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960-5DF4-4B3C-BA44-1EA1B140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6D24-E46E-4FF8-A94B-ED340864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ECD-4941-4C7A-A34B-0DD7ED6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52F-2CE9-451A-8891-96AF21B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E50-C383-4B6C-AB36-9F2D125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8567-72F9-49F8-B78C-DEA0D6AB7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267E-3AC2-4750-9C7C-D99E1D929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90D-2CF3-4C73-BC71-A34DBADE9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8FE-4677-49FD-90B4-FF4BBAFF52C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337-A85B-43EC-85DF-D1DA81E06C1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e3c7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Monotype Corsiva"/>
              </a:rPr>
              <a:t>ОТГА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055600"/>
            <a:ext cx="762156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Вот свойство моё обязатель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Склоняюсь я, как прилага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На все вопросы его отвеч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Глагол по значению напомин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Lucida San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2771640" y="558972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ЧАС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6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6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6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Arial"/>
              </a:rPr>
              <a:t>Подведем итоги урока, создавая рассказ на лингвистическую 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е – это ............................... форма ....................................., которая совмещает в себе признаки ..................... (время, вид) и признаки ................................. (изменяется по родам, числам и падеж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я образуются от .............................. с помощью специаль-ных суффиксов: ......................................................................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я в предложении обычно бывают ................................................... и отвечают на вопросы: 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их часто находятся зависимые слова и образуют  ............................................., который может находиться как перед определяемым..........................., так и после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ичастный оборот стоит перед............................................, то он ................................запятой, если же он стоит после ....................................... слова, то он всегда выделяется запя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астия могут быть страдательными и 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дательные причастия имеют полную и .............................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причастия в предложении всегда выступают в роли .............................. и с НЕ пишутся РАЗДЕЛЬНО. В суффиксах кратких причастий пишется ............... буква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27280" y="907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соб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08720" y="9079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4836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24000" y="134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лаг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ла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43280" y="206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-ущ-/-ющ-, -ащ-/-ящ-; -вш-, -ш-; -енн-/-ённ-, -нн-,-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256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58920" y="278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акой? какая?  какое? 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58920" y="32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частный 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928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л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3716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яемым сл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393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 выде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3200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яем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03280" y="4724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йствит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7640" y="4941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рат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54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казу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5661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упр. 1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755280" y="2060640"/>
            <a:ext cx="668484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8360" y="2060640"/>
            <a:ext cx="820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33cc">
                    <a:alpha val="9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 по теме "Причастие"</a:t>
            </a:r>
            <a:endParaRPr b="1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3333cc">
                  <a:alpha val="9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Орфо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4" name=""/>
          <p:cNvGraphicFramePr/>
          <p:nvPr/>
        </p:nvGraphicFramePr>
        <p:xfrm>
          <a:off x="468360" y="1557360"/>
          <a:ext cx="8229600" cy="4525920"/>
        </p:xfrm>
        <a:graphic>
          <a:graphicData uri="http://schemas.openxmlformats.org/drawingml/2006/table">
            <a:tbl>
              <a:tblPr/>
              <a:tblGrid>
                <a:gridCol w="4319640"/>
                <a:gridCol w="39099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ящ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ну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я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вированн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вш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icrosoft Sans Serif"/>
              </a:rPr>
              <a:t>ПРИЧАСТИЕ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Microsoft Sans Serif"/>
              </a:rPr>
              <a:t>---------------------------------------------------------------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обая форма глаго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бозначаю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знак предмета по 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твечает на вопрос КАКОЙ? 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АКОЕ? КАКИ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12952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Monotype Corsiva"/>
              </a:rPr>
              <a:t>Причаст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-135000" y="-192600"/>
            <a:ext cx="9414360" cy="7238520"/>
            <a:chOff x="-135000" y="-192600"/>
            <a:chExt cx="9414360" cy="723852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 rot="14202000">
              <a:off x="835344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 rot="7997400">
              <a:off x="60480" y="-604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"/>
            <a:stretch/>
          </p:blipFill>
          <p:spPr>
            <a:xfrm rot="18601200">
              <a:off x="8353440" y="6067080"/>
              <a:ext cx="73008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4"/>
            <a:stretch/>
          </p:blipFill>
          <p:spPr>
            <a:xfrm rot="3016200">
              <a:off x="60480" y="6067440"/>
              <a:ext cx="73008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"/>
          <p:cNvSpPr/>
          <p:nvPr/>
        </p:nvSpPr>
        <p:spPr>
          <a:xfrm>
            <a:off x="324000" y="1989000"/>
            <a:ext cx="8640720" cy="4104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060640"/>
            <a:ext cx="8569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Действитель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*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да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ущ- (-ющ-)                        -ом- (-ем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щ- (-ящ-)                             -и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вш-                                    -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ш-                               -енн- (-ённ-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771280" y="1052640"/>
            <a:ext cx="1584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3280" y="1052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7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26028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них облетают разноцветные листья шелестящие под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ив в октябре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уют взгляд раскрашенные осенью клё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2997360"/>
            <a:ext cx="864072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расив в октябре ле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дуют взгляд раскрашенные осенью клё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 них облетают разноцветные листья шелестящие под ног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Проверьте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а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ви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р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сте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гон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         ле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 освещ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                 пи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йся            слы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ли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Без НЕ не употребля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 ……</a:t>
            </a: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..?..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1268280"/>
            <a:ext cx="39974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зд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Есть противопоставление с союзом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……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?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Всегда с краткими причаст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00536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) На дворе шумел дождь, (не) успокаивающийся вторые су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б) (Не) успевшие облететь листья дрожали на вет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) Редкие поля (не) убраны и оставлены до вес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03280" y="333360"/>
            <a:ext cx="547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епая схе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5445000"/>
            <a:ext cx="91440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) На дворе шумел дождь, не успокаивающийся вторые су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б) Не успевшие облететь листья дрожали на вет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) Редкие поля не убраны и оставлены до вес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801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8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Игра «Угадай причас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04836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и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ев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дать и б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орме ед.ч., род.п., жен.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71640" y="522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Устилавш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400"/>
                            </p:stCondLst>
                            <p:childTnLst>
                              <p:par>
                                <p:cTn id="3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600"/>
                            </p:stCondLst>
                            <p:childTnLst>
                              <p:par>
                                <p:cTn id="3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7200"/>
                            </p:stCondLst>
                            <p:childTnLst>
                              <p:par>
                                <p:cTn id="3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15:15Z</dcterms:created>
  <dc:creator>Irbis</dc:creator>
  <dc:description/>
  <dc:language>en-US</dc:language>
  <cp:lastModifiedBy>555</cp:lastModifiedBy>
  <dcterms:modified xsi:type="dcterms:W3CDTF">2009-03-06T19:56:03Z</dcterms:modified>
  <cp:revision>8</cp:revision>
  <dc:subject/>
  <dc:title>Слайд 1</dc:title>
</cp:coreProperties>
</file>