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jpeg" ContentType="image/jpe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6C8-6939-48D3-AAAA-C6DFC3E7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F6F-E809-45F0-B090-7E964E6D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3CC-0F45-4684-B6C5-F9E73C48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76C-4D79-4DB2-B428-C96C8474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72558-786C-4216-904F-20209BFC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9AB29-5A7A-43E4-A594-71460D12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0E9AA-B244-4F8C-8CA5-8B46029C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9A1A6-19CB-4A7E-B518-5739D8BB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AA519-4987-4207-9DED-4458E0E5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69E66-E817-4173-9F79-09DB2503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7699B-CBE4-435C-B137-1EF6F3E2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3FB4-F464-4279-B3AC-23FF66BE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55F60-91F4-4781-8387-503BD0E6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9CACD-95D4-450D-BE21-FC5AA071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3F8C9-334F-4970-BF54-8171F576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9A306-8F0C-4CF9-96A5-85F492D0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FC868-CA9E-4FD7-A72E-FF7152A8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13D9-AE85-4EAB-815F-F0A48833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53793-069E-4FF6-B33C-F4C07079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B9DFB-18C0-44EF-8175-5C5BF41C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ED394-0625-4EC6-82EB-2FA68E46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FFAD-A21B-4799-94D3-32E3CEFD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F96-CFBA-42B1-99DA-DDD431BB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414C3-DB14-4759-BDB1-F56A62B4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295D3-45CC-4DE4-9A98-BCA10D38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1DDA4-BFF7-486B-ACA9-CF3111D5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F2C7E-EFD0-4D1D-A19F-887550E1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F2ED8-E599-4611-AE70-97831DF7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187C6-042E-423C-A484-7B684D23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517AE-DA3F-4EE6-9AF1-B7490832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B676F-523A-4145-A146-5E3660F9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E4C8A-B19F-43B9-A758-0A1E06A9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1DD3D-CA59-4810-A896-39BCFAC5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EC9-1464-486A-86EC-3296FFBD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5CF0B-9885-495C-A886-0AC2F642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2F61E-54E0-42B8-9073-89CAA61A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FD335-EC65-45D0-8CE0-2A7B6A09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1F56E-A89F-4B8B-88D4-687D15FE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32F30-1FD3-4713-A58E-51504C68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ED531-7972-4167-9C0B-7492C076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65031-B137-4705-8815-1F4DB1B5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BAA43-B0DB-4122-A677-A9B757D1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D1B8E-FEC0-414C-8914-0C221C1B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DB91F-0DFF-495D-A298-82AFD0BC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E22D-E168-4CE1-9076-A12D64A0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BA9F8-6D0B-4915-8C9C-4FFF7170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9EDB6-6809-4932-89E0-E8C213E1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7C4F9-1EAE-4017-B99D-052846E1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4C653-D9EF-4D61-9042-0A4440D8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DA8C1-3DC5-4A60-B0A1-BC016970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D34C8-22D1-4F62-AC3A-B2BD70F4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F4F4E-CDF4-4E97-A981-D30CED58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0AFB4-4944-4510-B5B9-34C43A06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35596-8EAF-45DB-AB3D-E9BECF07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D3982-2932-4A5A-B773-FFCD22A9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641-8DF4-45DA-A3E8-1C93A38F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A7F42-73DD-4299-8914-00DFB50D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F92-E527-4FC6-9DAE-87A880B8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9634-31B9-4068-96CA-4CD9D1E8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0AE-3F3C-4CD9-83CD-63BB6961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49.xml"/><Relationship Id="rId32" Type="http://schemas.openxmlformats.org/officeDocument/2006/relationships/slideLayout" Target="../slideLayouts/slideLayout50.xml"/><Relationship Id="rId33" Type="http://schemas.openxmlformats.org/officeDocument/2006/relationships/slideLayout" Target="../slideLayouts/slideLayout51.xml"/><Relationship Id="rId34" Type="http://schemas.openxmlformats.org/officeDocument/2006/relationships/slideLayout" Target="../slideLayouts/slideLayout52.xml"/><Relationship Id="rId35" Type="http://schemas.openxmlformats.org/officeDocument/2006/relationships/slideLayout" Target="../slideLayouts/slideLayout53.xml"/><Relationship Id="rId36" Type="http://schemas.openxmlformats.org/officeDocument/2006/relationships/slideLayout" Target="../slideLayouts/slideLayout54.xml"/><Relationship Id="rId37" Type="http://schemas.openxmlformats.org/officeDocument/2006/relationships/slideLayout" Target="../slideLayouts/slideLayout55.xml"/><Relationship Id="rId38" Type="http://schemas.openxmlformats.org/officeDocument/2006/relationships/slideLayout" Target="../slideLayouts/slideLayout56.xml"/><Relationship Id="rId39" Type="http://schemas.openxmlformats.org/officeDocument/2006/relationships/slideLayout" Target="../slideLayouts/slideLayout57.xml"/><Relationship Id="rId40" Type="http://schemas.openxmlformats.org/officeDocument/2006/relationships/slideLayout" Target="../slideLayouts/slideLayout58.xml"/><Relationship Id="rId41" Type="http://schemas.openxmlformats.org/officeDocument/2006/relationships/slideLayout" Target="../slideLayouts/slideLayout59.xml"/><Relationship Id="rId42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537F-0DE0-470D-899D-3D2268EE5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B3B1-7505-4E65-8292-47A03293A8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EA7C-6E4E-4581-B89D-E286340A46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7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A4BF-41E5-4CD3-ADBF-906007B74459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5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6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8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8846-A6EA-479A-8228-8337357881D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1"/>
    <p:sldLayoutId id="2147483702" r:id="rId32"/>
    <p:sldLayoutId id="2147483703" r:id="rId33"/>
    <p:sldLayoutId id="2147483704" r:id="rId34"/>
    <p:sldLayoutId id="2147483705" r:id="rId35"/>
    <p:sldLayoutId id="2147483706" r:id="rId36"/>
    <p:sldLayoutId id="2147483707" r:id="rId37"/>
    <p:sldLayoutId id="2147483708" r:id="rId38"/>
    <p:sldLayoutId id="2147483709" r:id="rId39"/>
    <p:sldLayoutId id="2147483710" r:id="rId40"/>
    <p:sldLayoutId id="2147483711" r:id="rId41"/>
    <p:sldLayoutId id="2147483712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e3c7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Monotype Corsiva"/>
              </a:rPr>
              <a:t>ОТГАД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2055600"/>
            <a:ext cx="762156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Lucida Sans"/>
              </a:rPr>
              <a:t>Вот свойство моё обязательно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Lucida Sans"/>
              </a:rPr>
              <a:t>Склоняюсь я, как прилагатель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Lucida Sans"/>
              </a:rPr>
              <a:t>На все вопросы его отвеч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Lucida Sans"/>
              </a:rPr>
              <a:t>Глагол по значению напомин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Lucida Sans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-135000" y="-192600"/>
            <a:ext cx="9414360" cy="7238520"/>
            <a:chOff x="-135000" y="-192600"/>
            <a:chExt cx="9414360" cy="7238520"/>
          </a:xfrm>
        </p:grpSpPr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 rot="14202000">
              <a:off x="8353440" y="-604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 rot="7997400">
              <a:off x="60480" y="-604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 rot="18601200">
              <a:off x="8353440" y="60670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 rot="3016200">
              <a:off x="60480" y="6067440"/>
              <a:ext cx="730080" cy="85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"/>
          <p:cNvSpPr/>
          <p:nvPr/>
        </p:nvSpPr>
        <p:spPr>
          <a:xfrm>
            <a:off x="2771640" y="5589720"/>
            <a:ext cx="33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РИЧАС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60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6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6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6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6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Arial"/>
              </a:rPr>
              <a:t>Подведем итоги урока, создавая рассказ на лингвистическую т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астие – это ............................... форма ....................................., которая совмещает в себе признаки ..................... (время, вид) и признаки ................................. (изменяется по родам, числам и падежа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астия образуются от .............................. с помощью специаль-ных суффиксов: ...............................................................................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астия в предложении обычно бывают ................................................... и отвечают на вопросы: 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их часто находятся зависимые слова и образуют  ............................................., который может находиться как перед определяемым..........................., так и после 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ричастный оборот стоит перед............................................, то он ................................запятой, если же он стоит после ....................................... слова, то он всегда выделяется запят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астия могут быть страдательными и 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дательные причастия имеют полную и .............................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е причастия в предложении всегда выступают в роли .............................. и с НЕ пишутся РАЗДЕЛЬНО. В суффиксах кратких причастий пишется ............... буква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627280" y="9079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соб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508720" y="9079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глаг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148360" y="112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глаг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124000" y="1341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илага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140360" y="177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глаг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43280" y="2060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-ущ-/-ющ-, -ащ-/-ящ-; -вш-, -ш-; -енн-/-ённ-, -нн-,-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32000" y="256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преде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258920" y="2781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акой? какая?  какое? как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258920" y="32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ичастный об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9280" y="3500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ло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48360" y="3716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пределяемым сло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47640" y="3933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е выде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32000" y="42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пределяем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03280" y="4724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действите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227640" y="4941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рат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16000" y="5445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казуем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40360" y="5661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д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                                 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упр. 1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755280" y="2060640"/>
            <a:ext cx="6684840" cy="21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68360" y="2060640"/>
            <a:ext cx="820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33cc">
                    <a:alpha val="96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общение по теме "Причастие"</a:t>
            </a:r>
            <a:endParaRPr b="1" lang="en-US" sz="4400" spc="1" strike="noStrike">
              <a:ln w="12600">
                <a:solidFill>
                  <a:srgbClr val="0000ff"/>
                </a:solidFill>
                <a:miter/>
              </a:ln>
              <a:solidFill>
                <a:srgbClr val="3333cc">
                  <a:alpha val="96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Орфографическ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-135000" y="-192600"/>
            <a:ext cx="9414360" cy="7238520"/>
            <a:chOff x="-135000" y="-192600"/>
            <a:chExt cx="9414360" cy="7238520"/>
          </a:xfrm>
        </p:grpSpPr>
        <p:pic>
          <p:nvPicPr>
            <p:cNvPr id="350" name="" descr=""/>
            <p:cNvPicPr/>
            <p:nvPr/>
          </p:nvPicPr>
          <p:blipFill>
            <a:blip r:embed="rId1"/>
            <a:stretch/>
          </p:blipFill>
          <p:spPr>
            <a:xfrm rot="14202000">
              <a:off x="8353440" y="-604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2"/>
            <a:stretch/>
          </p:blipFill>
          <p:spPr>
            <a:xfrm rot="7997400">
              <a:off x="60480" y="-604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3"/>
            <a:stretch/>
          </p:blipFill>
          <p:spPr>
            <a:xfrm rot="18601200">
              <a:off x="8353440" y="60670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4"/>
            <a:stretch/>
          </p:blipFill>
          <p:spPr>
            <a:xfrm rot="3016200">
              <a:off x="60480" y="6067440"/>
              <a:ext cx="730080" cy="851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54" name=""/>
          <p:cNvGraphicFramePr/>
          <p:nvPr/>
        </p:nvGraphicFramePr>
        <p:xfrm>
          <a:off x="468360" y="1557360"/>
          <a:ext cx="8229600" cy="4525920"/>
        </p:xfrm>
        <a:graphic>
          <a:graphicData uri="http://schemas.openxmlformats.org/drawingml/2006/table">
            <a:tbl>
              <a:tblPr/>
              <a:tblGrid>
                <a:gridCol w="4319640"/>
                <a:gridCol w="390996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ящи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нут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ят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вированн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явши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нят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-135000" y="-192600"/>
            <a:ext cx="9414360" cy="7238520"/>
            <a:chOff x="-135000" y="-192600"/>
            <a:chExt cx="9414360" cy="7238520"/>
          </a:xfrm>
        </p:grpSpPr>
        <p:pic>
          <p:nvPicPr>
            <p:cNvPr id="356" name="" descr=""/>
            <p:cNvPicPr/>
            <p:nvPr/>
          </p:nvPicPr>
          <p:blipFill>
            <a:blip r:embed="rId1"/>
            <a:stretch/>
          </p:blipFill>
          <p:spPr>
            <a:xfrm rot="14202000">
              <a:off x="8353440" y="-604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2"/>
            <a:stretch/>
          </p:blipFill>
          <p:spPr>
            <a:xfrm rot="7997400">
              <a:off x="60480" y="-604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3"/>
            <a:stretch/>
          </p:blipFill>
          <p:spPr>
            <a:xfrm rot="18601200">
              <a:off x="8353440" y="60670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4"/>
            <a:stretch/>
          </p:blipFill>
          <p:spPr>
            <a:xfrm rot="3016200">
              <a:off x="60480" y="6067440"/>
              <a:ext cx="730080" cy="85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Microsoft Sans Serif"/>
              </a:rPr>
              <a:t>ПРИЧАСТИЕ–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ccff"/>
                </a:solidFill>
                <a:latin typeface="Microsoft Sans Serif"/>
              </a:rPr>
              <a:t>----------------------------------------------------------------------------------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собая форма глаго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бозначающ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изнак предмета по действ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твечает на вопрос КАКОЙ? КАКА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АКОЕ? КАКИ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129528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000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Monotype Corsiva"/>
              </a:rPr>
              <a:t>Причаст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-135000" y="-192600"/>
            <a:ext cx="9414360" cy="7238520"/>
            <a:chOff x="-135000" y="-192600"/>
            <a:chExt cx="9414360" cy="7238520"/>
          </a:xfrm>
        </p:grpSpPr>
        <p:pic>
          <p:nvPicPr>
            <p:cNvPr id="364" name="" descr=""/>
            <p:cNvPicPr/>
            <p:nvPr/>
          </p:nvPicPr>
          <p:blipFill>
            <a:blip r:embed="rId1"/>
            <a:stretch/>
          </p:blipFill>
          <p:spPr>
            <a:xfrm rot="14202000">
              <a:off x="8353440" y="-604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2"/>
            <a:stretch/>
          </p:blipFill>
          <p:spPr>
            <a:xfrm rot="7997400">
              <a:off x="60480" y="-604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3"/>
            <a:stretch/>
          </p:blipFill>
          <p:spPr>
            <a:xfrm rot="18601200">
              <a:off x="8353440" y="60670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4"/>
            <a:stretch/>
          </p:blipFill>
          <p:spPr>
            <a:xfrm rot="3016200">
              <a:off x="60480" y="6067440"/>
              <a:ext cx="730080" cy="85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"/>
          <p:cNvSpPr/>
          <p:nvPr/>
        </p:nvSpPr>
        <p:spPr>
          <a:xfrm>
            <a:off x="324000" y="1989000"/>
            <a:ext cx="8640720" cy="4104000"/>
          </a:xfrm>
          <a:prstGeom prst="rect">
            <a:avLst/>
          </a:prstGeom>
          <a:solidFill>
            <a:srgbClr val="bbe0e3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2060640"/>
            <a:ext cx="85690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Действительно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*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адатель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ущ- (-ющ-)                        -ом- (-ем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щ- (-ящ-)                             -им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вш-                                    -н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ш-                               -енн- (-ённ-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771280" y="1052640"/>
            <a:ext cx="1584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43280" y="105264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c7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80" y="260280"/>
            <a:ext cx="896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них облетают разноцветные листья шелестящие под но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асив в октябре л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уют взгляд раскрашенные осенью клё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0920" y="2997360"/>
            <a:ext cx="864072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расив в октябре ле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адуют взгляд раскрашенные осенью клё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 них облетают разноцветные листья шелестящие под ног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Проверьте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8064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ка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й               ви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ер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я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й               сте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ю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дгон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ый         ле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л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я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й                освещ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ю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й                 пи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ю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йся            слы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446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Сли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80"/>
                </a:solidFill>
                <a:latin typeface="Arial"/>
              </a:rPr>
              <a:t>Без НЕ не употребляе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80"/>
                </a:solidFill>
                <a:latin typeface="Arial"/>
              </a:rPr>
              <a:t> ……</a:t>
            </a:r>
            <a:r>
              <a:rPr b="0" lang="ru-RU" sz="2200" spc="-1" strike="noStrike">
                <a:solidFill>
                  <a:srgbClr val="800080"/>
                </a:solidFill>
                <a:latin typeface="Arial"/>
              </a:rPr>
              <a:t>..?...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1268280"/>
            <a:ext cx="399744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Разд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Есть противопоставление с союзом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……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?.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Всегда с краткими причасти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4005360"/>
            <a:ext cx="914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а) На дворе шумел дождь, (не) успокаивающийся вторые сут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б) (Не) успевшие облететь листья дрожали на ветр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в) Редкие поля (не) убраны и оставлены до вес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03280" y="333360"/>
            <a:ext cx="547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лепая схе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5445000"/>
            <a:ext cx="91440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а) На дворе шумел дождь, не успокаивающийся вторые сут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б) Не успевшие облететь листья дрожали на ветр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в) Редкие поля не убраны и оставлены до вес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8018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8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8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8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Игра «Угадай причаст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6048360" cy="26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и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евш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гр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дать и б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форме ед.ч., род.п., жен.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771640" y="5229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Устилавш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800"/>
                            </p:stCondLst>
                            <p:childTnLst>
                              <p:par>
                                <p:cTn id="2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400"/>
                            </p:stCondLst>
                            <p:childTnLst>
                              <p:par>
                                <p:cTn id="3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600"/>
                            </p:stCondLst>
                            <p:childTnLst>
                              <p:par>
                                <p:cTn id="3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7200"/>
                            </p:stCondLst>
                            <p:childTnLst>
                              <p:par>
                                <p:cTn id="3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8:15:15Z</dcterms:created>
  <dc:creator>Irbis</dc:creator>
  <dc:description/>
  <dc:language>en-US</dc:language>
  <cp:lastModifiedBy>555</cp:lastModifiedBy>
  <dcterms:modified xsi:type="dcterms:W3CDTF">2009-03-06T19:56:03Z</dcterms:modified>
  <cp:revision>8</cp:revision>
  <dc:subject/>
  <dc:title>Слайд 1</dc:title>
</cp:coreProperties>
</file>