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CB8-02C2-4B16-8052-17395204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A62-1D2F-4896-B6D0-36A5907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FAF2-107E-474E-9B7D-965CE8DB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513-C0D9-4207-B261-F5189CB9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60DE-5CDC-4AE3-81E8-D8A8678D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DEDA-8653-49C1-BC75-2927BB59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4A74-7E8C-43AD-8C4A-633966B3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F96D-BD50-48D2-94F4-85CDCB5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4B62-DFCE-4FB7-AC72-40CF449E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5F81-9120-4426-A778-4F678F3B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9828-E707-4665-A589-159A2DF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E5B-8FEA-44BC-89FE-5677ACD0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14FF-7F6E-4E09-B653-F571D98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50DD-2259-4639-94B7-C7ECECFE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991F-FA3E-436D-95E1-FF514A95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D18-E4CC-40D9-95AC-3D5B16ED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482-7C2F-488F-8C75-FBECCDE4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868-75D5-4206-82FE-7EC7594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5D5-9FA1-4639-A8D0-3F12C267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E91-B084-4147-94A0-1E3A5AB3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4DB-5142-415C-BA2C-C5A3BCE3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6A9-213F-4185-8BFF-1168927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FEF-1573-4261-970B-91895B69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547-9AEB-49CA-AE8B-6EA1B19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C208-296A-4D6D-AEB1-480711364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EF2C-B746-493B-8D13-9322D0C087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840" y="-1908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Марий Э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Марий Эл"/>
          <p:cNvPicPr/>
          <p:nvPr/>
        </p:nvPicPr>
        <p:blipFill>
          <a:blip r:embed="rId1"/>
          <a:stretch/>
        </p:blipFill>
        <p:spPr>
          <a:xfrm>
            <a:off x="838080" y="1135080"/>
            <a:ext cx="8001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Мордов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мордовия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Северная Осе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северная Осетия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Татарст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Татарстан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дмурдская 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Удмурдская республика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Хака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республика Хакасия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ченская 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Чеченская республика"/>
          <p:cNvPicPr/>
          <p:nvPr/>
        </p:nvPicPr>
        <p:blipFill>
          <a:blip r:embed="rId1"/>
          <a:stretch/>
        </p:blipFill>
        <p:spPr>
          <a:xfrm>
            <a:off x="304920" y="1447920"/>
            <a:ext cx="78483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Ты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Тыва"/>
          <p:cNvPicPr/>
          <p:nvPr/>
        </p:nvPicPr>
        <p:blipFill>
          <a:blip r:embed="rId1"/>
          <a:stretch/>
        </p:blipFill>
        <p:spPr>
          <a:xfrm>
            <a:off x="533520" y="1523880"/>
            <a:ext cx="75438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Саха (Якутия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Саха (Якутия)"/>
          <p:cNvPicPr/>
          <p:nvPr/>
        </p:nvPicPr>
        <p:blipFill>
          <a:blip r:embed="rId1"/>
          <a:stretch/>
        </p:blipFill>
        <p:spPr>
          <a:xfrm>
            <a:off x="304920" y="1295280"/>
            <a:ext cx="8153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увашская 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Чувашская республика"/>
          <p:cNvPicPr/>
          <p:nvPr/>
        </p:nvPicPr>
        <p:blipFill>
          <a:blip r:embed="rId1"/>
          <a:stretch/>
        </p:blipFill>
        <p:spPr>
          <a:xfrm>
            <a:off x="304920" y="1600200"/>
            <a:ext cx="76197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еспублика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алмык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калмыкия"/>
          <p:cNvPicPr/>
          <p:nvPr/>
        </p:nvPicPr>
        <p:blipFill>
          <a:blip r:embed="rId1"/>
          <a:stretch/>
        </p:blipFill>
        <p:spPr>
          <a:xfrm>
            <a:off x="380880" y="1893960"/>
            <a:ext cx="80773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Карел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арелия"/>
          <p:cNvPicPr/>
          <p:nvPr/>
        </p:nvPicPr>
        <p:blipFill>
          <a:blip r:embed="rId1"/>
          <a:stretch/>
        </p:blipFill>
        <p:spPr>
          <a:xfrm>
            <a:off x="533520" y="1676520"/>
            <a:ext cx="72388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Башкортост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республика башкыркостан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Буря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республика Бурятия"/>
          <p:cNvPicPr/>
          <p:nvPr/>
        </p:nvPicPr>
        <p:blipFill>
          <a:blip r:embed="rId1"/>
          <a:stretch/>
        </p:blipFill>
        <p:spPr>
          <a:xfrm>
            <a:off x="685800" y="1676520"/>
            <a:ext cx="71629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Ко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коми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Дагест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республика дагестан"/>
          <p:cNvPicPr/>
          <p:nvPr/>
        </p:nvPicPr>
        <p:blipFill>
          <a:blip r:embed="rId1"/>
          <a:stretch/>
        </p:blipFill>
        <p:spPr>
          <a:xfrm>
            <a:off x="609480" y="1600200"/>
            <a:ext cx="74678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спублика Ингушет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ингушетия"/>
          <p:cNvPicPr/>
          <p:nvPr/>
        </p:nvPicPr>
        <p:blipFill>
          <a:blip r:embed="rId1"/>
          <a:stretch/>
        </p:blipFill>
        <p:spPr>
          <a:xfrm>
            <a:off x="685800" y="1600200"/>
            <a:ext cx="7315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 Кабардино-Балкар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кабардино - балкария"/>
          <p:cNvPicPr/>
          <p:nvPr/>
        </p:nvPicPr>
        <p:blipFill>
          <a:blip r:embed="rId1"/>
          <a:stretch/>
        </p:blipFill>
        <p:spPr>
          <a:xfrm>
            <a:off x="457200" y="1447920"/>
            <a:ext cx="7772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рачаево – Черкесская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спубл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39596949"/>
          <p:cNvPicPr/>
          <p:nvPr/>
        </p:nvPicPr>
        <p:blipFill>
          <a:blip r:embed="rId1"/>
          <a:stretch/>
        </p:blipFill>
        <p:spPr>
          <a:xfrm>
            <a:off x="838080" y="1600200"/>
            <a:ext cx="70106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09-08-09T14:04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