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F2D-731C-4792-AED2-5499FDAA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93B-B09D-4124-8DC0-5439E9E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2D8-ADF1-4952-A26E-72F342D4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541-05DC-4C27-B04F-49738A61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EA89-E2AD-498A-A5E3-382E175B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E7B6-6BAC-4EE0-B4FA-FA68B8F5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A05F-198C-4A3B-A3C3-FA7270D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9218-8FE6-48D8-A774-B267199C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A867-FCD9-4C39-A663-F1E4DBA5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9F5A-3EE4-437B-A5C0-DA53DB05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1FD2-34BC-463C-A2BF-43261271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B46-886E-461A-8C9C-6019B72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074-FA9B-417D-854D-E07D679B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3887-9F32-48FB-9F1E-C26814B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795-420A-4251-BC2A-B5E5457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796-2145-40FF-B0B7-EC7C6C4D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64B1-F431-466D-B5C5-51349F32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37E-4FBD-479A-8B44-F48ED74B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100-C8AC-4679-B2C7-D0A76AB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1EE-0CA4-490B-BD1D-E7223914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1AD-FA25-4A20-A608-69CAC2E9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C95-ABD8-460D-BC90-2F807E73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E31-8DE6-4A4D-BA95-ACB00A3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3DD-9862-497C-88EF-3C3E120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81F-5855-4F8F-BC0C-A18D5ABDD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C60-D33C-4262-896B-EA532B4776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840" y="-1908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Марий Э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Марий Эл"/>
          <p:cNvPicPr/>
          <p:nvPr/>
        </p:nvPicPr>
        <p:blipFill>
          <a:blip r:embed="rId1"/>
          <a:stretch/>
        </p:blipFill>
        <p:spPr>
          <a:xfrm>
            <a:off x="838080" y="1135080"/>
            <a:ext cx="8001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Мордов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мордовия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Северная Осе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северная Осетия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Татарст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Татарстан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дмурдская 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Удмурдская республика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Хака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республика Хакасия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ченская 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Чеченская республика"/>
          <p:cNvPicPr/>
          <p:nvPr/>
        </p:nvPicPr>
        <p:blipFill>
          <a:blip r:embed="rId1"/>
          <a:stretch/>
        </p:blipFill>
        <p:spPr>
          <a:xfrm>
            <a:off x="304920" y="1447920"/>
            <a:ext cx="78483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Ты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Тыва"/>
          <p:cNvPicPr/>
          <p:nvPr/>
        </p:nvPicPr>
        <p:blipFill>
          <a:blip r:embed="rId1"/>
          <a:stretch/>
        </p:blipFill>
        <p:spPr>
          <a:xfrm>
            <a:off x="533520" y="1523880"/>
            <a:ext cx="75438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Саха (Якутия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Саха (Якутия)"/>
          <p:cNvPicPr/>
          <p:nvPr/>
        </p:nvPicPr>
        <p:blipFill>
          <a:blip r:embed="rId1"/>
          <a:stretch/>
        </p:blipFill>
        <p:spPr>
          <a:xfrm>
            <a:off x="304920" y="1295280"/>
            <a:ext cx="8153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увашская 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Чувашская республика"/>
          <p:cNvPicPr/>
          <p:nvPr/>
        </p:nvPicPr>
        <p:blipFill>
          <a:blip r:embed="rId1"/>
          <a:stretch/>
        </p:blipFill>
        <p:spPr>
          <a:xfrm>
            <a:off x="304920" y="1600200"/>
            <a:ext cx="7619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еспублика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алмык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калмыкия"/>
          <p:cNvPicPr/>
          <p:nvPr/>
        </p:nvPicPr>
        <p:blipFill>
          <a:blip r:embed="rId1"/>
          <a:stretch/>
        </p:blipFill>
        <p:spPr>
          <a:xfrm>
            <a:off x="380880" y="1893960"/>
            <a:ext cx="80773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Карел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арелия"/>
          <p:cNvPicPr/>
          <p:nvPr/>
        </p:nvPicPr>
        <p:blipFill>
          <a:blip r:embed="rId1"/>
          <a:stretch/>
        </p:blipFill>
        <p:spPr>
          <a:xfrm>
            <a:off x="533520" y="1676520"/>
            <a:ext cx="7238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Башкортост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республика башкыркостан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Бур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республика Бурятия"/>
          <p:cNvPicPr/>
          <p:nvPr/>
        </p:nvPicPr>
        <p:blipFill>
          <a:blip r:embed="rId1"/>
          <a:stretch/>
        </p:blipFill>
        <p:spPr>
          <a:xfrm>
            <a:off x="685800" y="1676520"/>
            <a:ext cx="71629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Ко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коми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Дагест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республика дагестан"/>
          <p:cNvPicPr/>
          <p:nvPr/>
        </p:nvPicPr>
        <p:blipFill>
          <a:blip r:embed="rId1"/>
          <a:stretch/>
        </p:blipFill>
        <p:spPr>
          <a:xfrm>
            <a:off x="609480" y="1600200"/>
            <a:ext cx="74678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Ингуше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ингушетия"/>
          <p:cNvPicPr/>
          <p:nvPr/>
        </p:nvPicPr>
        <p:blipFill>
          <a:blip r:embed="rId1"/>
          <a:stretch/>
        </p:blipFill>
        <p:spPr>
          <a:xfrm>
            <a:off x="685800" y="16002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Кабардино-Балкар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кабардино - балкария"/>
          <p:cNvPicPr/>
          <p:nvPr/>
        </p:nvPicPr>
        <p:blipFill>
          <a:blip r:embed="rId1"/>
          <a:stretch/>
        </p:blipFill>
        <p:spPr>
          <a:xfrm>
            <a:off x="457200" y="1447920"/>
            <a:ext cx="7772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рачаево – Черкесская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39596949"/>
          <p:cNvPicPr/>
          <p:nvPr/>
        </p:nvPicPr>
        <p:blipFill>
          <a:blip r:embed="rId1"/>
          <a:stretch/>
        </p:blipFill>
        <p:spPr>
          <a:xfrm>
            <a:off x="838080" y="1600200"/>
            <a:ext cx="70106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09-08-09T14:04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