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F41-8F46-44E0-99DA-4ACE0D48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B3F-89A2-42EF-840A-E46B7FD5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0B3-7775-4856-95BD-59334C80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CCCC-5CA7-4013-8D41-791E237F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CD1-CB7A-4419-837C-22C72E9F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4EF-15D0-4303-A1D4-1E0AC23F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BB3-4237-490B-9ABA-8842F115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9C6-2A1A-4F59-B663-C8C59CE8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31F-5F37-4EDF-AE91-4359131D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9A18-AA64-444F-864B-28019507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AB8-0CE6-47E8-BA98-3DEAB248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1FF-EFB5-4D81-BC76-4C03B6BB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5971-81B2-49AE-8379-9BF9C6646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Час обеда п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ижался, топот по двору разд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Там о заре п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лынут волны на брег песчаны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Кто-то терем п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рал да хозяев поджид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Пирожок лишь разломила да кусочек п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с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Вмиг тогда мой петуш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ымет гребешо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Все бегут за колесниц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Дадоном и цариц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х п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тствует Дадо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«Здравствуй, князь ты мой п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сны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ты тих, как день ненастны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 …А князь в окош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спокойно в свой у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ез море п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т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1-11T17:12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