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D14-C433-4ECC-9CB7-B538D5E8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851-EB67-4651-9D75-56E5ABCE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353-66F1-4348-A1B0-CA7E298F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B1B-B57B-422F-A16B-6E4399F0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A9F-1D9E-45C5-883C-F21F765D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EA9-290A-4EE8-A5BC-3CA6D6F8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C2A-54DE-44D8-8A39-DE70E16B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F65-8D24-4CD0-A11D-1B379A36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B316-D015-4EA1-B003-20160E5A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E3B-DA39-4B6C-B957-B22A5BD2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A9A-0A39-4ED8-9E65-13BDC77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172-AB8E-400C-9C04-67FB189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7B1B-4217-46AB-9186-2F6C4B048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ближение, приб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рриториальная близ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полнота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38480" y="609480"/>
            <a:ext cx="17528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-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91120" y="3962520"/>
            <a:ext cx="15238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-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0" y="4800600"/>
            <a:ext cx="26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оч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п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1-10T16:53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