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71D-BB84-4CD5-9E90-6B58C064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3EF-B0CB-4D05-89F7-A868325F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840-1370-4A11-8869-A4A6C6BE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69C-E1CF-4B47-9D3F-557E857B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897B-6084-40CE-B6B7-2265AA99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E4D1-F2FB-48CB-9955-B8B8EE29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E24B-0EC4-431D-B999-67C4B388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28BA-5D09-486D-8581-0C02C68A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C0E4-28A0-45AF-8EEA-80DFF11B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CBF2-D7CB-4AC1-8985-F02AFFE6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0702-FDDF-483B-B758-70D3829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EDA-53C3-4437-903F-73298831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7AC5-F264-4960-A2A8-D67ED952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B630-E4B1-471B-8920-D8D6AB7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250A-F2DC-4755-B54B-4DBAEBFC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3465-8A96-498A-A760-D46394A0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EFD7-4653-4D2F-8D6C-576746AE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C29-C5B2-4100-AF7B-8BF06C2A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6F8-808D-4DA1-9D01-F39C36C4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567-DBBC-4A14-B61D-4780222D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759-91FF-488F-BD20-AFAE62DD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C73-B2C0-46D5-B0EE-B97607C5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9BC-2A42-49E4-AF0E-719A7D5F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405-BD51-4B17-A51B-1304E957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265B-E8C9-448A-8E73-8DEBA0759C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97E5-21F3-4DDC-92AF-44DE4D0426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arod.ru/" TargetMode="External"/><Relationship Id="rId2" Type="http://schemas.openxmlformats.org/officeDocument/2006/relationships/hyperlink" Target="http://www.narod.ru/" TargetMode="External"/><Relationship Id="rId3" Type="http://schemas.openxmlformats.org/officeDocument/2006/relationships/hyperlink" Target="http://www.narod.ru/" TargetMode="External"/><Relationship Id="rId4" Type="http://schemas.openxmlformats.org/officeDocument/2006/relationships/hyperlink" Target="http://www.narod.ru/" TargetMode="External"/><Relationship Id="rId5" Type="http://schemas.openxmlformats.org/officeDocument/2006/relationships/hyperlink" Target="http://www.narod.ru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om.ru/" TargetMode="External"/><Relationship Id="rId2" Type="http://schemas.openxmlformats.org/officeDocument/2006/relationships/hyperlink" Target="http://www.boom.ru/" TargetMode="External"/><Relationship Id="rId3" Type="http://schemas.openxmlformats.org/officeDocument/2006/relationships/hyperlink" Target="http://www.boom.ru/" TargetMode="External"/><Relationship Id="rId4" Type="http://schemas.openxmlformats.org/officeDocument/2006/relationships/hyperlink" Target="http://www.boom.ru/" TargetMode="External"/><Relationship Id="rId5" Type="http://schemas.openxmlformats.org/officeDocument/2006/relationships/hyperlink" Target="http://www.boom.ru/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y.ru/" TargetMode="External"/><Relationship Id="rId2" Type="http://schemas.openxmlformats.org/officeDocument/2006/relationships/hyperlink" Target="http://www.by.ru/" TargetMode="External"/><Relationship Id="rId3" Type="http://schemas.openxmlformats.org/officeDocument/2006/relationships/hyperlink" Target="http://www.by.ru/" TargetMode="External"/><Relationship Id="rId4" Type="http://schemas.openxmlformats.org/officeDocument/2006/relationships/hyperlink" Target="http://www.by.ru/" TargetMode="External"/><Relationship Id="rId5" Type="http://schemas.openxmlformats.org/officeDocument/2006/relationships/hyperlink" Target="http://www.by.ru/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wmail.ru/" TargetMode="External"/><Relationship Id="rId2" Type="http://schemas.openxmlformats.org/officeDocument/2006/relationships/hyperlink" Target="http://www.newmail.ru/" TargetMode="External"/><Relationship Id="rId3" Type="http://schemas.openxmlformats.org/officeDocument/2006/relationships/hyperlink" Target="http://www.newmail.ru/" TargetMode="External"/><Relationship Id="rId4" Type="http://schemas.openxmlformats.org/officeDocument/2006/relationships/hyperlink" Target="http://www.newmail.ru/" TargetMode="External"/><Relationship Id="rId5" Type="http://schemas.openxmlformats.org/officeDocument/2006/relationships/hyperlink" Target="http://www.newmail.ru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2997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Tahoma"/>
              </a:rPr>
              <a:t>Бесплатные хостинги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narod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ru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сто под сайт 100 Мбай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чат, гостевая книга и анкет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ется много готовых шабло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поддерживает технологий тип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я для сайт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rod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лама –  небольшое окошко в правом верхнем углу с крестик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71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boom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ru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сто под сайт – 50 Мбай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готовые шабло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поддерживает технологий тип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я для сайт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oom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авный недостаток – это навязчивая реклама в виде большого баннера в нижней части окна, который при прокрутке остаётся неподвижны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by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ru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213336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 сайт даётся неограниченное мест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гостевая книг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держивае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менное им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y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имеет службы поддерж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ые сбои на сервер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newmail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ru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 сайт даёт 16 Мбай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фору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поддерживает технологий тип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P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ламы 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оставляет несколько доменных имён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ewmail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rc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otmail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m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5:19:55Z</dcterms:created>
  <dc:creator>User</dc:creator>
  <dc:description/>
  <dc:language>en-US</dc:language>
  <cp:lastModifiedBy>User</cp:lastModifiedBy>
  <dcterms:modified xsi:type="dcterms:W3CDTF">2008-12-05T16:13:51Z</dcterms:modified>
  <cp:revision>2</cp:revision>
  <dc:subject/>
  <dc:title>Бесплатные хостинги</dc:title>
</cp:coreProperties>
</file>