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BB0-7D02-47CB-AFD9-089D75EC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BDA-6469-494D-8454-B87C6791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FC8-C177-4EBC-A298-6E25B808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DD1-3F2F-4073-A6A1-28E02446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0844-D5B8-4901-9E36-8D68A368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A102-2AB9-4556-8B34-2DD650EA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83BB-FB23-454E-BA48-8E77135D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E797-9C9D-45A7-A792-BC9C6C57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183B-B373-410C-B147-BAAAD75D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63E5-093B-473B-890A-1775B9EE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399F-D504-47EB-AB66-46D9C2F0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D54-3891-4DE7-9F41-11AFDDDE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542E-DA82-4E9C-8E82-A70E36CA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81B4-E827-40CA-A93C-61341A84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55D7-46D9-4B5D-8ECA-EDEAA7AE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3A9F-2DD1-4E84-B6E6-8CCD6B3F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1CA0-6EA5-439D-A0E0-57A19AAD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DC5-86CA-4C65-89A6-44BB5561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CE9-5CDB-45F4-9B1D-37ADDF6D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77C-F51A-4DC3-BEEC-7B79B511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FDB-03C3-40EC-923A-805E0E5F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FA8-DA36-47E8-9690-EB024C8A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2B7-2AA6-4A8A-8DDD-4F746908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6C6-475A-432C-BD44-D2C3DD3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45F4-EACA-4510-8ADD-CE661C3C0D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37FD-B4EC-4915-BBF8-60B467F183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arod.ru/" TargetMode="External"/><Relationship Id="rId2" Type="http://schemas.openxmlformats.org/officeDocument/2006/relationships/hyperlink" Target="http://www.narod.ru/" TargetMode="External"/><Relationship Id="rId3" Type="http://schemas.openxmlformats.org/officeDocument/2006/relationships/hyperlink" Target="http://www.narod.ru/" TargetMode="External"/><Relationship Id="rId4" Type="http://schemas.openxmlformats.org/officeDocument/2006/relationships/hyperlink" Target="http://www.narod.ru/" TargetMode="External"/><Relationship Id="rId5" Type="http://schemas.openxmlformats.org/officeDocument/2006/relationships/hyperlink" Target="http://www.narod.ru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om.ru/" TargetMode="External"/><Relationship Id="rId2" Type="http://schemas.openxmlformats.org/officeDocument/2006/relationships/hyperlink" Target="http://www.boom.ru/" TargetMode="External"/><Relationship Id="rId3" Type="http://schemas.openxmlformats.org/officeDocument/2006/relationships/hyperlink" Target="http://www.boom.ru/" TargetMode="External"/><Relationship Id="rId4" Type="http://schemas.openxmlformats.org/officeDocument/2006/relationships/hyperlink" Target="http://www.boom.ru/" TargetMode="External"/><Relationship Id="rId5" Type="http://schemas.openxmlformats.org/officeDocument/2006/relationships/hyperlink" Target="http://www.boom.ru/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y.ru/" TargetMode="External"/><Relationship Id="rId2" Type="http://schemas.openxmlformats.org/officeDocument/2006/relationships/hyperlink" Target="http://www.by.ru/" TargetMode="External"/><Relationship Id="rId3" Type="http://schemas.openxmlformats.org/officeDocument/2006/relationships/hyperlink" Target="http://www.by.ru/" TargetMode="External"/><Relationship Id="rId4" Type="http://schemas.openxmlformats.org/officeDocument/2006/relationships/hyperlink" Target="http://www.by.ru/" TargetMode="External"/><Relationship Id="rId5" Type="http://schemas.openxmlformats.org/officeDocument/2006/relationships/hyperlink" Target="http://www.by.ru/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wmail.ru/" TargetMode="External"/><Relationship Id="rId2" Type="http://schemas.openxmlformats.org/officeDocument/2006/relationships/hyperlink" Target="http://www.newmail.ru/" TargetMode="External"/><Relationship Id="rId3" Type="http://schemas.openxmlformats.org/officeDocument/2006/relationships/hyperlink" Target="http://www.newmail.ru/" TargetMode="External"/><Relationship Id="rId4" Type="http://schemas.openxmlformats.org/officeDocument/2006/relationships/hyperlink" Target="http://www.newmail.ru/" TargetMode="External"/><Relationship Id="rId5" Type="http://schemas.openxmlformats.org/officeDocument/2006/relationships/hyperlink" Target="http://www.newmail.ru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2997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Tahoma"/>
              </a:rPr>
              <a:t>Бесплатные хостинги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narod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ru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сто под сайт 100 Мбай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чат, гостевая книга и анкет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ется много готовых шабло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поддерживает технологий тип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я для сайт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rod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лама –  небольшое окошко в правом верхнем углу с крестик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71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boom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ru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сто под сайт – 50 Мбай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готовые шабло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поддерживает технологий тип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я для сайт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oom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авный недостаток – это навязчивая реклама в виде большого баннера в нижней части окна, который при прокрутке остаётся неподвижны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by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ru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213336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 сайт даётся неограниченное мест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гостевая книг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держивае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менное им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y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имеет службы поддерж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ые сбои на сервер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newmail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ru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 сайт даёт 16 Мбай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фору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поддерживает технологий тип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ламы 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оставляет несколько доменных имён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ewmail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rc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otmail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m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5:19:55Z</dcterms:created>
  <dc:creator>User</dc:creator>
  <dc:description/>
  <dc:language>en-US</dc:language>
  <cp:lastModifiedBy>User</cp:lastModifiedBy>
  <dcterms:modified xsi:type="dcterms:W3CDTF">2008-12-05T16:13:51Z</dcterms:modified>
  <cp:revision>2</cp:revision>
  <dc:subject/>
  <dc:title>Бесплатные хостинги</dc:title>
</cp:coreProperties>
</file>