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B61-1A80-453C-805D-46262978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B7C0-F3A4-40BC-BB43-94F0846E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1F6-36C3-4F78-A101-633D99C7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CF9-8D39-446B-B7F3-FFE6DE60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62FA-1BF0-4B83-9305-B134BC42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F4EF-20F9-4DFF-B6D0-846EC26B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CF22-371A-4108-9326-7AB66E20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2B21-ACAA-4B37-8882-1FA10556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1DA2-F7FF-4F32-905E-2F00FCD8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33BB-9031-4F2C-85D1-6DAC1B48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5A0B-0116-4EB0-A318-CE856E37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589E-E9C0-43AF-BAA4-1CDDE57A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C52B-C7FE-4FF3-93C2-2748C173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F1BC-8A7A-418A-AED7-17C22B14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FF22-BF19-40E5-8CD9-B64D3490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71AB-747A-4314-B9FB-00DF3AD9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B739-B226-4441-86F8-AAC38EAB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6000D-4B19-4F54-9DB2-7372C1E6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3D5A1-AF6A-4D62-8F5D-06B7CEB5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77BB9-5FD3-4D34-9EEC-D03F16F8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61518-A4A3-421F-8660-67C6A6EA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F3150-505E-4761-9B82-B3848D49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6F7-AF5B-4834-ADFD-2BB6A469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EADC8-8EF3-4D5D-B39D-ADD0BBDC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D0B5D-42CF-4F72-ACA0-B4379F0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69E66-59C3-4600-A6A5-1057EF0D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94F9F-BCDD-4EFA-A6AB-72A19B60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BAA89-9D6A-4449-8D8B-C2567D25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CAE56-4248-4D09-B4E0-5DE37440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2811E-B267-4E68-8548-BA2CAEA0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51D4A-7E4B-4A0D-BB71-DE3C7C6A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BD39-1BC0-4F17-8421-AA1186C2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0867-54BD-406B-B427-84EFEE3F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AAA-387C-4B15-9999-BEB01679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E1347-AC49-4B5F-8467-8017418C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84ED7-1001-410F-B05D-215B9743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065FE-34E1-4250-9DA8-74CCA3E3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ABA24-406E-469E-8035-B3B153C1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6F1E8-CB12-4288-915E-77D2203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F99F3-BBA8-4F42-B0C8-2BEF351C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E2E21-0D61-4C21-A008-444D25AD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9746C-A01A-42CB-9EBE-F83F1CFA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45671-3B7E-47B1-9BB5-5F126037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842-628C-4751-9EC7-35FE3242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3AB-8D35-4F3D-AA0D-492F5D9D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7CB-4888-4C52-AF73-8C409AE7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037-B6CB-4916-A44F-29E9AF7D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F26-534D-4C37-8730-DE444DC9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5927-8349-4370-A366-B7F07EB9B95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1059-F95F-4EEF-AAA1-6C2DB3AC9EB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5FFA-B4D9-49A1-B08E-5DC1E0A59F8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8986-BB81-4907-9ED6-B81A2E7BE8F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rebuchet MS"/>
              </a:rPr>
              <a:t>  </a:t>
            </a:r>
            <a:r>
              <a:rPr b="1" lang="ru-RU" sz="4400" spc="-1" strike="noStrike">
                <a:solidFill>
                  <a:srgbClr val="ffc000"/>
                </a:solidFill>
                <a:latin typeface="Trebuchet MS"/>
              </a:rPr>
              <a:t>Дифференциация учебной работы младших школьников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6252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17ad"/>
                </a:solidFill>
                <a:latin typeface="Georgia"/>
              </a:rPr>
              <a:t>Выполнила 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17ad"/>
                </a:solidFill>
                <a:latin typeface="Georgi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17ad"/>
                </a:solidFill>
                <a:latin typeface="Georgia"/>
              </a:rPr>
              <a:t>МОУ лицея №35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17ad"/>
                </a:solidFill>
                <a:latin typeface="Georgia"/>
              </a:rPr>
              <a:t>г.Ставропол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17ad"/>
                </a:solidFill>
                <a:latin typeface="Georgia"/>
              </a:rPr>
              <a:t>Баленко Галина Ивано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100000">
                <a:srgbClr val="deded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УЧЕБНЫХ ЗАДАНИЙ МОЖНО ДИФФЕРЕНЦИРОВАТЬ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51" name="Содержимое 2"/>
          <p:cNvGrpSpPr/>
          <p:nvPr/>
        </p:nvGrpSpPr>
        <p:grpSpPr>
          <a:xfrm>
            <a:off x="109440" y="2236680"/>
            <a:ext cx="8589960" cy="4657680"/>
            <a:chOff x="109440" y="2236680"/>
            <a:chExt cx="8589960" cy="4657680"/>
          </a:xfrm>
        </p:grpSpPr>
        <p:pic>
          <p:nvPicPr>
            <p:cNvPr id="25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09440" y="2236680"/>
              <a:ext cx="858996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2249640"/>
              <a:ext cx="822960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по уровню творче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по уровню труд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по объё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Заголовок 1"/>
          <p:cNvGrpSpPr/>
          <p:nvPr/>
        </p:nvGrpSpPr>
        <p:grpSpPr>
          <a:xfrm>
            <a:off x="444600" y="676440"/>
            <a:ext cx="8254800" cy="1469880"/>
            <a:chOff x="444600" y="676440"/>
            <a:chExt cx="8254800" cy="1469880"/>
          </a:xfrm>
        </p:grpSpPr>
        <p:pic>
          <p:nvPicPr>
            <p:cNvPr id="25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676440"/>
              <a:ext cx="825480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57200" y="685800"/>
              <a:ext cx="82296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ПО СПОСОБУ ОРГАНИЗАЦИИ ДЕЯТЕЛЬНОСТИ                     </a:t>
              </a:r>
              <a:br>
                <a:rPr sz="3200"/>
              </a:br>
              <a:r>
                <a:rPr b="1" i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ПРИ ЭТОМ СОДЕРЖАНИЕ ЗАДАНИЙ ЕДИ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Содержимое 2"/>
          <p:cNvGrpSpPr/>
          <p:nvPr/>
        </p:nvGrpSpPr>
        <p:grpSpPr>
          <a:xfrm>
            <a:off x="92160" y="2176560"/>
            <a:ext cx="8607240" cy="4717800"/>
            <a:chOff x="92160" y="2176560"/>
            <a:chExt cx="8607240" cy="4717800"/>
          </a:xfrm>
        </p:grpSpPr>
        <p:pic>
          <p:nvPicPr>
            <p:cNvPr id="25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92160" y="2176560"/>
              <a:ext cx="8607240" cy="47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57200" y="2249640"/>
              <a:ext cx="822960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Georgia"/>
                </a:rPr>
                <a:t>по степени самостоятельности учащихся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Georgia"/>
                </a:rPr>
                <a:t>по степени и характеру помощи учащихся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Georgia"/>
                </a:rPr>
                <a:t>по характеру учебных действи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Содержимое 2"/>
          <p:cNvGrpSpPr/>
          <p:nvPr/>
        </p:nvGrpSpPr>
        <p:grpSpPr>
          <a:xfrm>
            <a:off x="92160" y="731880"/>
            <a:ext cx="8613720" cy="6168960"/>
            <a:chOff x="92160" y="731880"/>
            <a:chExt cx="8613720" cy="6168960"/>
          </a:xfrm>
        </p:grpSpPr>
        <p:pic>
          <p:nvPicPr>
            <p:cNvPr id="261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92160" y="731880"/>
              <a:ext cx="861372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57200" y="838080"/>
              <a:ext cx="8229600" cy="57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Georgia"/>
                  <a:ea typeface="Times New Roman"/>
                </a:rPr>
                <a:t>ПО УРОВНЮ ТВОРЧЕСТ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317ad"/>
                  </a:solidFill>
                  <a:latin typeface="Georgia"/>
                  <a:ea typeface="Times New Roman"/>
                </a:rPr>
                <a:t>ЗАД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РЕПРОДУКТИВНЫЕ               ТВОРЧЕС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3" name="Прямая со стрелкой 6"/>
          <p:cNvCxnSpPr/>
          <p:nvPr/>
        </p:nvCxnSpPr>
        <p:spPr>
          <a:xfrm flipH="1">
            <a:off x="2361960" y="2513520"/>
            <a:ext cx="2286720" cy="7628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64" name="Прямая со стрелкой 8"/>
          <p:cNvCxnSpPr/>
          <p:nvPr/>
        </p:nvCxnSpPr>
        <p:spPr>
          <a:xfrm>
            <a:off x="4647960" y="2514240"/>
            <a:ext cx="2515320" cy="7628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Содержимое 2"/>
          <p:cNvGrpSpPr/>
          <p:nvPr/>
        </p:nvGrpSpPr>
        <p:grpSpPr>
          <a:xfrm>
            <a:off x="60480" y="963720"/>
            <a:ext cx="8645400" cy="5937120"/>
            <a:chOff x="60480" y="963720"/>
            <a:chExt cx="8645400" cy="5937120"/>
          </a:xfrm>
        </p:grpSpPr>
        <p:pic>
          <p:nvPicPr>
            <p:cNvPr id="26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60480" y="963720"/>
              <a:ext cx="8645400" cy="59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7200" y="990720"/>
              <a:ext cx="8229600" cy="55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317ad"/>
                  </a:solidFill>
                  <a:latin typeface="Georgia"/>
                  <a:ea typeface="Times New Roman"/>
                </a:rPr>
                <a:t>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7030a0"/>
                  </a:solidFill>
                  <a:latin typeface="Georgia"/>
                  <a:ea typeface="Times New Roman"/>
                </a:rPr>
                <a:t>РЕПРОДУКТИВ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типовые упражнения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 задач знакомых видов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 примеров на изучен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числительные приёмы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 простых уравнени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45720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100000">
                <a:srgbClr val="deded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Georgia"/>
              </a:rPr>
              <a:t>ВИДЫ ТВОРЧЕСКИХ ЗАДАНИ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69" name="Содержимое 2"/>
          <p:cNvGrpSpPr/>
          <p:nvPr/>
        </p:nvGrpSpPr>
        <p:grpSpPr>
          <a:xfrm>
            <a:off x="384120" y="1420920"/>
            <a:ext cx="8442360" cy="6430680"/>
            <a:chOff x="384120" y="1420920"/>
            <a:chExt cx="8442360" cy="6430680"/>
          </a:xfrm>
        </p:grpSpPr>
        <p:pic>
          <p:nvPicPr>
            <p:cNvPr id="27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84120" y="1420920"/>
              <a:ext cx="8442360" cy="64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57200" y="1523880"/>
              <a:ext cx="8229600" cy="50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поиск закономерностей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задания на классификацию математических объектов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задания с недостающими и лишними данными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выполнение задания разными способами, поиск наиболее рационального способа решения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самостоятельное составление задач, математических выражений, равенств и нера-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нестандартные задачи и зад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100000">
                <a:srgbClr val="deded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ПО УРОВНЮ ТРУДНОСТ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73" name="Содержимое 2"/>
          <p:cNvGrpSpPr/>
          <p:nvPr/>
        </p:nvGrpSpPr>
        <p:grpSpPr>
          <a:xfrm>
            <a:off x="384120" y="1378080"/>
            <a:ext cx="8564760" cy="4644720"/>
            <a:chOff x="384120" y="1378080"/>
            <a:chExt cx="8564760" cy="4644720"/>
          </a:xfrm>
        </p:grpSpPr>
        <p:pic>
          <p:nvPicPr>
            <p:cNvPr id="27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84120" y="1378080"/>
              <a:ext cx="8564760" cy="46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57200" y="1523880"/>
              <a:ext cx="8229600" cy="44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9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ложнение материала, которое используется в задании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9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величение количества действий в выражений, в решении задачи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9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пользование обратного задания вместо прямого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9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полнение операции сравнения в дополнение к основному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9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пользование букв вместо чисел или отдельных циф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83808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100000">
                <a:srgbClr val="deded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Georgia"/>
                <a:ea typeface="Times New Roman"/>
              </a:rPr>
              <a:t>ПО ОБЪЁМУ </a:t>
            </a:r>
            <a:br>
              <a:rPr sz="2900"/>
            </a:br>
            <a:r>
              <a:rPr b="1" lang="ru-RU" sz="2900" spc="-1" strike="noStrike">
                <a:solidFill>
                  <a:srgbClr val="7030a0"/>
                </a:solidFill>
                <a:latin typeface="Georgia"/>
                <a:ea typeface="Times New Roman"/>
              </a:rPr>
              <a:t>УЧЕБНОГО МАТЕРИАЛА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77" name="Содержимое 2"/>
          <p:cNvGrpSpPr/>
          <p:nvPr/>
        </p:nvGrpSpPr>
        <p:grpSpPr>
          <a:xfrm>
            <a:off x="384120" y="1663560"/>
            <a:ext cx="8467920" cy="5011920"/>
            <a:chOff x="384120" y="1663560"/>
            <a:chExt cx="8467920" cy="5011920"/>
          </a:xfrm>
        </p:grpSpPr>
        <p:pic>
          <p:nvPicPr>
            <p:cNvPr id="27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84120" y="1663560"/>
              <a:ext cx="8467920" cy="50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57200" y="1752480"/>
              <a:ext cx="8229600" cy="48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317ad"/>
                  </a:solidFill>
                  <a:latin typeface="Georgia"/>
                </a:rPr>
                <a:t>  </a:t>
              </a:r>
              <a:r>
                <a:rPr b="1" i="1" lang="ru-RU" sz="2400" spc="-1" strike="noStrike">
                  <a:solidFill>
                    <a:srgbClr val="1317ad"/>
                  </a:solidFill>
                  <a:latin typeface="Georgia"/>
                </a:rPr>
                <a:t>необходимость обусловлена разным темпом работы учащих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317ad"/>
                  </a:solidFill>
                  <a:latin typeface="Georgia"/>
                </a:rPr>
                <a:t>   </a:t>
              </a:r>
              <a:r>
                <a:rPr b="1" lang="ru-RU" sz="2400" spc="-1" strike="noStrike">
                  <a:solidFill>
                    <a:srgbClr val="1317ad"/>
                  </a:solidFill>
                  <a:latin typeface="Georgia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Основное задание – </a:t>
              </a: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I</a:t>
              </a: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 группа учащих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Дополнительное задание - </a:t>
              </a: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II </a:t>
              </a: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группа и </a:t>
              </a: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III</a:t>
              </a: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 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317ad"/>
                  </a:solidFill>
                  <a:latin typeface="Georgia"/>
                </a:rPr>
                <a:t>связано с основным          отличное от основ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более высокого                 репродуктив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уровня трудности                из другого разд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аналогичное                      на смекалк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творческое                          нестандартные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0" name="Прямая со стрелкой 4"/>
          <p:cNvCxnSpPr/>
          <p:nvPr/>
        </p:nvCxnSpPr>
        <p:spPr>
          <a:xfrm flipH="1">
            <a:off x="1980360" y="3352680"/>
            <a:ext cx="4039560" cy="4579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81" name="Прямая со стрелкой 6"/>
          <p:cNvCxnSpPr/>
          <p:nvPr/>
        </p:nvCxnSpPr>
        <p:spPr>
          <a:xfrm flipH="1">
            <a:off x="6248160" y="3275640"/>
            <a:ext cx="1676880" cy="5338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282" name="Прямоугольник 7"/>
          <p:cNvSpPr/>
          <p:nvPr/>
        </p:nvSpPr>
        <p:spPr>
          <a:xfrm>
            <a:off x="4419720" y="4343400"/>
            <a:ext cx="152280" cy="152280"/>
          </a:xfrm>
          <a:prstGeom prst="rect">
            <a:avLst/>
          </a:prstGeom>
          <a:solidFill>
            <a:srgbClr val="7030a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4419720" y="5105520"/>
            <a:ext cx="152280" cy="152280"/>
          </a:xfrm>
          <a:prstGeom prst="rect">
            <a:avLst/>
          </a:prstGeom>
          <a:solidFill>
            <a:srgbClr val="7030a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9"/>
          <p:cNvSpPr/>
          <p:nvPr/>
        </p:nvSpPr>
        <p:spPr>
          <a:xfrm>
            <a:off x="4419720" y="5562720"/>
            <a:ext cx="152280" cy="152280"/>
          </a:xfrm>
          <a:prstGeom prst="rect">
            <a:avLst/>
          </a:prstGeom>
          <a:solidFill>
            <a:srgbClr val="7030a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100000">
                <a:srgbClr val="deded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ПРАВИЛА ОРГАНИЗАЦИИ РАБОТЫ НА ДАННОМ ЭТАПЕ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86" name="Содержимое 2"/>
          <p:cNvGrpSpPr/>
          <p:nvPr/>
        </p:nvGrpSpPr>
        <p:grpSpPr>
          <a:xfrm>
            <a:off x="384120" y="1889280"/>
            <a:ext cx="8485200" cy="4687560"/>
            <a:chOff x="384120" y="1889280"/>
            <a:chExt cx="8485200" cy="4687560"/>
          </a:xfrm>
        </p:grpSpPr>
        <p:pic>
          <p:nvPicPr>
            <p:cNvPr id="28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84120" y="1889280"/>
              <a:ext cx="8485200" cy="46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57200" y="1981080"/>
              <a:ext cx="822960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23880" indent="-51444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приступайте к выполнению дополнительного задания, пока не проверите основно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23880" indent="-51444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полнительное задание не является обязательным, поэтому его можно выполнить частичн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23880" indent="-51444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в классе ведётся проверка основного задания, следует отложить выполнение дополнительного и работать вместе с учителе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23880" indent="-51444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 выполнению доп. зад-я можно вернуться на других этапах уро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23880" indent="-51444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623880" indent="-51444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100000">
                <a:srgbClr val="deded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СТЕПЕНИ САМОСТОЯТЕЛЬНОСТ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90" name="Содержимое 2"/>
          <p:cNvGrpSpPr/>
          <p:nvPr/>
        </p:nvGrpSpPr>
        <p:grpSpPr>
          <a:xfrm>
            <a:off x="378000" y="2146320"/>
            <a:ext cx="8375400" cy="3821040"/>
            <a:chOff x="378000" y="2146320"/>
            <a:chExt cx="8375400" cy="3821040"/>
          </a:xfrm>
        </p:grpSpPr>
        <p:pic>
          <p:nvPicPr>
            <p:cNvPr id="291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78000" y="2146320"/>
              <a:ext cx="8375400" cy="38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57200" y="2249640"/>
              <a:ext cx="8229600" cy="36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Georgia"/>
                </a:rPr>
                <a:t>Знакомство с заданием одинако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Georgia"/>
                </a:rPr>
                <a:t>Исполнительский эта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I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 группа – с учител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II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 группа – сначала с учителем, затем самостоятель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III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 группа - самостоятель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100000">
                <a:srgbClr val="deded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Georgia"/>
              </a:rPr>
              <a:t>ПО СТЕПЕНИ И ХАРАКТЕРУ ПОМОЩИ УЧАЩИМСЯ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94" name="Содержимое 2"/>
          <p:cNvGrpSpPr/>
          <p:nvPr/>
        </p:nvGrpSpPr>
        <p:grpSpPr>
          <a:xfrm>
            <a:off x="384120" y="1652760"/>
            <a:ext cx="8425080" cy="5022720"/>
            <a:chOff x="384120" y="1652760"/>
            <a:chExt cx="8425080" cy="5022720"/>
          </a:xfrm>
        </p:grpSpPr>
        <p:pic>
          <p:nvPicPr>
            <p:cNvPr id="29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84120" y="1652760"/>
              <a:ext cx="8425080" cy="50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457200" y="1752480"/>
              <a:ext cx="8229600" cy="48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Georgia"/>
                </a:rPr>
                <a:t>Стимулирующая</a:t>
              </a: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 –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ученик не включился в самостоятельную работу, либо допустил ошибку -  учитель ободряет, разъясняет зад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Georgia"/>
                </a:rPr>
                <a:t>Направляющая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 – дается подсказка, помогающая актуализировать знания, облегчающая выполнение зад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Georgia"/>
                </a:rPr>
                <a:t>Обучающая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– учитель раскрывает путь выполнения задания, сообщает о  том, что нужно дел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17ad"/>
                </a:solidFill>
                <a:latin typeface="Times New Roman"/>
                <a:ea typeface="Times New Roman"/>
              </a:rPr>
              <a:t>Положительные стороны дифференцированного обуч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17" name="Содержимое 2"/>
          <p:cNvGrpSpPr/>
          <p:nvPr/>
        </p:nvGrpSpPr>
        <p:grpSpPr>
          <a:xfrm>
            <a:off x="85680" y="1914480"/>
            <a:ext cx="8613720" cy="4979880"/>
            <a:chOff x="85680" y="1914480"/>
            <a:chExt cx="8613720" cy="4979880"/>
          </a:xfrm>
        </p:grpSpPr>
        <p:pic>
          <p:nvPicPr>
            <p:cNvPr id="21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85680" y="1914480"/>
              <a:ext cx="8613720" cy="497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57200" y="1981080"/>
              <a:ext cx="8229600" cy="45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сильным учащимся можно уделить время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слабым учащимся можно уделить внимание и контроль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повышается уровень Я-концепц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(ситуация успеха, повышается самооценка у слабого)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повышается уровень мотивации у сильных ученик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100000">
                <a:srgbClr val="deded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НАПРАВЛЯЮЩАЯ ПОМОЩЬ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98" name="Содержимое 2"/>
          <p:cNvGrpSpPr/>
          <p:nvPr/>
        </p:nvGrpSpPr>
        <p:grpSpPr>
          <a:xfrm>
            <a:off x="378000" y="1500120"/>
            <a:ext cx="8375400" cy="4924440"/>
            <a:chOff x="378000" y="1500120"/>
            <a:chExt cx="8375400" cy="4924440"/>
          </a:xfrm>
        </p:grpSpPr>
        <p:pic>
          <p:nvPicPr>
            <p:cNvPr id="29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78000" y="1500120"/>
              <a:ext cx="8375400" cy="49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57200" y="1600200"/>
              <a:ext cx="822960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в виде вспомогательных заданий, подготовительных упражнен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I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группы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II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групп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помогательные задания,              основ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готовительные упражнения      зад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ое задание                    дополните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в виде «подсказок»: карточек-помощниц, карточек-консультац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1" name="Прямая со стрелкой 4"/>
          <p:cNvCxnSpPr/>
          <p:nvPr/>
        </p:nvCxnSpPr>
        <p:spPr>
          <a:xfrm flipH="1">
            <a:off x="2284200" y="2973240"/>
            <a:ext cx="3600" cy="534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02" name="Прямая со стрелкой 6"/>
          <p:cNvCxnSpPr/>
          <p:nvPr/>
        </p:nvCxnSpPr>
        <p:spPr>
          <a:xfrm flipH="1">
            <a:off x="2284200" y="4344840"/>
            <a:ext cx="3600" cy="6105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03" name="Прямая со стрелкой 8"/>
          <p:cNvCxnSpPr/>
          <p:nvPr/>
        </p:nvCxnSpPr>
        <p:spPr>
          <a:xfrm flipH="1">
            <a:off x="6931800" y="3049560"/>
            <a:ext cx="3960" cy="4579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04" name="Прямая со стрелкой 10"/>
          <p:cNvCxnSpPr/>
          <p:nvPr/>
        </p:nvCxnSpPr>
        <p:spPr>
          <a:xfrm flipH="1">
            <a:off x="6931800" y="4421160"/>
            <a:ext cx="3960" cy="534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137160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100000">
                <a:srgbClr val="deded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Georgia"/>
              </a:rPr>
              <a:t>ЗАДАНИЯ  ПО ВЫБОРУ  УЧАЩИХСЯ- </a:t>
            </a:r>
            <a:r>
              <a:rPr b="1" i="1" lang="ru-RU" sz="2900" spc="-1" strike="noStrike">
                <a:solidFill>
                  <a:srgbClr val="1317ad"/>
                </a:solidFill>
                <a:latin typeface="Georgia"/>
              </a:rPr>
              <a:t>оказывают влияние на становление положительной учебной мотивации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06" name="Содержимое 2"/>
          <p:cNvGrpSpPr/>
          <p:nvPr/>
        </p:nvGrpSpPr>
        <p:grpSpPr>
          <a:xfrm>
            <a:off x="378000" y="2109960"/>
            <a:ext cx="8375400" cy="4314600"/>
            <a:chOff x="378000" y="2109960"/>
            <a:chExt cx="8375400" cy="4314600"/>
          </a:xfrm>
        </p:grpSpPr>
        <p:pic>
          <p:nvPicPr>
            <p:cNvPr id="30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78000" y="2109960"/>
              <a:ext cx="8375400" cy="43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57200" y="2209680"/>
              <a:ext cx="82296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варианты заданий отличаются уровнем трудности, уровнем творчества, объёмо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ариант 1 – основное зад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ариант 2 – задание большего объём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ариант 3 – творческое зад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применение игровых приёмов, с помощью которых задаётся уровень сложности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если ученик ошибся с выбором, имеет право взять другой вариант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100000">
                <a:srgbClr val="deded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ЗАДАНИЯ  ПО ВЫБОРУ УЧАЩИХС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10" name="Содержимое 2"/>
          <p:cNvGrpSpPr/>
          <p:nvPr/>
        </p:nvGrpSpPr>
        <p:grpSpPr>
          <a:xfrm>
            <a:off x="463680" y="1627200"/>
            <a:ext cx="7839000" cy="4718160"/>
            <a:chOff x="463680" y="1627200"/>
            <a:chExt cx="7839000" cy="4718160"/>
          </a:xfrm>
        </p:grpSpPr>
        <p:pic>
          <p:nvPicPr>
            <p:cNvPr id="311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627200"/>
              <a:ext cx="7839000" cy="471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533520" y="1676520"/>
              <a:ext cx="76960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Georgia"/>
                </a:rPr>
                <a:t>Вариант 1.</a:t>
              </a: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Обозначьте цифрами порядо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           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действий и вычислите знач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            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выражений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                       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(24 +46) :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Georgia"/>
                </a:rPr>
                <a:t>                           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27 + 2 х 3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</a:rPr>
                <a:t>                   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Вариант 2.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</a:rPr>
                <a:t>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Обозначьте цифрами поряд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           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действий и вычислите знач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            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выражений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                     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27:3 + (21 - 3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                      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48 : 3 + 5х 8 –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Вариант 3.                       Обозначьте цифрами поряд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Georgia"/>
                </a:rPr>
                <a:t>        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действий:       :      +(      -      )х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              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Подберите числа и вычислите</a:t>
              </a:r>
              <a:r>
                <a:rPr b="1" lang="ru-RU" sz="20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Прямоугольник 3"/>
          <p:cNvSpPr/>
          <p:nvPr/>
        </p:nvSpPr>
        <p:spPr>
          <a:xfrm>
            <a:off x="1219320" y="213372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Трапеция 4"/>
          <p:cNvSpPr/>
          <p:nvPr/>
        </p:nvSpPr>
        <p:spPr>
          <a:xfrm rot="10800000">
            <a:off x="1599840" y="2666520"/>
            <a:ext cx="685800" cy="22860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Равнобедренный треугольник 5"/>
          <p:cNvSpPr/>
          <p:nvPr/>
        </p:nvSpPr>
        <p:spPr>
          <a:xfrm rot="5400000">
            <a:off x="1866240" y="2323800"/>
            <a:ext cx="457200" cy="228600"/>
          </a:xfrm>
          <a:prstGeom prst="triangle">
            <a:avLst>
              <a:gd name="adj" fmla="val 50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1219320" y="36576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Трапеция 7"/>
          <p:cNvSpPr/>
          <p:nvPr/>
        </p:nvSpPr>
        <p:spPr>
          <a:xfrm rot="10800000">
            <a:off x="1600200" y="4114440"/>
            <a:ext cx="990720" cy="30492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Равнобедренный треугольник 8"/>
          <p:cNvSpPr/>
          <p:nvPr/>
        </p:nvSpPr>
        <p:spPr>
          <a:xfrm rot="5400000">
            <a:off x="1904760" y="3809880"/>
            <a:ext cx="609480" cy="304920"/>
          </a:xfrm>
          <a:prstGeom prst="triangle">
            <a:avLst>
              <a:gd name="adj" fmla="val 50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9"/>
          <p:cNvSpPr/>
          <p:nvPr/>
        </p:nvSpPr>
        <p:spPr>
          <a:xfrm>
            <a:off x="1219320" y="510552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рапеция 10"/>
          <p:cNvSpPr/>
          <p:nvPr/>
        </p:nvSpPr>
        <p:spPr>
          <a:xfrm rot="10800000">
            <a:off x="1447920" y="5638320"/>
            <a:ext cx="1371600" cy="30492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Равнобедренный треугольник 11"/>
          <p:cNvSpPr/>
          <p:nvPr/>
        </p:nvSpPr>
        <p:spPr>
          <a:xfrm rot="5400000">
            <a:off x="1828800" y="5334120"/>
            <a:ext cx="914400" cy="304560"/>
          </a:xfrm>
          <a:prstGeom prst="triangle">
            <a:avLst>
              <a:gd name="adj" fmla="val 50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2"/>
          <p:cNvSpPr/>
          <p:nvPr/>
        </p:nvSpPr>
        <p:spPr>
          <a:xfrm>
            <a:off x="4343400" y="50292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3"/>
          <p:cNvSpPr/>
          <p:nvPr/>
        </p:nvSpPr>
        <p:spPr>
          <a:xfrm>
            <a:off x="4800600" y="50292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5334120" y="50292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5"/>
          <p:cNvSpPr/>
          <p:nvPr/>
        </p:nvSpPr>
        <p:spPr>
          <a:xfrm>
            <a:off x="5715000" y="50292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6"/>
          <p:cNvSpPr/>
          <p:nvPr/>
        </p:nvSpPr>
        <p:spPr>
          <a:xfrm>
            <a:off x="6172200" y="50292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100000">
                <a:srgbClr val="deded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Georgia"/>
              </a:rPr>
              <a:t>ДИФФЕРЕНЦИАЦИЯ ДОМАШНИХ ЗАДАНИ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28" name="Содержимое 2"/>
          <p:cNvGrpSpPr/>
          <p:nvPr/>
        </p:nvGrpSpPr>
        <p:grpSpPr>
          <a:xfrm>
            <a:off x="378000" y="1878120"/>
            <a:ext cx="8375400" cy="4698720"/>
            <a:chOff x="378000" y="1878120"/>
            <a:chExt cx="8375400" cy="4698720"/>
          </a:xfrm>
        </p:grpSpPr>
        <p:pic>
          <p:nvPicPr>
            <p:cNvPr id="32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78000" y="1878120"/>
              <a:ext cx="8375400" cy="46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457200" y="1981080"/>
              <a:ext cx="822960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Наиболее эффективны следующие способы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степени помощи -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дельным учащимся даются карточки – помощницы для выполнения домашнего задания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уровню трудности или уровню творчества –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щимся с высокой обучаемостью вместо обычного задания предлагается творческое упражнение или более труд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Заголовок 1"/>
          <p:cNvGrpSpPr/>
          <p:nvPr/>
        </p:nvGrpSpPr>
        <p:grpSpPr>
          <a:xfrm>
            <a:off x="523800" y="901800"/>
            <a:ext cx="8255160" cy="1092240"/>
            <a:chOff x="523800" y="901800"/>
            <a:chExt cx="8255160" cy="1092240"/>
          </a:xfrm>
        </p:grpSpPr>
        <p:pic>
          <p:nvPicPr>
            <p:cNvPr id="22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23800" y="901800"/>
              <a:ext cx="82551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33520" y="914400"/>
              <a:ext cx="82296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Отрицательные стороны дифференцированного обуче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Содержимое 2"/>
          <p:cNvGrpSpPr/>
          <p:nvPr/>
        </p:nvGrpSpPr>
        <p:grpSpPr>
          <a:xfrm>
            <a:off x="109440" y="2762280"/>
            <a:ext cx="8601120" cy="2700360"/>
            <a:chOff x="109440" y="2762280"/>
            <a:chExt cx="8601120" cy="2700360"/>
          </a:xfrm>
        </p:grpSpPr>
        <p:pic>
          <p:nvPicPr>
            <p:cNvPr id="22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09440" y="2762280"/>
              <a:ext cx="860112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7200" y="2819520"/>
              <a:ext cx="8229600" cy="23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слабые не имеют возможности тянуться за сильными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понижается уровень мотивации в слабых группа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одержимое 2"/>
          <p:cNvGrpSpPr/>
          <p:nvPr/>
        </p:nvGrpSpPr>
        <p:grpSpPr>
          <a:xfrm>
            <a:off x="55440" y="738360"/>
            <a:ext cx="11252160" cy="6156000"/>
            <a:chOff x="55440" y="738360"/>
            <a:chExt cx="11252160" cy="6156000"/>
          </a:xfrm>
        </p:grpSpPr>
        <p:pic>
          <p:nvPicPr>
            <p:cNvPr id="22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55440" y="738360"/>
              <a:ext cx="11252160" cy="61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7200" y="838080"/>
              <a:ext cx="8229600" cy="57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317ad"/>
                  </a:solidFill>
                  <a:latin typeface="Georgia"/>
                </a:rPr>
                <a:t>                </a:t>
              </a:r>
              <a:r>
                <a:rPr b="1" lang="ru-RU" sz="3600" spc="-1" strike="noStrike">
                  <a:solidFill>
                    <a:srgbClr val="1317ad"/>
                  </a:solidFill>
                  <a:latin typeface="Georgia"/>
                </a:rPr>
                <a:t>ДИФФЕРЕНЦИАЦ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317ad"/>
                  </a:solidFill>
                  <a:latin typeface="Georgia"/>
                </a:rPr>
                <a:t>ВНЕШНЯЯ                    ВНУТРЕННЯ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Georgia"/>
                </a:rPr>
                <a:t>(дифференцированное обучение) (дифференциация учебн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                                                                 </a:t>
              </a:r>
              <a:r>
                <a:rPr b="1" lang="ru-RU" sz="2000" spc="-1" strike="noStrike">
                  <a:solidFill>
                    <a:srgbClr val="7030a0"/>
                  </a:solidFill>
                  <a:latin typeface="Georgia"/>
                </a:rPr>
                <a:t>работы)      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гимназии, лицеи,           организация рабо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школы с углубленным        </a:t>
              </a:r>
              <a:r>
                <a:rPr b="1" lang="ru-RU" sz="2800" spc="-1" strike="noStrike">
                  <a:solidFill>
                    <a:srgbClr val="7030a0"/>
                  </a:solidFill>
                  <a:latin typeface="Georgia"/>
                </a:rPr>
                <a:t>внутри класс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изучением отдельны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предметов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коррекционны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школы разных тип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Прямоугольник 3"/>
          <p:cNvSpPr/>
          <p:nvPr/>
        </p:nvSpPr>
        <p:spPr>
          <a:xfrm>
            <a:off x="4724280" y="3429000"/>
            <a:ext cx="76320" cy="7632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Прямая со стрелкой 5"/>
          <p:cNvCxnSpPr/>
          <p:nvPr/>
        </p:nvCxnSpPr>
        <p:spPr>
          <a:xfrm flipH="1">
            <a:off x="1828440" y="1370520"/>
            <a:ext cx="2743920" cy="610200"/>
          </a:xfrm>
          <a:prstGeom prst="straightConnector1">
            <a:avLst/>
          </a:prstGeom>
          <a:ln w="38160">
            <a:solidFill>
              <a:srgbClr val="a04da3"/>
            </a:solidFill>
            <a:miter/>
            <a:tailEnd len="med" type="arrow" w="med"/>
          </a:ln>
        </p:spPr>
      </p:cxnSp>
      <p:cxnSp>
        <p:nvCxnSpPr>
          <p:cNvPr id="231" name="Прямая со стрелкой 11"/>
          <p:cNvCxnSpPr/>
          <p:nvPr/>
        </p:nvCxnSpPr>
        <p:spPr>
          <a:xfrm>
            <a:off x="4572000" y="1371240"/>
            <a:ext cx="2667240" cy="610200"/>
          </a:xfrm>
          <a:prstGeom prst="straightConnector1">
            <a:avLst/>
          </a:prstGeom>
          <a:ln w="38160">
            <a:solidFill>
              <a:srgbClr val="a04d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100000">
                <a:srgbClr val="deded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317ad"/>
                </a:solidFill>
                <a:latin typeface="Trebuchet MS"/>
              </a:rPr>
              <a:t>Критерии дифференци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33" name="Содержимое 2"/>
          <p:cNvGrpSpPr/>
          <p:nvPr/>
        </p:nvGrpSpPr>
        <p:grpSpPr>
          <a:xfrm>
            <a:off x="96840" y="2176560"/>
            <a:ext cx="8613720" cy="4736880"/>
            <a:chOff x="96840" y="2176560"/>
            <a:chExt cx="8613720" cy="4736880"/>
          </a:xfrm>
        </p:grpSpPr>
        <p:pic>
          <p:nvPicPr>
            <p:cNvPr id="23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96840" y="2176560"/>
              <a:ext cx="8613720" cy="47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57200" y="2249640"/>
              <a:ext cx="822960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готовность к обучени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обучаем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обучен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познавательные интерес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Содержимое 2"/>
          <p:cNvGrpSpPr/>
          <p:nvPr/>
        </p:nvGrpSpPr>
        <p:grpSpPr>
          <a:xfrm>
            <a:off x="60480" y="731880"/>
            <a:ext cx="8692920" cy="6168960"/>
            <a:chOff x="60480" y="731880"/>
            <a:chExt cx="8692920" cy="6168960"/>
          </a:xfrm>
        </p:grpSpPr>
        <p:pic>
          <p:nvPicPr>
            <p:cNvPr id="23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60480" y="731880"/>
              <a:ext cx="869292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57200" y="838080"/>
              <a:ext cx="8229600" cy="57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Georgia"/>
                </a:rPr>
                <a:t>ГОТОВНОСТЬ К ОБУЧЕНИ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пользуется только для деления на группы детей, только поступивших в школ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( важно использовать как предметную готовность, т.е.наличие определенных знаний и умений, так и психологическую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Содержимое 2"/>
          <p:cNvGrpSpPr/>
          <p:nvPr/>
        </p:nvGrpSpPr>
        <p:grpSpPr>
          <a:xfrm>
            <a:off x="42840" y="665280"/>
            <a:ext cx="8656560" cy="6229080"/>
            <a:chOff x="42840" y="665280"/>
            <a:chExt cx="8656560" cy="6229080"/>
          </a:xfrm>
        </p:grpSpPr>
        <p:pic>
          <p:nvPicPr>
            <p:cNvPr id="24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2840" y="665280"/>
              <a:ext cx="8656560" cy="62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57200" y="762120"/>
              <a:ext cx="8229600" cy="58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ОБУЧАЕМОСТЬ</a:t>
              </a:r>
              <a:r>
                <a:rPr b="1" lang="ru-RU" sz="3600" spc="-1" strike="noStrike">
                  <a:solidFill>
                    <a:srgbClr val="7030a0"/>
                  </a:solidFill>
                  <a:latin typeface="Georgia"/>
                </a:rPr>
                <a:t> </a:t>
              </a:r>
              <a:r>
                <a:rPr b="1" lang="ru-RU" sz="3600" spc="-1" strike="noStrike">
                  <a:solidFill>
                    <a:srgbClr val="000000"/>
                  </a:solidFill>
                  <a:latin typeface="Georgia"/>
                </a:rPr>
                <a:t>- </a:t>
              </a:r>
              <a:r>
                <a:rPr b="1" lang="ru-RU" sz="3200" spc="-1" strike="noStrike">
                  <a:solidFill>
                    <a:srgbClr val="000000"/>
                  </a:solidFill>
                  <a:latin typeface="Georgia"/>
                </a:rPr>
                <a:t>система интеллектуальных свойств личности, формирующихся качеств ума, от которых зависит продуктивность учебной деятельност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ОБУЧЕННОСТЬ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ru-RU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Georgia"/>
                </a:rPr>
                <a:t>объём знаний, умений, навыков, имеющихся к сегодняшнему дн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Содержимое 2"/>
          <p:cNvGrpSpPr/>
          <p:nvPr/>
        </p:nvGrpSpPr>
        <p:grpSpPr>
          <a:xfrm>
            <a:off x="30240" y="878040"/>
            <a:ext cx="8675640" cy="6022800"/>
            <a:chOff x="30240" y="878040"/>
            <a:chExt cx="8675640" cy="6022800"/>
          </a:xfrm>
        </p:grpSpPr>
        <p:pic>
          <p:nvPicPr>
            <p:cNvPr id="243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0240" y="878040"/>
              <a:ext cx="8675640" cy="60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7200" y="990720"/>
              <a:ext cx="8229600" cy="55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ПОЗНАВАТЕЛЬНЫЕ ИНТЕРЕСЫ –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избирательная направленность психических процессов человека на предметы и явления окружающего мира, при которой наблюдается стремление личности заниматься определенной областью деятельност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Содержимое 2"/>
          <p:cNvGrpSpPr/>
          <p:nvPr/>
        </p:nvGrpSpPr>
        <p:grpSpPr>
          <a:xfrm>
            <a:off x="66600" y="579600"/>
            <a:ext cx="8643960" cy="5778360"/>
            <a:chOff x="66600" y="579600"/>
            <a:chExt cx="8643960" cy="5778360"/>
          </a:xfrm>
        </p:grpSpPr>
        <p:pic>
          <p:nvPicPr>
            <p:cNvPr id="24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66600" y="579600"/>
              <a:ext cx="8643960" cy="57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57200" y="609480"/>
              <a:ext cx="8229600" cy="54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СПОСОБЫ ДИФФЕРЕНЦИАЦ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1317ad"/>
                  </a:solidFill>
                  <a:latin typeface="Times New Roman"/>
                  <a:ea typeface="Times New Roman"/>
                </a:rPr>
                <a:t>УЧЕБНОЙ ДЕЯТЕЛЬНОСТ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1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ПО СОДЕРЖАНИЮ   </a:t>
              </a:r>
              <a:r>
                <a:rPr b="1" lang="ru-RU" sz="31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ПО СПОСОБУ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1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УЧЕБНЫХ ЗАДАНИЙ </a:t>
              </a:r>
              <a:r>
                <a:rPr b="1" lang="ru-RU" sz="31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ОРГАНИЗАЦИИ</a:t>
              </a:r>
              <a:r>
                <a:rPr b="1" lang="ru-RU" sz="31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1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                                       </a:t>
              </a:r>
              <a:r>
                <a:rPr b="1" lang="ru-RU" sz="31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ДЕЯТЕЛЬНОСТИ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8" name="Прямая со стрелкой 16"/>
          <p:cNvCxnSpPr/>
          <p:nvPr/>
        </p:nvCxnSpPr>
        <p:spPr>
          <a:xfrm flipH="1">
            <a:off x="2742480" y="2437200"/>
            <a:ext cx="160092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Прямая со стрелкой 18"/>
          <p:cNvCxnSpPr/>
          <p:nvPr/>
        </p:nvCxnSpPr>
        <p:spPr>
          <a:xfrm>
            <a:off x="5029200" y="2437920"/>
            <a:ext cx="175320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09-01-31T00:14:30Z</dcterms:modified>
  <cp:revision>63</cp:revision>
  <dc:subject/>
  <dc:title>Слайд 1</dc:title>
</cp:coreProperties>
</file>