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49B0-B861-4A79-BDAD-655D919B9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33AE-3E19-48AE-B61B-C5ECD4C15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0C64-5CA3-4AE5-AF6F-E98824233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B2A5-6B97-46E0-BC29-CF1C6F031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2968-9FC8-4778-91D2-AF6F3A0AF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533B-6B7E-4318-A8CE-D0BE40DB0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5201-4E7F-4054-9301-0AFC077DD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8884-723B-4E0C-AFFE-9CAB51F40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CADA-2BCB-4E51-973C-EC5E180C3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123B-EEDA-42F2-848E-2BD56C437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669E-95FB-4213-8858-D5EE319A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0A13-7E93-4FD6-BA11-BED114C8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654E9-476D-4D9C-A98D-97604151B6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14240"/>
            <a:ext cx="7772400" cy="18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98989"/>
                </a:solidFill>
                <a:latin typeface="Calibri"/>
              </a:rPr>
              <a:t>МЯГКИЙ ЗНАК ПОСЛЕ ШИПЯЩИХ В РАЗЛИЧНЫХ ЧАСТЯХ РЕЧ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Графическое обоснование орфограм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Игра не стоит свеч…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Хлеб – соль еш…,а правду реж…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Хорош… калач…, пока горяч…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.Что людям пожелаеш…, то и сам получиш…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абота с таблицей. Распределительный диктант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устая рож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боишься врач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ёрный у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еречь д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асивая реч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сёшься вскач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рячьте находк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крыть настеж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реди рощ и ча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рашных чудови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воришь невер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ворческая рабо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вариант-сущ.     Тихий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ожево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ащ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вариант-прил.    свеж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ягуч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лестящ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вариант –глаг.    сберега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ери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маз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 вариант- нареч .отмахиватьс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льзя терпе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кач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огогри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реч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gos –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«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лово»+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riphos 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загадка» -поиск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гаданного слова и образование от него новых путё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естановки или выбрасывания отдельных слогов и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уквы – река, без двух – местоимение, без трёх – предлог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крона – Рона –она –н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ЛЬ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Повторить и обобщить учебный материал по тем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Проверить уровень усвоения нового материа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Усвоение алгоритмических  образцов рассужд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ыборочный диктан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обенно красива наша усад…ба весной. Ветви сире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крывают вес…  дом. Июн…ским вечером кисти белы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ветов выделяют…ся на тёмной зелени. Если поран…ш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стат…,  можно пойти встретит… зор…ку. Бол..шую радост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учаю от общения с природой. Каждая веточ..ка, знаком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опиноч…ка радует сердц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тограм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реч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t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«переход»+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amm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« буква» - замен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слове одной буквы другой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л – кол – мол –вол – дол – го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 третьей буквы алфави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Я больных леч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 с четвёрто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Я весною прилеч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гадки, пословицы, словесные игр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В работе очень я горяч( ).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укой дотронеш( )ся –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оть плач ( 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Если ей работу даш ( )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ря трудился карандаш (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Низок, да колюч ( 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ладок, да колюч ( 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Ягоды сорвёш ( ) 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сю руку обдерёш ( 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.День да ноч ( ) – сутки проч( 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.Замуж( ) идти – не мёд пить, а слёзы ли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бота с таблиц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85840" y="1571760"/>
          <a:ext cx="8715240" cy="5000400"/>
        </p:xfrm>
        <a:graphic>
          <a:graphicData uri="http://schemas.openxmlformats.org/drawingml/2006/table">
            <a:tbl>
              <a:tblPr/>
              <a:tblGrid>
                <a:gridCol w="1392120"/>
                <a:gridCol w="1244520"/>
                <a:gridCol w="1176480"/>
                <a:gridCol w="741240"/>
                <a:gridCol w="1498680"/>
                <a:gridCol w="1447920"/>
                <a:gridCol w="1214280"/>
              </a:tblGrid>
              <a:tr h="744480">
                <a:tc gridSpan="7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                            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асть   ре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7920">
                <a:tc gridSpan="2">
                  <a:txBody>
                    <a:bodyPr lIns="68760" rIns="68760" tIns="0" bIns="0" anchor="t">
                      <a:noAutofit/>
                    </a:bodyPr>
                    <a:p>
                      <a:pPr marL="684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мя существитель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раткие прилага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глаго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ареч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8000">
                <a:tc>
                  <a:txBody>
                    <a:bodyPr lIns="68760" rIns="68760" tIns="0" bIns="0" anchor="t">
                      <a:noAutofit/>
                    </a:bodyPr>
                    <a:p>
                      <a:pPr marL="684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684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к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к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.ф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 л., ед.ч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овели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аклон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0000">
                <a:tc>
                  <a:txBody>
                    <a:bodyPr lIns="68760" rIns="68760" tIns="0" bIns="0" anchor="t">
                      <a:noAutofit/>
                    </a:bodyPr>
                    <a:p>
                      <a:pPr marL="684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аранда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684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рач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684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гра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оч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горя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аху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олю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и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ли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отронешь-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орвёш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аш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бдерёш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лач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Замуж (искл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общённый алгорит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C:\Documents and Settings\Галина Павловна\Рабочий стол\img056.jpg"/>
          <p:cNvPicPr/>
          <p:nvPr/>
        </p:nvPicPr>
        <p:blipFill>
          <a:blip r:embed="rId1"/>
          <a:stretch/>
        </p:blipFill>
        <p:spPr>
          <a:xfrm>
            <a:off x="714240" y="1714680"/>
            <a:ext cx="785844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устного рассужд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ж… небо осенью дышало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ж.. Реже солнышко блистало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роче становился день.(А.С.Пушкин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ж- наречие, исключение, следовательно, после ж мягкий знак не пишем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ловарный диктант с комментированием по алгоритм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2356920"/>
            <a:ext cx="82296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ч…, видиш…, скрипуч…, настеж…, еш…,луч…,луж…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ткнёш…, пляж…,карандаш…,замуж…,навзнич…,стереч…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4T18:16:22Z</dcterms:created>
  <dc:creator>Галина Павловна</dc:creator>
  <dc:description/>
  <dc:language>en-US</dc:language>
  <cp:lastModifiedBy>Резницкая</cp:lastModifiedBy>
  <dcterms:modified xsi:type="dcterms:W3CDTF">2009-01-29T06:57:52Z</dcterms:modified>
  <cp:revision>20</cp:revision>
  <dc:subject/>
  <dc:title>ТЕМА УРОКА:</dc:title>
</cp:coreProperties>
</file>