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4.png" ContentType="image/png"/>
  <Override PartName="/ppt/media/image10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wind.wav" ContentType="audio/x-wav"/>
  <Override PartName="/ppt/media/image6.png" ContentType="image/png"/>
  <Override PartName="/ppt/media/image21.gif" ContentType="image/gif"/>
  <Override PartName="/ppt/media/image19.gif" ContentType="image/gif"/>
  <Override PartName="/ppt/media/image1.gif" ContentType="image/gif"/>
  <Override PartName="/ppt/media/image16.gif" ContentType="image/gif"/>
  <Override PartName="/ppt/media/image9.jpeg" ContentType="image/jpeg"/>
  <Override PartName="/ppt/media/image18.gif" ContentType="image/gif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411-3C94-4F03-A596-5571C55C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972-9FF9-499C-9BBE-569C3442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68B-F7F3-4DA9-896F-E9A48B50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CA3-ABF8-4B22-9EFF-569C5177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2EF-5883-4C49-B9EE-535F28C1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911-E3FC-4291-8753-332734BC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E54-E598-418A-B932-47DEBAB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EAD-E709-444A-90AF-BDD21555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ED1-238E-448F-BD38-12DC45A8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E86-53C3-4A4F-ACA8-C3AF5C06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CFE-5D8E-4AF7-8A5D-9B075A3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3B7-B290-40C1-A66D-25715DA9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20C-F5DD-4417-B345-F0EE012B8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audio" Target="file:///tmp/home/.config/libreoffice/4/user/gallery/drumroll.wav" TargetMode="External"/><Relationship Id="rId5" Type="http://schemas.microsoft.com/office/2007/relationships/media" Target="file:///tmp/home/.config/libreoffice/4/user/gallery/drumroll.wav" TargetMode="External"/><Relationship Id="rId6" Type="http://schemas.openxmlformats.org/officeDocument/2006/relationships/image" Target="../media/image6.pn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60072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476280"/>
            <a:ext cx="727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цент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71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1/100= 1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764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Arial"/>
              </a:rPr>
              <a:t>0,01=1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2089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Правила перевода десятичной</a:t>
            </a: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дроби в проц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О, 85 * 100 = 85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,25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0,4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,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3456000" cy="293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Правила перевода процентов в десятичные др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45%= 45 : 100 =0,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24,5%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5%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1,2%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56000" cy="25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Forte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1600200"/>
          <a:ext cx="8507520" cy="4525920"/>
        </p:xfrm>
        <a:graphic>
          <a:graphicData uri="http://schemas.openxmlformats.org/drawingml/2006/table">
            <a:tbl>
              <a:tblPr/>
              <a:tblGrid>
                <a:gridCol w="2376720"/>
                <a:gridCol w="720720"/>
                <a:gridCol w="1008000"/>
                <a:gridCol w="718920"/>
                <a:gridCol w="936720"/>
                <a:gridCol w="936720"/>
                <a:gridCol w="790560"/>
                <a:gridCol w="1019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,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оц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опросы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Что называют процен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 обратить десятичную дробь в проце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 перевести проценты в десятичную дроб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80000" y="4076640"/>
            <a:ext cx="1930320" cy="2497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788000" y="234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191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508720" y="1844640"/>
            <a:ext cx="2270160" cy="2808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39840" y="538200"/>
            <a:ext cx="473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87280" y="4581360"/>
            <a:ext cx="6769440" cy="20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0"/>
            <a:ext cx="6192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33"/>
                </a:solidFill>
                <a:latin typeface="Arial"/>
              </a:rPr>
              <a:t>Очень хорош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91628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ff"/>
                </a:solidFill>
                <a:latin typeface="Arial"/>
              </a:rPr>
              <a:t>Вы изучили проц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474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08720" y="765000"/>
            <a:ext cx="1846080" cy="2519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26920" y="981000"/>
            <a:ext cx="3457800" cy="4896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1628640"/>
            <a:ext cx="244800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Дома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98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8360" y="6391440"/>
            <a:ext cx="8207280" cy="13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50920" y="5516640"/>
            <a:ext cx="6192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4444E-006 1.48148E-006 L 0.94879 1.48148E-006 E">
                                      <p:cBhvr>
                                        <p:cTn id="210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зн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десятичную дробь в 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обыкновенную дробь в 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проценты в обыкновен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УЧИТЬСЯ переводить проценты в десятич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8360" y="1600200"/>
          <a:ext cx="3095640" cy="43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600200"/>
                    <a:ext cx="309564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3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1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9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 №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ыясните, в каком кружке верно записано число, нажмите букву, ему соответствующую. В результате получите слово, которое мы будем использовать в дальнейшем на уроках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1) Пять целых две деся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2) Нуль целых восемь тыся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Arial"/>
              </a:rPr>
              <a:t>3) Три целых двадцать пять 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4) Шестнадцать целых пять со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5) Восемнадцать целых восемь сот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6) Пять целых пятнадцать десяти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7) Тридцать четыре целых сто пять тыся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9162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67640" y="1916280"/>
            <a:ext cx="720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91628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1636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5964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459640" y="184464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256536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637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2637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c40839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435640" y="2637000"/>
            <a:ext cx="36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20000" y="2637000"/>
            <a:ext cx="28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8360" y="2637000"/>
            <a:ext cx="28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213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335772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3357720"/>
            <a:ext cx="720720" cy="64764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16360" y="3284640"/>
            <a:ext cx="295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12000" y="3357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67640" y="3357720"/>
            <a:ext cx="20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3933720"/>
            <a:ext cx="7207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3933720"/>
            <a:ext cx="72072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3860640"/>
            <a:ext cx="720720" cy="648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00720" y="4005360"/>
            <a:ext cx="792360" cy="647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093080" y="4076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19640" y="4005360"/>
            <a:ext cx="19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748720" y="393372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4653000"/>
            <a:ext cx="72072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4724280"/>
            <a:ext cx="720720" cy="64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021360"/>
            <a:ext cx="100944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6021360"/>
            <a:ext cx="100800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5300640"/>
            <a:ext cx="93672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4581360"/>
            <a:ext cx="863640" cy="719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,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6093000"/>
            <a:ext cx="1152360" cy="57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,0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5300640"/>
            <a:ext cx="108108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5373720"/>
            <a:ext cx="1008000" cy="64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292720" y="6093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04000" y="609300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677440" y="6093000"/>
            <a:ext cx="32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27640" y="53006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940360" y="5373720"/>
            <a:ext cx="20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451640" y="537372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88000" y="465300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372360" y="4653000"/>
            <a:ext cx="2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604360" y="47242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907920"/>
            <a:ext cx="871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! Ответ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2060640"/>
            <a:ext cx="82821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ц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40360" y="4527720"/>
            <a:ext cx="2521080" cy="21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Задание №4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ереведите десятичные дроби в обыкновенные. Вы узнаете, кто впервые ввел понятие «процен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)  1/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) 3/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 1/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) 4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5) 2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6)10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7) 12/2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loud"/>
          <p:cNvSpPr/>
          <p:nvPr/>
        </p:nvSpPr>
        <p:spPr>
          <a:xfrm>
            <a:off x="1835280" y="1916280"/>
            <a:ext cx="122400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"/>
          <p:cNvSpPr/>
          <p:nvPr/>
        </p:nvSpPr>
        <p:spPr>
          <a:xfrm>
            <a:off x="1835280" y="5445000"/>
            <a:ext cx="1008000" cy="67644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loud"/>
          <p:cNvSpPr/>
          <p:nvPr/>
        </p:nvSpPr>
        <p:spPr>
          <a:xfrm>
            <a:off x="3203640" y="2349360"/>
            <a:ext cx="936720" cy="627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>
            <a:off x="2771640" y="3573360"/>
            <a:ext cx="129564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>
            <a:off x="1979640" y="4292640"/>
            <a:ext cx="107964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2050920" y="2997360"/>
            <a:ext cx="115272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9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"/>
          <p:cNvSpPr/>
          <p:nvPr/>
        </p:nvSpPr>
        <p:spPr>
          <a:xfrm>
            <a:off x="2916360" y="4869000"/>
            <a:ext cx="115092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>
            <a:off x="5435640" y="2492280"/>
            <a:ext cx="1079640" cy="6238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"/>
          <p:cNvSpPr/>
          <p:nvPr/>
        </p:nvSpPr>
        <p:spPr>
          <a:xfrm>
            <a:off x="7667640" y="2421000"/>
            <a:ext cx="1154160" cy="627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loud"/>
          <p:cNvSpPr/>
          <p:nvPr/>
        </p:nvSpPr>
        <p:spPr>
          <a:xfrm>
            <a:off x="4716360" y="1916280"/>
            <a:ext cx="93528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"/>
          <p:cNvSpPr/>
          <p:nvPr/>
        </p:nvSpPr>
        <p:spPr>
          <a:xfrm>
            <a:off x="6948360" y="1916280"/>
            <a:ext cx="935280" cy="626760"/>
          </a:xfrm>
          <a:prstGeom prst="pi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4500720" y="2997360"/>
            <a:ext cx="93636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6516720" y="2924280"/>
            <a:ext cx="936720" cy="6285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5796000" y="3573360"/>
            <a:ext cx="100800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7956720" y="3500280"/>
            <a:ext cx="1008000" cy="676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4572000" y="4292640"/>
            <a:ext cx="107964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loud"/>
          <p:cNvSpPr/>
          <p:nvPr/>
        </p:nvSpPr>
        <p:spPr>
          <a:xfrm>
            <a:off x="6804000" y="4292640"/>
            <a:ext cx="1297080" cy="676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loud"/>
          <p:cNvSpPr/>
          <p:nvPr/>
        </p:nvSpPr>
        <p:spPr>
          <a:xfrm>
            <a:off x="5580000" y="4869000"/>
            <a:ext cx="107964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7885080" y="4869000"/>
            <a:ext cx="1008000" cy="676080"/>
          </a:xfrm>
          <a:prstGeom prst="pi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995640" y="5516640"/>
            <a:ext cx="1297080" cy="67608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loud"/>
          <p:cNvSpPr/>
          <p:nvPr/>
        </p:nvSpPr>
        <p:spPr>
          <a:xfrm>
            <a:off x="6443640" y="5516640"/>
            <a:ext cx="1297080" cy="67608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,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67640" y="1628640"/>
            <a:ext cx="43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300720" y="2276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08720" y="2852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80000" y="177336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771640" y="1844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95640" y="2349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640720" y="342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87640" y="292428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148360" y="3141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588000" y="357336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35640" y="4076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85080" y="414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640720" y="486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40720" y="5661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80000" y="3573360"/>
            <a:ext cx="50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43280" y="414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4653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71640" y="558972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40720" y="2349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19640" y="530064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16720" y="486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image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11280" y="476280"/>
            <a:ext cx="8388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! Ответ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19280" y="3168720"/>
            <a:ext cx="64087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имлян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Brush Script MT"/>
              </a:rPr>
              <a:t>Из истории мате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Древнем риме была интересная система дробей. Она основывалась на делении на 12 долей единицы веса, которая называлась асс. Двенадцатую долю асса называли унцией. А путь, время и другие величины сравнивали с наглядной вещью- весом. В ходу были такие названия : «семис»-половина асса, «сектанс» - шестая доля, «семиунция»- полунции и тд. Чтобы работать с дробями, нужно было помнить таблицу сложения, умножения. Для облегчения работы составляли специальные таблицы, некоторые из которых дошли до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59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-за того, что в двенадцатиричной системе нет дробей со знаменателями 10 или 100, римляне затруднялись делить на 10, 100 и т.д. При делении 1001 асса на 100 один римский математик сначала получил 10 ассов, потом раздробил асс на унции и тд. Но от остатка не избавился. Чтобы не иметь дела с такими величинами, римляне стали использовать проценты. Они брали с должника лихву ( то есть деньги сверх того, что было дано в долг). При этом говорили : « не лихва составит 16 сотых суммы долга», а « на каждые 100 сестерциев долга заплатишь 16 сестерциев лихвы». И сказано то же самое и дробей использовать не пришлось! Так как « на сто» звучали по-латыни « про центум», то сотую часть и стали называть процентом». И хотя теперь дроби, а особенно десятичные, известны всем, проценты все-таки применяются и в финансовых отчетах, и в планировании, то есть в различных областях челове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366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4:46:11Z</dcterms:created>
  <dc:creator>Дима</dc:creator>
  <dc:description/>
  <dc:language>en-US</dc:language>
  <cp:lastModifiedBy>Дима</cp:lastModifiedBy>
  <dcterms:modified xsi:type="dcterms:W3CDTF">2009-01-29T18:35:07Z</dcterms:modified>
  <cp:revision>6</cp:revision>
  <dc:subject/>
  <dc:title>Слайд 1</dc:title>
</cp:coreProperties>
</file>