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jpeg" ContentType="image/jpeg"/>
  <Override PartName="/ppt/media/image9.wmf" ContentType="image/x-wmf"/>
  <Override PartName="/ppt/media/image14.jpeg" ContentType="image/jpeg"/>
  <Override PartName="/ppt/media/image5.gif" ContentType="image/gif"/>
  <Override PartName="/ppt/media/image8.png" ContentType="image/png"/>
  <Override PartName="/ppt/media/image10.wmf" ContentType="image/x-wmf"/>
  <Override PartName="/ppt/media/image2.png" ContentType="image/png"/>
  <Override PartName="/ppt/media/image25.jpeg" ContentType="image/jpeg"/>
  <Override PartName="/ppt/media/image17.jpeg" ContentType="image/jpeg"/>
  <Override PartName="/ppt/media/image3.png" ContentType="image/png"/>
  <Override PartName="/ppt/media/image11.wmf" ContentType="image/x-wmf"/>
  <Override PartName="/ppt/media/image13.png" ContentType="image/png"/>
  <Override PartName="/ppt/media/image7.wmf" ContentType="image/x-wmf"/>
  <Override PartName="/ppt/media/image30.png" ContentType="image/png"/>
  <Override PartName="/ppt/media/image4.wmf" ContentType="image/x-wmf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media/image19.png" ContentType="image/png"/>
  <Override PartName="/ppt/media/image6.gif" ContentType="image/gif"/>
  <Override PartName="/ppt/media/image21.jpeg" ContentType="image/jpeg"/>
  <Override PartName="/ppt/media/image12.png" ContentType="image/png"/>
  <Override PartName="/ppt/media/image23.jpeg" ContentType="image/jpeg"/>
  <Override PartName="/ppt/media/image24.jpeg" ContentType="image/jpeg"/>
  <Override PartName="/ppt/media/image26.jpeg" ContentType="image/jpeg"/>
  <Override PartName="/ppt/media/image27.jpeg" ContentType="image/jpeg"/>
  <Override PartName="/ppt/media/image2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7D02-CA5B-460A-BCD9-D49441BFB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3B0E-ABA2-4F12-AA57-B126A5DC2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4940-3B9A-4303-BACE-4181C4C8E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6A7C-2140-43BB-9B2F-5F55C1B1E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90F79-8823-417A-9E35-FB9D5836C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0683F-EC3B-44DE-9B8A-97BB15011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213BD-0211-4322-AD72-CED8716E2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B1ABF-54D1-42E7-8ACB-C7CF307EF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68D74-89EC-4EC8-9E6C-4BD1C8394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1F284-DAB8-4C92-8BDA-034EFE546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72F56-E2C0-4D35-A8BA-BF5BD853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D70E-02AB-4054-9C3A-1A4BAF374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7AAE0-E309-4901-8847-E691FA67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AB90E-3A3D-4012-8C06-D506E660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512DB-6127-467D-890A-7497BF4FD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3846C-4F26-4B95-9BC8-FFCD762CB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F05EC-844E-4AE8-850E-F659BDA5C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2170-A2CD-4F7B-9D9D-8772F8EE3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4C2B-4586-4BC2-ACD0-601D101D4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8853-E588-488A-9D9A-2A8059268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796D-CF49-4D31-A22D-628A64D0C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6357-2C11-4068-8B8B-B43536EF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686A-B7D1-4473-B042-2587E845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B667-EDA4-4704-85D8-81C400DE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01C69-5880-4FE5-9E69-5A1F2B524FB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162D9-D0CA-455C-9368-2534E65B3C2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348000" y="5589720"/>
            <a:ext cx="561672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99"/>
                </a:solidFill>
                <a:latin typeface="Monotype Corsiva"/>
              </a:rPr>
              <a:t>ДОУ № 4 «Сказка»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304920" y="1844640"/>
          <a:ext cx="839304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844640"/>
                    <a:ext cx="839304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Monotype Corsiva"/>
              </a:rPr>
              <a:t>Что такое радость?</a:t>
            </a:r>
            <a:br>
              <a:rPr sz="4000"/>
            </a:br>
            <a:r>
              <a:rPr b="1" i="1" lang="en-US" sz="2800" spc="-1" strike="noStrike">
                <a:solidFill>
                  <a:srgbClr val="333399"/>
                </a:solidFill>
                <a:latin typeface="Monotype Corsiva"/>
              </a:rPr>
              <a:t>РЕЗУЛЬТАТЫ ОТВЕТОВ </a:t>
            </a:r>
            <a:r>
              <a:rPr b="1" i="1" lang="en-US" sz="2800" spc="-1" strike="noStrike" u="sng">
                <a:solidFill>
                  <a:srgbClr val="333399"/>
                </a:solidFill>
                <a:uFillTx/>
                <a:latin typeface="Monotype Corsiva"/>
              </a:rPr>
              <a:t>РОДИТЕЛЕЙ</a:t>
            </a:r>
            <a:br>
              <a:rPr sz="2800"/>
            </a:br>
            <a:r>
              <a:rPr b="1" i="1" lang="en-US" sz="2000" spc="-1" strike="noStrike">
                <a:solidFill>
                  <a:srgbClr val="333399"/>
                </a:solidFill>
                <a:latin typeface="Monotype Corsiva"/>
              </a:rPr>
              <a:t>(в % от общего количества, которые приняли участие в форуме)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7020000" y="3284640"/>
            <a:ext cx="1247760" cy="1944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395280" y="2205000"/>
          <a:ext cx="7848720" cy="41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205000"/>
                    <a:ext cx="784872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Monotype Corsiva"/>
              </a:rPr>
              <a:t>Что такое радость?</a:t>
            </a:r>
            <a:br>
              <a:rPr sz="4000"/>
            </a:br>
            <a:r>
              <a:rPr b="1" i="1" lang="en-US" sz="2800" spc="-1" strike="noStrike">
                <a:solidFill>
                  <a:srgbClr val="333399"/>
                </a:solidFill>
                <a:latin typeface="Monotype Corsiva"/>
              </a:rPr>
              <a:t>РЕЗУЛЬТАТЫ ОТВЕТОВ </a:t>
            </a:r>
            <a:r>
              <a:rPr b="1" i="1" lang="en-US" sz="2800" spc="-1" strike="noStrike" u="sng">
                <a:solidFill>
                  <a:srgbClr val="333399"/>
                </a:solidFill>
                <a:uFillTx/>
                <a:latin typeface="Monotype Corsiva"/>
              </a:rPr>
              <a:t>ПЕДАГОГОВ</a:t>
            </a:r>
            <a:br>
              <a:rPr sz="2800"/>
            </a:br>
            <a:r>
              <a:rPr b="1" i="1" lang="en-US" sz="2000" spc="-1" strike="noStrike">
                <a:solidFill>
                  <a:srgbClr val="333399"/>
                </a:solidFill>
                <a:latin typeface="Monotype Corsiva"/>
              </a:rPr>
              <a:t>(в % от общего количества, которые приняли участие в форуме)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6877080" y="4292640"/>
            <a:ext cx="1739880" cy="12571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Monotype Corsiva"/>
              </a:rPr>
              <a:t>«Если ваша жизнь потускнела, просто сотрите с нее пыль»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Психологическая акция  «Цвет дня»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29160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Участвовали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воспитанники средних, старших, подготовительных групп, воспитател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Monotype Corsiva"/>
              </a:rPr>
              <a:t>Результат: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В нашем детском саду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живет солнечное настроени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55640" y="4581360"/>
            <a:ext cx="1684440" cy="1943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Monotype Corsiva"/>
              </a:rPr>
              <a:t>«Детский сад - это мы»</a:t>
            </a:r>
            <a:r>
              <a:rPr b="1" lang="en-US" sz="3200" spc="-1" strike="noStrike">
                <a:solidFill>
                  <a:srgbClr val="333399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35344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Игра «Мы строим дом» (сотворение детского сада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Команды: «Отдел кадров»,«Идеологи», «Строители» </a:t>
            </a: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(смотреть слева направо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258920" y="5013360"/>
            <a:ext cx="2016000" cy="15717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80000" y="5084640"/>
            <a:ext cx="2016000" cy="15130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6372360" y="5084640"/>
            <a:ext cx="2016000" cy="15130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3564000" y="2708280"/>
            <a:ext cx="1873080" cy="1333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Monotype Corsiva"/>
              </a:rPr>
              <a:t>«Детский сад - это мы»</a:t>
            </a:r>
            <a:r>
              <a:rPr b="1" lang="en-US" sz="3200" spc="-1" strike="noStrike">
                <a:solidFill>
                  <a:srgbClr val="333399"/>
                </a:solidFill>
                <a:latin typeface="Monotype Corsiv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Monotype Corsiva"/>
              </a:rPr>
              <a:t>Результаты игры 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468144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Детский сад – это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дом радости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«вторая семья»  для ребенка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дом добра, дружбы, сотрудничества, любви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187280" y="4221000"/>
            <a:ext cx="2641680" cy="1981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859280" y="2349360"/>
            <a:ext cx="3673440" cy="27561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7812000" y="5877000"/>
            <a:ext cx="863640" cy="5652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Monotype Corsiva"/>
              </a:rPr>
              <a:t>«Детский сад - это …..»</a:t>
            </a:r>
            <a:r>
              <a:rPr b="1" lang="en-US" sz="3200" spc="-1" strike="noStrike">
                <a:solidFill>
                  <a:srgbClr val="333399"/>
                </a:solidFill>
                <a:latin typeface="Monotype Corsiv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Monotype Corsiva"/>
              </a:rPr>
              <a:t>Результаты игр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Детский сад создан для того, чтобы помочь родителям вырастить здорового, воспитанного, образованного человека!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085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А детям, чтобы радостно и счастливо прожить свое детство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54900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Monotype Corsiva"/>
              </a:rPr>
              <a:t>«Узнай больше!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Викторина «Мой любимый Детский сад»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Победители были награждены грамотам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332000" y="3500280"/>
            <a:ext cx="2952720" cy="22147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003640" y="4005360"/>
            <a:ext cx="3110040" cy="2332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Monotype Corsiva"/>
              </a:rPr>
              <a:t>ГРАМОТ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50920" y="2357280"/>
            <a:ext cx="2738520" cy="42404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3203640" y="2357280"/>
            <a:ext cx="2738520" cy="42404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6156360" y="2357280"/>
            <a:ext cx="2738520" cy="4240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227640" y="2205000"/>
            <a:ext cx="2665440" cy="1998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95280" y="4508640"/>
            <a:ext cx="2597040" cy="19476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3276720" y="2276640"/>
            <a:ext cx="2520720" cy="1890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6227640" y="4508640"/>
            <a:ext cx="2665440" cy="19983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395280" y="2276640"/>
            <a:ext cx="2592360" cy="19443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-532800" y="836640"/>
            <a:ext cx="1103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Monotype Corsiva"/>
              </a:rPr>
              <a:t>Работали дружно и вот результат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987640" y="4436640"/>
            <a:ext cx="32400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onotype Corsiva"/>
              </a:rPr>
              <a:t>«Жизнь не те дни, что прошли,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Monotype Corsiva"/>
              </a:rPr>
              <a:t>а те, что запомнились!»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slow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Monotype Corsiva"/>
              </a:rPr>
              <a:t>О СЕБЕ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4000" y="2636640"/>
            <a:ext cx="518472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зентация подготовлен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ихайлик Светланой Юрьевной педагогом психологом муниципального дошкольного образовательного учреждени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тский сад комбинированного вида № 4 «Сказка»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ТО г. Заозерск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урманской обла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692680" y="2017800"/>
            <a:ext cx="3194280" cy="38592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Monotype Corsiva"/>
              </a:rPr>
              <a:t>11-15 февраля 2008 года</a:t>
            </a:r>
            <a:br>
              <a:rPr sz="4400"/>
            </a:br>
            <a:r>
              <a:rPr b="1" i="1" lang="en-US" sz="4400" spc="-1" strike="noStrike">
                <a:solidFill>
                  <a:srgbClr val="ff0000"/>
                </a:solidFill>
                <a:latin typeface="Monotype Corsiva"/>
              </a:rPr>
              <a:t>Неделя Психологи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9280" y="2421000"/>
            <a:ext cx="72010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Monotype Corsiva"/>
              </a:rPr>
              <a:t>Повысить интерес субъектов воспитательно-образовательного процесса к психолог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Monotype Corsiva"/>
              </a:rPr>
              <a:t>Показать реальные формы работы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Monotype Corsiva"/>
              </a:rPr>
              <a:t>возможности педагога-психолога детского сад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Monotype Corsiva"/>
              </a:rPr>
              <a:t>Познакомиться с педагогическим коллективом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Monotype Corsiva"/>
              </a:rPr>
              <a:t>родителя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659640" y="3645000"/>
            <a:ext cx="2955960" cy="16858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Monotype Corsiva"/>
              </a:rPr>
              <a:t>«НЕПОЗНАННАЯ ЖИЗНЬ НЕ СТОИТ ТОГО, ЧТОБЫ БЫТЬ ПРОЖИТОЙ»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03280" y="1989000"/>
            <a:ext cx="56862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Monotype Corsiva"/>
              </a:rPr>
              <a:t>Центральные мероприятия недели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ahoma"/>
              </a:rPr>
              <a:t>Понедельник: Форум «Что такое радость?»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Tahoma"/>
              </a:rPr>
              <a:t>Вторник: Психологическая акция. «Цвет дня»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ahoma"/>
              </a:rPr>
              <a:t>Среда: КТД «Мы строим дом» (сотворение детского сада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ahoma"/>
              </a:rPr>
              <a:t>Социологический опрос: «Детский сад для наших детей»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Tahoma"/>
              </a:rPr>
              <a:t>Четверг: Викторина «Мой любимый детский сад» (средний, старший дошкольный возраст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ahoma"/>
              </a:rPr>
              <a:t>Пятница: Подведение итогов. Награждение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94920" y="4797360"/>
            <a:ext cx="82803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Monotype Corsiva"/>
              </a:rPr>
              <a:t>Фоновые мероприятия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ahoma"/>
              </a:rPr>
              <a:t>Мудрые мысли выдающихся людей, рассказы-притчи, передвижные информационные бюллетен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ahoma"/>
              </a:rPr>
              <a:t>Развивающие занятия «Дружба», «Пойми меня» и т.д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55640" y="2637000"/>
            <a:ext cx="1778040" cy="1800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Monotype Corsiva"/>
              </a:rPr>
              <a:t>«ПОРАЗМЫШЛЯЙТЕ!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560" y="220500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Monotype Corsiva"/>
              </a:rPr>
              <a:t>МАГИЧЕСКАЯ ДЕСЯТКА": сосчитайте до десяти, прежде чем дать волю своему гневу, и он покажется вам нелепым.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Monotype Corsiva"/>
              </a:rPr>
              <a:t>У. Джем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Monotype Corsiva"/>
              </a:rPr>
              <a:t>Счастлив тот, кто счастлив у себя дом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Monotype Corsiva"/>
              </a:rPr>
              <a:t>Л. Н. Толсто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Monotype Corsiva"/>
              </a:rPr>
              <a:t>Годы детства - это прежде всего воспитание сердц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Monotype Corsiva"/>
              </a:rPr>
              <a:t>В. А. Сухомлински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172360" y="2565360"/>
            <a:ext cx="70164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Monotype Corsiva"/>
              </a:rPr>
              <a:t>ПОРАЗМЫШЛЯЙТЕ!</a:t>
            </a:r>
            <a:br>
              <a:rPr sz="4400"/>
            </a:br>
            <a:r>
              <a:rPr b="1" i="1" lang="en-US" sz="4400" spc="-1" strike="noStrike">
                <a:solidFill>
                  <a:srgbClr val="333399"/>
                </a:solidFill>
                <a:latin typeface="Monotype Corsiva"/>
              </a:rPr>
              <a:t>Притча о воспитании ребенка.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6920" y="227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Мать спросила у мудреца, когда лучше начинать воспитание ребенка. 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- Сколько ему лет? - спросил мудрец. 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- Пять. 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- Пять лет! Беги скорей домой!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2743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Ты уже на пять лет опоздала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Monotype Corsiva"/>
              </a:rPr>
              <a:t>ПОРАЗМЫШЛЯЙТЕ!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Monotype Corsiva"/>
              </a:rPr>
              <a:t>Кто такая МАМА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560" y="213372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Мам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 - это мягкая подушка, на ней так удобно поваляться перед сном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Мам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 - это теплая постелька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крючившись в неудобной позе, может просидеть сколько угодно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лишь бы я закрыл глаза и сладко засопел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Мама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 это энциклопедия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 ней есть ответы на любые бесконечные «Почему? Зачем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огда? Где? Кто? Куда?» и прочие детские мысли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Мам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 -  супер -мастер на все руки - починит любую игрушку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ключит любой телевизор или технику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Мам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и великий художник, и великий скульптор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если надо и начинающий шахматист;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се остальные дисциплины - в соответствии с аттестатом…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95280" y="4724280"/>
            <a:ext cx="863640" cy="5652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Monotype Corsiva"/>
              </a:rPr>
              <a:t>ПОРАЗМЫШЛЯЙТЕ!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Monotype Corsiva"/>
              </a:rPr>
              <a:t>Кто такая МАМА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42920" y="1844640"/>
            <a:ext cx="791208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Мам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 - лучшая лестница на свете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тоит протянуть руки и басом завыть, как мама подхватит на руки и будет подносить тебя туда, куда ткнешь пальцем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Мам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самый лучший реставратор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на сможет склеить заново страничку из книжки, которую порвали на мелкие кусочки и раскидали по всей комнате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Мам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 - лучшая игровая площадка в мире!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Ее ноги не устают меня качать, по ней можно лазить со спины на шею и вообще по разному, и скатываться с ног как с горки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а главное это безопасно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Мам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 - лучший робот-манипулятор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на может одновременно делать двадцать дел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 при этом не спускать с меня глаз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Мам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 - это корабль, на котором я путешествую с детства и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оторый отправит меня потом в самостоятельное плавани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24000" y="4797360"/>
            <a:ext cx="863280" cy="5652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736640" y="1844640"/>
            <a:ext cx="7407360" cy="38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Участвовали ВСЕ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052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(дети, родители, воспитател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052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имели возможность высказать несколько точек зрения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4" marL="18309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39640" y="4292640"/>
            <a:ext cx="1785960" cy="2016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971280" y="260280"/>
            <a:ext cx="79930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Monotype Corsiva"/>
              </a:rPr>
              <a:t>ФОРУМ 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Monotype Corsiva"/>
              </a:rPr>
              <a:t>«Что такое РАДОСТЬ?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Monotype Corsiva"/>
              </a:rPr>
              <a:t>Что такое радость?</a:t>
            </a:r>
            <a:br>
              <a:rPr sz="4000"/>
            </a:br>
            <a:r>
              <a:rPr b="1" i="1" lang="en-US" sz="2800" spc="-1" strike="noStrike">
                <a:solidFill>
                  <a:srgbClr val="333399"/>
                </a:solidFill>
                <a:latin typeface="Monotype Corsiva"/>
              </a:rPr>
              <a:t>РЕЗУЛЬТАТЫ ОТВЕТОВ </a:t>
            </a:r>
            <a:r>
              <a:rPr b="1" i="1" lang="en-US" sz="2800" spc="-1" strike="noStrike" u="sng">
                <a:solidFill>
                  <a:srgbClr val="333399"/>
                </a:solidFill>
                <a:uFillTx/>
                <a:latin typeface="Monotype Corsiva"/>
              </a:rPr>
              <a:t>ВОСПИТАННИКОВ</a:t>
            </a:r>
            <a:br>
              <a:rPr sz="2800"/>
            </a:br>
            <a:r>
              <a:rPr b="1" i="1" lang="en-US" sz="2000" spc="-1" strike="noStrike">
                <a:solidFill>
                  <a:srgbClr val="333399"/>
                </a:solidFill>
                <a:latin typeface="Monotype Corsiva"/>
              </a:rPr>
              <a:t>(в % от общего количества, которые приняли участие в форуме)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717480" y="2209680"/>
          <a:ext cx="7929720" cy="405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2209680"/>
                    <a:ext cx="7929720" cy="40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6872400" y="4365720"/>
            <a:ext cx="1619280" cy="1727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6T14:48:34Z</dcterms:created>
  <dc:creator>Denis</dc:creator>
  <dc:description/>
  <dc:language>en-US</dc:language>
  <cp:lastModifiedBy>Бухгалтерия</cp:lastModifiedBy>
  <dcterms:modified xsi:type="dcterms:W3CDTF">2009-05-16T11:16:24Z</dcterms:modified>
  <cp:revision>26</cp:revision>
  <dc:subject/>
  <dc:title>НЕДЕЛЯ ПСИХОЛОГИИ  В ДОУ № 4 «СКАЗКА»</dc:title>
</cp:coreProperties>
</file>