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9.wmf" ContentType="image/x-wmf"/>
  <Override PartName="/ppt/media/image14.jpeg" ContentType="image/jpeg"/>
  <Override PartName="/ppt/media/image5.gif" ContentType="image/gif"/>
  <Override PartName="/ppt/media/image8.png" ContentType="image/png"/>
  <Override PartName="/ppt/media/image10.wmf" ContentType="image/x-wmf"/>
  <Override PartName="/ppt/media/image2.png" ContentType="image/png"/>
  <Override PartName="/ppt/media/image25.jpeg" ContentType="image/jpeg"/>
  <Override PartName="/ppt/media/image17.jpeg" ContentType="image/jpeg"/>
  <Override PartName="/ppt/media/image3.png" ContentType="image/png"/>
  <Override PartName="/ppt/media/image11.wmf" ContentType="image/x-wmf"/>
  <Override PartName="/ppt/media/image13.png" ContentType="image/png"/>
  <Override PartName="/ppt/media/image7.wmf" ContentType="image/x-wmf"/>
  <Override PartName="/ppt/media/image30.png" ContentType="image/png"/>
  <Override PartName="/ppt/media/image4.wmf" ContentType="image/x-wmf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19.png" ContentType="image/png"/>
  <Override PartName="/ppt/media/image6.gif" ContentType="image/gif"/>
  <Override PartName="/ppt/media/image21.jpeg" ContentType="image/jpeg"/>
  <Override PartName="/ppt/media/image12.png" ContentType="image/png"/>
  <Override PartName="/ppt/media/image23.jpeg" ContentType="image/jpeg"/>
  <Override PartName="/ppt/media/image24.jpeg" ContentType="image/jpeg"/>
  <Override PartName="/ppt/media/image26.jpeg" ContentType="image/jpeg"/>
  <Override PartName="/ppt/media/image27.jpeg" ContentType="image/jpeg"/>
  <Override PartName="/ppt/media/image2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9626-DBB9-477F-A565-AB0546991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802F-297D-4595-93AC-62279F4E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E13E-6C7B-4C54-A93A-CE3B3B24B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E759-0FCB-469A-BFDB-CAA6A14CE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C7A3-C2B5-4916-A23F-DD56C29F8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C102-83C3-4C90-B0D2-C3D1B5CC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718B-EFF0-4FC0-8216-E7A6B8BB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B571-75AA-4D4D-B2AF-84EE6D46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6A2E-E464-47E4-B88B-944C1ED5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CF95-A56A-4AFA-8FAB-3A144992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4148-7A3F-40C9-8180-DBDAC294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14B9-82ED-49E0-B88C-B8FB00C2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D909-7C73-43BD-832B-7750DD12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996D-FD20-447E-82EC-D0533582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A31B-D0F0-4843-ACC0-92CB7395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3C97-79B8-4D81-A858-1FED5E53C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2DD1-9BF1-4A55-853C-DC8A8CED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6E8E-39F8-45B8-8A42-71E45BBE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E725-E65D-46BA-945E-0197A354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65EB-E154-4FCD-B562-FE6A1C9C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A649-62B4-4D78-BAFE-168DA9BA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F560-9236-47CA-A493-180CF82C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9B3F-7424-4F63-A15F-A26F8437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970F-F74D-439E-9207-14A63BB1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5341-CB78-4AAC-9EE0-568E403974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9753-F5AF-46C5-9711-6D6F81B5DD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48000" y="5589720"/>
            <a:ext cx="561672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Monotype Corsiva"/>
              </a:rPr>
              <a:t>ДОУ № 4 «Сказка»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304920" y="1844640"/>
          <a:ext cx="839304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44640"/>
                    <a:ext cx="839304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Monotype Corsiva"/>
              </a:rPr>
              <a:t>Что такое радость?</a:t>
            </a:r>
            <a:br>
              <a:rPr sz="4000"/>
            </a:br>
            <a:r>
              <a:rPr b="1" i="1" lang="en-US" sz="2800" spc="-1" strike="noStrike">
                <a:solidFill>
                  <a:srgbClr val="333399"/>
                </a:solidFill>
                <a:latin typeface="Monotype Corsiva"/>
              </a:rPr>
              <a:t>РЕЗУЛЬТАТЫ ОТВЕТОВ </a:t>
            </a: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Monotype Corsiva"/>
              </a:rPr>
              <a:t>РОДИТЕЛЕЙ</a:t>
            </a:r>
            <a:br>
              <a:rPr sz="2800"/>
            </a:br>
            <a:r>
              <a:rPr b="1" i="1" lang="en-US" sz="2000" spc="-1" strike="noStrike">
                <a:solidFill>
                  <a:srgbClr val="333399"/>
                </a:solidFill>
                <a:latin typeface="Monotype Corsiva"/>
              </a:rPr>
              <a:t>(в % от общего количества, которые приняли участие в форуме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7020000" y="3284640"/>
            <a:ext cx="124776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395280" y="2205000"/>
          <a:ext cx="784872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05000"/>
                    <a:ext cx="784872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Monotype Corsiva"/>
              </a:rPr>
              <a:t>Что такое радость?</a:t>
            </a:r>
            <a:br>
              <a:rPr sz="4000"/>
            </a:br>
            <a:r>
              <a:rPr b="1" i="1" lang="en-US" sz="2800" spc="-1" strike="noStrike">
                <a:solidFill>
                  <a:srgbClr val="333399"/>
                </a:solidFill>
                <a:latin typeface="Monotype Corsiva"/>
              </a:rPr>
              <a:t>РЕЗУЛЬТАТЫ ОТВЕТОВ </a:t>
            </a: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Monotype Corsiva"/>
              </a:rPr>
              <a:t>ПЕДАГОГОВ</a:t>
            </a:r>
            <a:br>
              <a:rPr sz="2800"/>
            </a:br>
            <a:r>
              <a:rPr b="1" i="1" lang="en-US" sz="2000" spc="-1" strike="noStrike">
                <a:solidFill>
                  <a:srgbClr val="333399"/>
                </a:solidFill>
                <a:latin typeface="Monotype Corsiva"/>
              </a:rPr>
              <a:t>(в % от общего количества, которые приняли участие в форуме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877080" y="4292640"/>
            <a:ext cx="1739880" cy="1257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Monotype Corsiva"/>
              </a:rPr>
              <a:t>«Если ваша жизнь потускнела, просто сотрите с нее пыль»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Психологическая акция  «Цвет дня»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Участвовали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воспитанники средних, старших, подготовительных групп, воспитател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Monotype Corsiva"/>
              </a:rPr>
              <a:t>Результат: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В нашем детском сад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живет солнечное настроени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55640" y="4581360"/>
            <a:ext cx="1684440" cy="1943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«Детский сад - это мы»</a:t>
            </a: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3534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Игра «Мы строим дом» (сотворение детского сад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Команды: «Отдел кадров»,«Идеологи», «Строители» 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(смотреть слева направо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58920" y="5013360"/>
            <a:ext cx="2016000" cy="15717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80000" y="5084640"/>
            <a:ext cx="2016000" cy="1513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372360" y="5084640"/>
            <a:ext cx="2016000" cy="1513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564000" y="2708280"/>
            <a:ext cx="1873080" cy="1333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«Детский сад - это мы»</a:t>
            </a: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Результаты игры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681440" cy="28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етский сад – это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ом радости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«вторая семья»  для ребенк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ом добра, дружбы, сотрудничества, любв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87280" y="422100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859280" y="2349360"/>
            <a:ext cx="3673440" cy="27561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7812000" y="5877000"/>
            <a:ext cx="863640" cy="565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«Детский сад - это …..»</a:t>
            </a: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Результаты игр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Детский сад создан для того, чтобы помочь родителям вырастить здорового, воспитанного, образованного человека!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А детям, чтобы радостно и счастливо прожить свое детство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54900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«Узнай больше!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Викторина «Мой любимый Детский сад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Победители были награждены грамотам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32000" y="350028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003640" y="4005360"/>
            <a:ext cx="3110040" cy="2332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ГРАМО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50920" y="2357280"/>
            <a:ext cx="2738520" cy="4240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203640" y="2357280"/>
            <a:ext cx="2738520" cy="42404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156360" y="2357280"/>
            <a:ext cx="2738520" cy="4240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227640" y="2205000"/>
            <a:ext cx="2665440" cy="1998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95280" y="4508640"/>
            <a:ext cx="2597040" cy="1947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276720" y="2276640"/>
            <a:ext cx="2520720" cy="1890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6227640" y="4508640"/>
            <a:ext cx="2665440" cy="1998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395280" y="2276640"/>
            <a:ext cx="2592360" cy="1944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-532800" y="836640"/>
            <a:ext cx="1103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Работали дружно и вот результат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987640" y="4436640"/>
            <a:ext cx="32400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onotype Corsiva"/>
              </a:rPr>
              <a:t>«Жизнь не те дни, что прошли,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Monotype Corsiva"/>
              </a:rPr>
              <a:t>а те, что запомнились!»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О СЕБ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2636640"/>
            <a:ext cx="51847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зентация подготовлен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хайлик Светланой Юрьевной педагогом психологом муниципального дошкольного образовательного учрежден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тский сад комбинированного вида № 4 «Сказка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ТО г. Заозерск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рманской обла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692680" y="2017800"/>
            <a:ext cx="3194280" cy="3859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Monotype Corsiva"/>
              </a:rPr>
              <a:t>11-15 февраля 2008 года</a:t>
            </a:r>
            <a:br>
              <a:rPr sz="4400"/>
            </a:br>
            <a:r>
              <a:rPr b="1" i="1" lang="en-US" sz="4400" spc="-1" strike="noStrike">
                <a:solidFill>
                  <a:srgbClr val="ff0000"/>
                </a:solidFill>
                <a:latin typeface="Monotype Corsiva"/>
              </a:rPr>
              <a:t>Неделя Психолог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2421000"/>
            <a:ext cx="7201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Повысить интерес субъектов воспитательно-образовательного процесса к психолог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Показать реальные формы работы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возможности педагога-психолога детского са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Познакомиться с педагогическим коллективом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родител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659640" y="3645000"/>
            <a:ext cx="2955960" cy="1685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Monotype Corsiva"/>
              </a:rPr>
              <a:t>«НЕПОЗНАННАЯ ЖИЗНЬ НЕ СТОИТ ТОГО, ЧТОБЫ БЫТЬ ПРОЖИТОЙ»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03280" y="1989000"/>
            <a:ext cx="56862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Центральные мероприятия недел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Понедельник: Форум «Что такое радость?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Вторник: Психологическая акция. «Цвет дня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Среда: КТД «Мы строим дом» (сотворение детского сада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Социологический опрос: «Детский сад для наших детей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Четверг: Викторина «Мой любимый детский сад» (средний, старший дошкольный возраст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Пятница: Подведение итогов. Награждени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94920" y="4797360"/>
            <a:ext cx="82803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Фоновые мероприятия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Мудрые мысли выдающихся людей, рассказы-притчи, передвижные информационные бюллетен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ahoma"/>
              </a:rPr>
              <a:t>Развивающие занятия «Дружба», «Пойми меня» и т.д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1778040" cy="1800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«ПОРАЗМЫШЛЯЙТЕ!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МАГИЧЕСКАЯ ДЕСЯТКА": сосчитайте до десяти, прежде чем дать волю своему гневу, и он покажется вам нелепым.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У. Джем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Счастлив тот, кто счастлив у себя дом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Л. Н. Толсто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Годы детства - это прежде всего воспитание сердц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В. А. Сухомлинск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172360" y="2565360"/>
            <a:ext cx="70164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Monotype Corsiva"/>
              </a:rPr>
              <a:t>ПОРАЗМЫШЛЯЙТЕ!</a:t>
            </a:r>
            <a:br>
              <a:rPr sz="4400"/>
            </a:br>
            <a:r>
              <a:rPr b="1" i="1" lang="en-US" sz="4400" spc="-1" strike="noStrike">
                <a:solidFill>
                  <a:srgbClr val="333399"/>
                </a:solidFill>
                <a:latin typeface="Monotype Corsiva"/>
              </a:rPr>
              <a:t>Притча о воспитании ребенка.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692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Мать спросила у мудреца, когда лучше начинать воспитание ребенка.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- Сколько ему лет? - спросил мудрец.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- Пять.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- Пять лет! Беги скорей домой!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743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Ты уже на пять лет опоздала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Monotype Corsiva"/>
              </a:rPr>
              <a:t>ПОРАЗМЫШЛЯЙТЕ!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Monotype Corsiva"/>
              </a:rPr>
              <a:t>Кто такая МАМА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Ма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 - это мягкая подушка, на ней так удобно поваляться перед сном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Ма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 - это теплая постелька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крючившись в неудобной позе, может просидеть сколько угодно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лишь бы я закрыл глаза и сладко засопел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Мама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это энциклопеди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 ней есть ответы на любые бесконечные «Почему? Зачем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гда? Где? Кто? Куда?» и прочие детские мысл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Ма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 -  супер -мастер на все руки - починит любую игрушку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ключит любой телевизор или технику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Ма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и великий художник, и великий скульптор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если надо и начинающий шахматист;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се остальные дисциплины - в соответствии с аттестатом…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5280" y="4724280"/>
            <a:ext cx="863640" cy="565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Monotype Corsiva"/>
              </a:rPr>
              <a:t>ПОРАЗМЫШЛЯЙТЕ!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Monotype Corsiva"/>
              </a:rPr>
              <a:t>Кто такая МАМА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7912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Ма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 - лучшая лестница на свет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оит протянуть руки и басом завыть, как мама подхватит на руки и будет подносить тебя туда, куда ткнешь пальцем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Ма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самый лучший реставратор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на сможет склеить заново страничку из книжки, которую порвали на мелкие кусочки и раскидали по всей комнат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Ма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 - лучшая игровая площадка в мире!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Ее ноги не устают меня качать, по ней можно лазить со спины на шею и вообще по разному, и скатываться с ног как с горки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 главное это безопасно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Ма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 - лучший робот-манипулятор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на может одновременно делать двадцать де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 при этом не спускать с меня глаз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Ма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 - это корабль, на котором я путешествую с детства и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торый отправит меня потом в самостоятельное плава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24000" y="4797360"/>
            <a:ext cx="863280" cy="565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736640" y="1844640"/>
            <a:ext cx="740736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Участвовали ВСЕ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(дети, родители, воспитател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имели возможность высказать несколько точек зрения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4" marL="1830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9640" y="4292640"/>
            <a:ext cx="1785960" cy="2016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971280" y="260280"/>
            <a:ext cx="79930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ФОРУМ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«Что такое РАДОСТЬ?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Monotype Corsiva"/>
              </a:rPr>
              <a:t>Что такое радость?</a:t>
            </a:r>
            <a:br>
              <a:rPr sz="4000"/>
            </a:br>
            <a:r>
              <a:rPr b="1" i="1" lang="en-US" sz="2800" spc="-1" strike="noStrike">
                <a:solidFill>
                  <a:srgbClr val="333399"/>
                </a:solidFill>
                <a:latin typeface="Monotype Corsiva"/>
              </a:rPr>
              <a:t>РЕЗУЛЬТАТЫ ОТВЕТОВ </a:t>
            </a: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Monotype Corsiva"/>
              </a:rPr>
              <a:t>ВОСПИТАННИКОВ</a:t>
            </a:r>
            <a:br>
              <a:rPr sz="2800"/>
            </a:br>
            <a:r>
              <a:rPr b="1" i="1" lang="en-US" sz="2000" spc="-1" strike="noStrike">
                <a:solidFill>
                  <a:srgbClr val="333399"/>
                </a:solidFill>
                <a:latin typeface="Monotype Corsiva"/>
              </a:rPr>
              <a:t>(в % от общего количества, которые приняли участие в форуме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17480" y="2209680"/>
          <a:ext cx="7929720" cy="40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2209680"/>
                    <a:ext cx="792972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872400" y="4365720"/>
            <a:ext cx="1619280" cy="1727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14:48:34Z</dcterms:created>
  <dc:creator>Denis</dc:creator>
  <dc:description/>
  <dc:language>en-US</dc:language>
  <cp:lastModifiedBy>Бухгалтерия</cp:lastModifiedBy>
  <dcterms:modified xsi:type="dcterms:W3CDTF">2009-05-16T11:16:24Z</dcterms:modified>
  <cp:revision>26</cp:revision>
  <dc:subject/>
  <dc:title>НЕДЕЛЯ ПСИХОЛОГИИ  В ДОУ № 4 «СКАЗКА»</dc:title>
</cp:coreProperties>
</file>