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.wmf" ContentType="image/x-wmf"/>
  <Override PartName="/ppt/media/image20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5FE99-E217-4EA2-8E3B-5A9B9349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212FD-E580-4FA1-96EA-15684BA1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4ED40-2413-4F29-AB12-25E6E98A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17789-0BD1-486D-8EA6-9CB470EC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BADF-9B75-46B1-BF29-666F0A42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DB2B-E53D-4E2A-B2A3-21B13A2F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64D8-D5B4-48C5-94C6-4771C41C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80DE-2250-4192-A607-DF364586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4F2B-B634-4B18-A665-795BCF1B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F1C8-CB6D-4AD7-8950-996359AB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E137-8F6F-425A-8368-C88638F2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56164-7A3D-4BD2-A6DC-806AEFDA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F26A-44BF-48BC-9395-2CD47ECC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477C-AFAD-40B2-AC68-C29F5FD2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8198-7729-47FA-9AB8-2236AB16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68E1-20FB-42E8-8793-EAD4F0A1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E274-E0EA-44E6-AC56-27702AAC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A6948-71B8-4EE7-9758-112BAFD3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194A5-DC27-45E6-8E7D-3E99FD8C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EB86C-6989-448E-B0A4-EA8E59B8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2DE60-0DB1-4B75-9B88-4FA918A8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F7815-7D06-4172-A7FE-5446C9E8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977AF-DD89-429F-AE26-E399957D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D58C4-18C3-4CFD-A09E-D5CE47B7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BAC5-5327-49AE-B912-28AF5D6F4A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55E1-7565-4D87-9AE0-99820BE65B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package" Target="../embeddings/oleObject1.docx"/><Relationship Id="rId6" Type="http://schemas.openxmlformats.org/officeDocument/2006/relationships/image" Target="../media/image19.wmf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42760" y="178596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Занятия в школьном физическом обществе «Поиск» - путь к развитию самостоятельности и познавательной активности  учащихся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р: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ыжакова В.В.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ь физики высш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валификационной категории,                 МОУ СОШ №1 г. Шимановс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3933720"/>
            <a:ext cx="2987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676160" y="476280"/>
            <a:ext cx="70102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Занимательная физ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дачи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рганизация занимательных и зрелищных опытов и демонстраций, изучение творческого наследия Я.И.Перельм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Формы рабо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бор темы занят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дбор оборудования для демонстрации опы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едение демонстраций и опытов и их теоретическое обосно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рганизация вечеров, недель физики с демонстрацией опы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ланы работы различных секций утверждаются на МС школы и на совете школьного НОУ " Интеллект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4. Прем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1 Школьники, активно участвующие в работе ЩФО, награждаются грамотами и денежными премиями (из статьи попечительского совет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676160" y="476280"/>
            <a:ext cx="70102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Форма членского бил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Обложка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мблема ШФО " Поиск" в центре, надпись вокруг эмблемы" Школьное физическое обществ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 Поиск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-2 страницы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МОУ СОШ №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тография                             Членский билет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кольника                            Им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сто для                           Фамилия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чати                                  От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ремя вступления в общество                  200   год                                                                                 Председатель совета ШФО" Поиск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подпис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3-4 страниц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астие в работе ШФО( запись производится учителем- руководителем секц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зыв  руководи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териалы стен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240" y="1557360"/>
            <a:ext cx="893448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амятка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Проблем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следования понимается как категория, означающая нечто неизвестное, что предстоит открыть и доказ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Тем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 отражает характерные черты пробл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Объек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это та совокупность связей и отношений, свойств, которая существует объективно в теории и практике и служит источником необходимой для исследователя информ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Предме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же исследования более конкретен. Он включает только те связи и отношения, которые подлежат непосредственному изучению в работе, устанавливают границы научного поис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Цел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ормулируется кратко и предельно точно, в ней выражено то, что намеревается сделать исследовате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Задач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в них конкретизируется и развивается це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P2070005"/>
          <p:cNvPicPr/>
          <p:nvPr/>
        </p:nvPicPr>
        <p:blipFill>
          <a:blip r:embed="rId1"/>
          <a:stretch/>
        </p:blipFill>
        <p:spPr>
          <a:xfrm>
            <a:off x="6084720" y="404640"/>
            <a:ext cx="273708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Памятка 2</a:t>
            </a:r>
            <a:br>
              <a:rPr sz="3500"/>
            </a:b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Работа с литературными источникам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Этапы работ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щее ознаком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нимательное чтение по главам и раздел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борочное чт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авление плана прочитанного матери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писка из прочитан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авнение и сопоставление прочитанного с другим источни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ритическая оценка прочитанного и запись замеча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Вера 7"/>
          <p:cNvPicPr/>
          <p:nvPr/>
        </p:nvPicPr>
        <p:blipFill>
          <a:blip r:embed="rId1"/>
          <a:stretch/>
        </p:blipFill>
        <p:spPr>
          <a:xfrm>
            <a:off x="6732720" y="1413000"/>
            <a:ext cx="2228760" cy="139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250"/>
                            </p:stCondLst>
                            <p:childTnLst>
                              <p:par>
                                <p:cTn id="1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1250"/>
                            </p:stCondLst>
                            <p:childTnLst>
                              <p:par>
                                <p:cTn id="2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1250"/>
                            </p:stCondLst>
                            <p:childTnLst>
                              <p:par>
                                <p:cTn id="2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250"/>
                            </p:stCondLst>
                            <p:childTnLst>
                              <p:par>
                                <p:cTn id="2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1250"/>
                            </p:stCondLst>
                            <p:childTnLst>
                              <p:par>
                                <p:cTn id="2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250"/>
                            </p:stCondLst>
                            <p:childTnLst>
                              <p:par>
                                <p:cTn id="2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250"/>
                            </p:stCondLst>
                            <p:childTnLst>
                              <p:par>
                                <p:cTn id="2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1250"/>
                            </p:stCondLst>
                            <p:childTnLst>
                              <p:par>
                                <p:cTn id="2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1250"/>
                            </p:stCondLst>
                            <p:childTnLst>
                              <p:par>
                                <p:cTn id="2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Работа ШФО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Безымянный"/>
          <p:cNvPicPr/>
          <p:nvPr/>
        </p:nvPicPr>
        <p:blipFill>
          <a:blip r:embed="rId1"/>
          <a:stretch/>
        </p:blipFill>
        <p:spPr>
          <a:xfrm>
            <a:off x="179280" y="1557360"/>
            <a:ext cx="2305080" cy="143496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  <p:pic>
        <p:nvPicPr>
          <p:cNvPr id="153" name="Picture 6" descr="2"/>
          <p:cNvPicPr/>
          <p:nvPr/>
        </p:nvPicPr>
        <p:blipFill>
          <a:blip r:embed="rId2"/>
          <a:stretch/>
        </p:blipFill>
        <p:spPr>
          <a:xfrm>
            <a:off x="3348000" y="1916280"/>
            <a:ext cx="2664000" cy="151272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  <p:pic>
        <p:nvPicPr>
          <p:cNvPr id="154" name="Picture 7" descr="P2070001"/>
          <p:cNvPicPr/>
          <p:nvPr/>
        </p:nvPicPr>
        <p:blipFill>
          <a:blip r:embed="rId3"/>
          <a:stretch/>
        </p:blipFill>
        <p:spPr>
          <a:xfrm>
            <a:off x="250920" y="4149720"/>
            <a:ext cx="1903320" cy="252108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  <p:pic>
        <p:nvPicPr>
          <p:cNvPr id="155" name="Picture 10" descr="фото5"/>
          <p:cNvPicPr/>
          <p:nvPr/>
        </p:nvPicPr>
        <p:blipFill>
          <a:blip r:embed="rId4"/>
          <a:stretch/>
        </p:blipFill>
        <p:spPr>
          <a:xfrm>
            <a:off x="6804000" y="4005360"/>
            <a:ext cx="1847880" cy="254304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  <p:sp>
        <p:nvSpPr>
          <p:cNvPr id="156" name="Text Box 12"/>
          <p:cNvSpPr/>
          <p:nvPr/>
        </p:nvSpPr>
        <p:spPr>
          <a:xfrm>
            <a:off x="179280" y="352116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руппа конструкторов и экспериментат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-3600" y="3068640"/>
            <a:ext cx="282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ова Д. – председатель ШФ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4 -2005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156360" y="1557360"/>
            <a:ext cx="2736720" cy="20541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2771640" y="4076640"/>
            <a:ext cx="3602160" cy="24145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5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фото8"/>
          <p:cNvPicPr/>
          <p:nvPr/>
        </p:nvPicPr>
        <p:blipFill>
          <a:blip r:embed="rId1"/>
          <a:stretch/>
        </p:blipFill>
        <p:spPr>
          <a:xfrm>
            <a:off x="0" y="1197000"/>
            <a:ext cx="2952720" cy="194796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  <p:pic>
        <p:nvPicPr>
          <p:cNvPr id="161" name="Picture 5" descr="фото3"/>
          <p:cNvPicPr/>
          <p:nvPr/>
        </p:nvPicPr>
        <p:blipFill>
          <a:blip r:embed="rId2"/>
          <a:stretch/>
        </p:blipFill>
        <p:spPr>
          <a:xfrm>
            <a:off x="2916360" y="2205000"/>
            <a:ext cx="2519280" cy="193680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  <p:pic>
        <p:nvPicPr>
          <p:cNvPr id="162" name="Picture 7" descr="Вера 5"/>
          <p:cNvPicPr/>
          <p:nvPr/>
        </p:nvPicPr>
        <p:blipFill>
          <a:blip r:embed="rId3"/>
          <a:stretch/>
        </p:blipFill>
        <p:spPr>
          <a:xfrm>
            <a:off x="250920" y="4221000"/>
            <a:ext cx="2881080" cy="262260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  <p:pic>
        <p:nvPicPr>
          <p:cNvPr id="163" name="Picture 9" descr="P1040008"/>
          <p:cNvPicPr/>
          <p:nvPr/>
        </p:nvPicPr>
        <p:blipFill>
          <a:blip r:embed="rId4"/>
          <a:stretch/>
        </p:blipFill>
        <p:spPr>
          <a:xfrm>
            <a:off x="6804000" y="333360"/>
            <a:ext cx="2016000" cy="1513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graphicFrame>
        <p:nvGraphicFramePr>
          <p:cNvPr id="164" name="Object 10"/>
          <p:cNvGraphicFramePr/>
          <p:nvPr/>
        </p:nvGraphicFramePr>
        <p:xfrm>
          <a:off x="5724360" y="1989000"/>
          <a:ext cx="3024360" cy="1667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6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1989000"/>
                    <a:ext cx="3024360" cy="1667160"/>
                  </a:xfrm>
                  <a:prstGeom prst="rect">
                    <a:avLst/>
                  </a:prstGeom>
                  <a:ln w="9360">
                    <a:solidFill>
                      <a:srgbClr val="3399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6" name="Text Box 12"/>
          <p:cNvSpPr/>
          <p:nvPr/>
        </p:nvSpPr>
        <p:spPr>
          <a:xfrm>
            <a:off x="5398920" y="3789360"/>
            <a:ext cx="374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ыступления на научно – практически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онференция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250920" y="3573360"/>
            <a:ext cx="24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« Физика вокруг нас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ля 5-6 класс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1908000" y="62064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бота над проек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3042720" y="128736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Б класс  2005-2006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6012000" y="4437000"/>
            <a:ext cx="2879640" cy="21607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4427640" y="501336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7 го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2852280"/>
            <a:ext cx="115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 год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 год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 год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8 го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569440" cy="6476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региональная заочная физико -  математическая олимпиада, проводимая Всероссийской школой математики и физики «Авангард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692360" y="692280"/>
            <a:ext cx="74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Научно – исследовательская деятельность учеников  ШФ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508720" y="2565360"/>
            <a:ext cx="334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ипломы за работу по физике, вошедшую в число 50% лучши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абот физического тура: Лимон Р., Лимон А.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иглашение на учебу в заочной школе «Авангард»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979640" y="378936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468360" y="3789360"/>
            <a:ext cx="115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107120" y="4057560"/>
            <a:ext cx="2036880" cy="2800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476360" y="2997360"/>
            <a:ext cx="4021200" cy="27255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618920" y="907920"/>
            <a:ext cx="1800360" cy="13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4 год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5 год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6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8 год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692360" y="47628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учно-практическая конференция АмГУ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419640" y="1052640"/>
            <a:ext cx="4967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 челове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7 человек        Бова Д. 3 мес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0 человек      Туголуков Т. -приглашение в АмГ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 челове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780000" y="2133720"/>
            <a:ext cx="3168360" cy="21636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093080" y="1844640"/>
            <a:ext cx="1927080" cy="2637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84360" y="4394160"/>
            <a:ext cx="1752480" cy="24638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1704960" cy="2421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5148360" y="4437000"/>
            <a:ext cx="1635120" cy="2421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7236000" y="4581360"/>
            <a:ext cx="1552320" cy="2168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395280" y="2133720"/>
            <a:ext cx="3021120" cy="20955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ступление выпускников на факультеты  физико-математического и инженерного профиля (г. Владивосток, Хабаровск, Благовещенс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217476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5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5435640" y="213372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 чело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 чело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1403280" y="3141720"/>
            <a:ext cx="74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Заочная физико-техническая школа при МФТИ (Московский университет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1692360" y="3645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5438520" y="37162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 класс 8 чело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684360" y="4437000"/>
            <a:ext cx="80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иглашение на международный летний интеллектуально-творческий турнир «Восхождение звезд» в Вар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694880" y="4797360"/>
            <a:ext cx="113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980800" y="5013360"/>
            <a:ext cx="552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Благодарность от дирекции программы «Интеллектуально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творческий потенциал России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903400" y="5589720"/>
            <a:ext cx="568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глашение на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II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фестиваль наук и искусств «Творчески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отенциал России» в г. Москв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7000"/>
                            </p:stCondLst>
                            <p:childTnLst>
                              <p:par>
                                <p:cTn id="4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Х Российская научная конференция школьников «Открытие»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87640" y="1341360"/>
            <a:ext cx="224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боты: Бова Д.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уголуков Т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вко А., Павлова А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5327640" cy="3814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724360" y="3141720"/>
            <a:ext cx="3168720" cy="2193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724360" y="5445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голуков Тимур на конференции в АмГ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Школьное физическое общество « Поиск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236000" y="549360"/>
            <a:ext cx="1728720" cy="165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5257800" cy="3943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796000" y="2276640"/>
            <a:ext cx="2700360" cy="2025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796000" y="4437000"/>
            <a:ext cx="273672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сероссийская заочная олимпиада школьников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«Познание и творчество»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19280" y="1125360"/>
            <a:ext cx="223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6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7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8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4643280" y="1125360"/>
            <a:ext cx="316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плом лауреата – Кривко А.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плом участника – Туголуков Т., Лимон 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пломы лауреатов – Кривко А., Павлов А., Лимон 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плом лауреата – Павлов 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8000" y="2492280"/>
            <a:ext cx="2879640" cy="20653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059280" y="2492280"/>
            <a:ext cx="2952720" cy="20764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084720" y="2492280"/>
            <a:ext cx="2953080" cy="2043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250920" y="4730760"/>
            <a:ext cx="3024000" cy="2127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3780000" y="4724280"/>
            <a:ext cx="1474560" cy="2133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5796000" y="4734000"/>
            <a:ext cx="30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7"/>
          <p:cNvSpPr/>
          <p:nvPr/>
        </p:nvSpPr>
        <p:spPr>
          <a:xfrm>
            <a:off x="1692360" y="54936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Фестиваль педагогических идей «Открытый урок»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1547640" y="1125360"/>
            <a:ext cx="11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3492360" y="981000"/>
            <a:ext cx="52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аботы учащихся: бюллетени, газеты, методические листки, проек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10" descr="P3090019"/>
          <p:cNvPicPr/>
          <p:nvPr/>
        </p:nvPicPr>
        <p:blipFill>
          <a:blip r:embed="rId1"/>
          <a:stretch/>
        </p:blipFill>
        <p:spPr>
          <a:xfrm>
            <a:off x="5076720" y="1773360"/>
            <a:ext cx="3816360" cy="292248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5076720" y="4941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тодическая выставка 2007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79280" y="2421000"/>
            <a:ext cx="4716720" cy="35370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Методическая работа учителя физики </a:t>
            </a:r>
            <a:br>
              <a:rPr sz="28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ОУ СОШ № 1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. Шимановска Амурской области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Рыжаковой В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24000" y="1844640"/>
            <a:ext cx="4608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4-2005г         Всероссийский фестива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дагогических  идей «Открытый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5-2006гг       урок»; </a:t>
            </a:r>
            <a:r>
              <a:rPr b="1" lang="ru-RU" sz="1400" spc="-1" strike="noStrike">
                <a:solidFill>
                  <a:srgbClr val="ff3399"/>
                </a:solidFill>
                <a:latin typeface="Arial"/>
              </a:rPr>
              <a:t>дипло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6-2007гг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-2008 г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395280" y="3645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гиональная научно-методическая конференция БГПУ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сборник ста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250560" y="4653000"/>
            <a:ext cx="92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4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6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7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8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859280" y="1773360"/>
            <a:ext cx="1208160" cy="1726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372360" y="1773360"/>
            <a:ext cx="1234800" cy="1780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740720" y="1773360"/>
            <a:ext cx="1258920" cy="1800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5508720" y="4481640"/>
            <a:ext cx="3168720" cy="23763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1547640" y="4481640"/>
            <a:ext cx="3168720" cy="23763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2031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год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 год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 год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916360" y="692280"/>
            <a:ext cx="57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гиональная научно-методическая конференция АмГ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99"/>
                </a:solidFill>
                <a:latin typeface="Arial"/>
              </a:rPr>
              <a:t>сборники стате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796000" y="1052640"/>
            <a:ext cx="2232000" cy="16747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232" name="Text Box 10"/>
          <p:cNvSpPr/>
          <p:nvPr/>
        </p:nvSpPr>
        <p:spPr>
          <a:xfrm>
            <a:off x="179280" y="285264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сероссийский конкурс педагогов « Образование – взгляд в будущее» в рамках национального проекта в области образования –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диплом лауреата, благодарность, приглашение на участие в конферен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249840" y="220500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7-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50920" y="3933720"/>
            <a:ext cx="3960720" cy="2770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799320" y="3789360"/>
            <a:ext cx="2144520" cy="3068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4427640" y="3781440"/>
            <a:ext cx="2151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9"/>
          <p:cNvSpPr/>
          <p:nvPr/>
        </p:nvSpPr>
        <p:spPr>
          <a:xfrm>
            <a:off x="397800" y="18446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619280" y="620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сероссийский конкурс «Педагогические инновации»,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диплом 1 степ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8624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Безымянный 2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319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ff0000"/>
                </a:solidFill>
                <a:uFillTx/>
                <a:latin typeface="Arial"/>
              </a:rPr>
              <a:t>Основная цель создания   ШФ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81356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мочь ребятам найти себя, выявить любителей физики, помочь претворить в жизнь их планы и мечты, вывести их на дорогу поиска и научить их правилам научно-исследовательской деятельности, помочь наиболее полно раскрыть свои способ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99"/>
                </a:solidFill>
                <a:uFillTx/>
                <a:latin typeface="Arial"/>
              </a:rPr>
              <a:t>Организация научно – исследовательской деятельности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56944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явление детей, интересующихся предме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кетирование детей с целью выявления направления деятельно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екторское бюр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учно-исследовательска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шение олимпиадных задач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нимательная физ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астие детей в работе ШФ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lnSpc>
                <a:spcPct val="8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организация и проведение недели физики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lnSpc>
                <a:spcPct val="8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подготовка и участие в научно-практических конференциях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lnSpc>
                <a:spcPct val="8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подготовка и участие в различных конкурсах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lnSpc>
                <a:spcPct val="8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участие в олимпиадах различного уровня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lnSpc>
                <a:spcPct val="8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составление дидактического и методического материала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lnSpc>
                <a:spcPct val="8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участие в проектах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lnSpc>
                <a:spcPct val="8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заочное обучение в физико-технических школах Росси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0000"/>
                </a:solidFill>
                <a:latin typeface="Arial"/>
              </a:rPr>
              <a:t>Устав ШФО « Поиск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484280"/>
            <a:ext cx="70102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Девиз: " Нам необыкновенно повезло, что мы живём в век, когда ещё можно делать открытия"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Р. Фейнма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Цели, формы работ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Цель работы в ШФО – углубление и расширение знаний; знакомство с актуальными вопросами и новостями в науке и технике; знакомство с профессиями, которые требуют знаний по физике; овладение умением вести исследовательскую работу; овладение навыками конструирования и умением решать задач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учное руководство работой школьников осуществляет учитель физи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учная работа школьников ведётся по секция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лекторское бюро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учно – исследовательска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екция " Умников и умниц" (решение трудных задач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екция занимательной физик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ученическое конструкторское бюр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каждую секцию входит 5-8 челове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676160" y="404280"/>
            <a:ext cx="70102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Члены ШФО " Поиск"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1 Членом  ШФО может быть каждый школьник, справляющийся с учебной программой и активно участвующий в деятельности общества. Каждому члену общества вручается членский билет, в котором отмечается вся его деятельно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2 Член ШФО обязан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) присутствовать на заседании секци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) активно участвовать в работе по плану секци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) вести пропаганду научно – технических знаний  среди учащихся школ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3 Права члена ШФ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) состоять  в любой секци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) выбирать тему исследовательской работы по своему усмотрению, получать консультацию по всем интересующим вопросам, связанным с проводимой работо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) участвовать во всех мероприятиях ШФО и НОУ " Интеллект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) выбирать и быть выбранным в совет ШФ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4 Приём в члены производитс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) по рекомендации учителей физики на заседании совета ШФО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) по представлении реферата, проекта или другой работ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) член ШФО, нарушивший устав, может быть исключён из него совет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. Организационная структура ШФО" Поиск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1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вет ШФО собирается не реже 1 раза в месяц, планирует, контролирует и направляет  работ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55440" y="475920"/>
            <a:ext cx="728820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Формы работы школьного физического общества " Поиск"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24000" y="1989000"/>
            <a:ext cx="2519280" cy="1224000"/>
          </a:xfrm>
          <a:prstGeom prst="wedgeRoundRectCallout">
            <a:avLst>
              <a:gd name="adj1" fmla="val -13013"/>
              <a:gd name="adj2" fmla="val 78402"/>
              <a:gd name="adj3" fmla="val 16667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абота в секц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203640" y="1844640"/>
            <a:ext cx="2736720" cy="1224000"/>
          </a:xfrm>
          <a:prstGeom prst="wedgeRoundRectCallout">
            <a:avLst>
              <a:gd name="adj1" fmla="val -10671"/>
              <a:gd name="adj2" fmla="val 84240"/>
              <a:gd name="adj3" fmla="val 16667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ропаганда научных знаний среди учащихся шко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443640" y="1844640"/>
            <a:ext cx="2700360" cy="1225440"/>
          </a:xfrm>
          <a:prstGeom prst="wedgeRoundRectCallout">
            <a:avLst>
              <a:gd name="adj1" fmla="val -10083"/>
              <a:gd name="adj2" fmla="val 90027"/>
              <a:gd name="adj3" fmla="val 16667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ропаганда деятельности ШФО в городе,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24000" y="3645000"/>
            <a:ext cx="2447640" cy="2376360"/>
          </a:xfrm>
          <a:custGeom>
            <a:avLst/>
            <a:gdLst>
              <a:gd name="textAreaLeft" fmla="*/ 280080 w 2447640"/>
              <a:gd name="textAreaRight" fmla="*/ 2167560 w 2447640"/>
              <a:gd name="textAreaTop" fmla="*/ 280080 h 2376360"/>
              <a:gd name="textAreaBottom" fmla="*/ 2096280 h 2376360"/>
            </a:gdLst>
            <a:ahLst/>
            <a:rect l="textAreaLeft" t="textAreaTop" r="textAreaRight" b="textAreaBottom"/>
            <a:pathLst>
              <a:path w="2224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648" y="21600"/>
                </a:lnTo>
                <a:arcTo wR="3600" hR="3600" stAng="10800000" swAng="5400000"/>
                <a:lnTo>
                  <a:pt x="22248" y="3600"/>
                </a:lnTo>
                <a:arcTo wR="3600" hR="3600" stAng="5400000" swAng="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3132000" y="3645000"/>
            <a:ext cx="2880000" cy="2376360"/>
          </a:xfrm>
          <a:custGeom>
            <a:avLst/>
            <a:gdLst>
              <a:gd name="textAreaLeft" fmla="*/ 280080 w 2880000"/>
              <a:gd name="textAreaRight" fmla="*/ 2599920 w 2880000"/>
              <a:gd name="textAreaTop" fmla="*/ 280080 h 2376360"/>
              <a:gd name="textAreaBottom" fmla="*/ 2096280 h 2376360"/>
            </a:gdLst>
            <a:ahLst/>
            <a:rect l="textAreaLeft" t="textAreaTop" r="textAreaRight" b="textAreaBottom"/>
            <a:pathLst>
              <a:path w="2617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577" y="21600"/>
                </a:lnTo>
                <a:arcTo wR="3600" hR="3600" stAng="10800000" swAng="5400000"/>
                <a:lnTo>
                  <a:pt x="26177" y="3600"/>
                </a:lnTo>
                <a:arcTo wR="3600" hR="3600" stAng="5400000" swAng="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6300720" y="3645000"/>
            <a:ext cx="2843280" cy="2376360"/>
          </a:xfrm>
          <a:custGeom>
            <a:avLst/>
            <a:gdLst>
              <a:gd name="textAreaLeft" fmla="*/ 280080 w 2843280"/>
              <a:gd name="textAreaRight" fmla="*/ 2563200 w 2843280"/>
              <a:gd name="textAreaTop" fmla="*/ 280080 h 2376360"/>
              <a:gd name="textAreaBottom" fmla="*/ 2096280 h 2376360"/>
            </a:gdLst>
            <a:ahLst/>
            <a:rect l="textAreaLeft" t="textAreaTop" r="textAreaRight" b="textAreaBottom"/>
            <a:pathLst>
              <a:path w="2584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243" y="21600"/>
                </a:lnTo>
                <a:arcTo wR="3600" hR="3600" stAng="10800000" swAng="5400000"/>
                <a:lnTo>
                  <a:pt x="25843" y="3600"/>
                </a:lnTo>
                <a:arcTo wR="3600" hR="3600" stAng="5400000" swAng="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68360" y="3881520"/>
            <a:ext cx="2374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Индивидуальная исследовательская работа, работа в лекторских группах, конструкторском бюро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3419640" y="4384800"/>
            <a:ext cx="223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3492360" y="3789360"/>
            <a:ext cx="2232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Организация недель физики, физических вечеров, выпуск физических газет, оформление стендов, работа в библиотеке, просвещение 5-6 классов, организация выставок, олимпиад, конкурс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6588000" y="3789360"/>
            <a:ext cx="2305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Организация научно - практических конференций, участие в конференциях АмГУ, БГПУ, в городских олимпиадах, Всероссийских олимпиадах, конференциях, конкурс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676160" y="333000"/>
            <a:ext cx="70102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бота сек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Лекторское бюр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дачи: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ка популярных лекций по вопросам новейших достижений науки и техники, истории физики и техни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ормы работ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бор темы лекц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бор литературы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бор видеоматериало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ка демонстраций и опы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формация на стенде о времени проведения лекции, месте, теме, ответственн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Научно – исследовательская се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дачи: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глубить знания учащихся, интересующихся физикой, спо-   собствовать развитию навыков исследовательской деятельности, осуществлять связь физики с другими наук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ормы работы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бор темы научно – исследовательской работ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бор литератур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тверждение плана исследова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бор данны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формление материалов научно-исследовательской работ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тупление на школьной научно – практической конферен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87280" y="404280"/>
            <a:ext cx="79567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" Умники и умницы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учиться решать задачи повышенной трудности, олимпиадные, с " открытыми" данными, задачи – гипоте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рабо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бор интересных и трудных задач членами сек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кум по использованию различных справочник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кум по решению задач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формление стенда с интересными задач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зь с заочными физико – математическими школами, подготовительными курсами ВУЗов, кафедрой физики АмГ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школьных олимпиад для 7-8 класс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уск газет компьютерного наб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зь со сверстниками через Интерн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11280" y="4265640"/>
            <a:ext cx="3456000" cy="25923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0:07:20Z</dcterms:created>
  <dc:creator>Антон</dc:creator>
  <dc:description/>
  <dc:language>en-US</dc:language>
  <cp:lastModifiedBy>надежда</cp:lastModifiedBy>
  <dcterms:modified xsi:type="dcterms:W3CDTF">2009-04-15T19:57:41Z</dcterms:modified>
  <cp:revision>7</cp:revision>
  <dc:subject/>
  <dc:title>«Подготовка учащихся к научно-исследовательской деятельности»</dc:title>
</cp:coreProperties>
</file>