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93D-991A-4D44-BDC6-BA21BC8C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3F8-CABE-4253-AA72-ED4E2F4D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AA9-ABD9-4E5C-9AF1-C6FDF212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96F-AACF-482E-9EA1-4051E971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2689-9074-4E74-8384-FDE13C73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399A-25C5-4FEC-B113-20185F0F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1072-DC80-44F3-8AA5-B63636FF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66EF-57FD-42D2-BEC2-E9409F53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42B2-6F55-4DA6-9B5A-242BA52B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C2CD-BDAB-402A-99A5-EFF0FBD3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B56A-B23E-4265-BB5D-62C5404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63C-F849-4972-A503-8AA2CD29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854B-B675-4D58-8B7F-EF5B464F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57F3-3825-4393-B50D-64C420C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00B0-40F1-4852-B0EA-3DE5BD1F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3B02-9890-4F14-9C51-7D459F38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C13B-3040-4836-9559-2F09E51D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F1D-D913-4348-AF1C-7A663AF6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F5C-94EB-4518-B63D-B3EA65FD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77C-CC8B-4B62-ADAA-D76DD41A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6DC-F7B3-4B6D-B27D-510C6FB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45F-AAE8-4DAA-985C-D2100CC4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5DB-449C-4CA8-B1BF-E70DD923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320-B998-4D5C-A49D-213476B0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A2C4-0F56-4CCF-81CE-E4BAEEE2F9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069A-25D2-4AAE-A72A-40B65AA1B7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Начало правления Ивана 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V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.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Реформы Избранной рад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889080"/>
            <a:ext cx="604512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651040" y="2205000"/>
            <a:ext cx="3936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Приказы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16000" y="1484280"/>
          <a:ext cx="7272360" cy="4441680"/>
        </p:xfrm>
        <a:graphic>
          <a:graphicData uri="http://schemas.openxmlformats.org/drawingml/2006/table">
            <a:tbl>
              <a:tblPr/>
              <a:tblGrid>
                <a:gridCol w="2951280"/>
                <a:gridCol w="43210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прик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 прика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оль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би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с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бой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Приказ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71720" y="1397160"/>
          <a:ext cx="7072200" cy="3887640"/>
        </p:xfrm>
        <a:graphic>
          <a:graphicData uri="http://schemas.openxmlformats.org/drawingml/2006/table">
            <a:tbl>
              <a:tblPr/>
              <a:tblGrid>
                <a:gridCol w="3481200"/>
                <a:gridCol w="35910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ка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оль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би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л внешней полити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л жалобы на имя царя и расследовал 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ал военным де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ал землевлад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бой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ледовал «лихих люде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Стрельц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44680" y="1989000"/>
            <a:ext cx="2884320" cy="4087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пехотное войско в составе русской армии XVI-XVII в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ожизненную военную службу получали жалование, а также имели право  заниматься торговлей и реме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План уро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ярское правление в начал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чность Иван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крепление центральной власт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оглавый собор.   Реформы государственной власти сер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енная 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ебная задача: оценить начало правления Иван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Реформы Елены Глинской</a:t>
            </a:r>
            <a:br>
              <a:rPr sz="3600"/>
            </a:b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Задание: Прочитать 3 абзац  п. 1 и 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дописать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 название реформ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ведение  ….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оздание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снование 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введение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22800" y="2060640"/>
            <a:ext cx="3481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Проверим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ведение  единой денежной единицы (московский руб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ние  денежной система: рубль – полтина, полуполтина, гривна, алты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нование  Монетного д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введение единых единиц длины и в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Василий Осипович  Ключевский</a:t>
            </a:r>
            <a:br>
              <a:rPr sz="38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3" descr="http://elib.ispu.ru/library/history/01tema1/personal1.files/image011.png"/>
          <p:cNvPicPr/>
          <p:nvPr/>
        </p:nvPicPr>
        <p:blipFill>
          <a:blip r:embed="rId1"/>
          <a:stretch/>
        </p:blipFill>
        <p:spPr>
          <a:xfrm>
            <a:off x="1403280" y="1484280"/>
            <a:ext cx="3024360" cy="33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6560" y="394128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лекции по русской истории"/>
          <p:cNvPicPr/>
          <p:nvPr/>
        </p:nvPicPr>
        <p:blipFill>
          <a:blip r:embed="rId3"/>
          <a:stretch/>
        </p:blipFill>
        <p:spPr>
          <a:xfrm>
            <a:off x="5292720" y="162864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5084640"/>
            <a:ext cx="3816360" cy="1008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841–19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ский исто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енчание на цар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митрополит"/>
          <p:cNvPicPr/>
          <p:nvPr/>
        </p:nvPicPr>
        <p:blipFill>
          <a:blip r:embed="rId1"/>
          <a:stretch/>
        </p:blipFill>
        <p:spPr>
          <a:xfrm>
            <a:off x="539640" y="1197000"/>
            <a:ext cx="4103640" cy="3960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1920" y="-100080"/>
            <a:ext cx="404172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68640" y="2930400"/>
            <a:ext cx="381780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2950920" cy="324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5516640"/>
            <a:ext cx="3960720" cy="115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Б. Шаб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стреча Ивана Гроз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трополитом Макари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4437000"/>
            <a:ext cx="3673440" cy="208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января 154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Успенском соб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сковского Крем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торж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нчание на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ликого князя Ивана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Реформы Ивана 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ранная рада – совет приближ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Ф. Адаш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ве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ков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б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а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76560" y="159984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388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ыв Земского со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ебник(подтверждение Юрьева дн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создания стрелец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1550 г. – учрежден Судебник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А 7000 ПЯТДЕСЯТ ОСМАГО ИЮНЯ196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АРЬ И ВЕЛИКИЙ КНЯЗЬ ИВАН ВАСИЛЬЕВИЧ ВСЕА РУ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 СВОЕЮ БРАТЬЕЮ И 3 БОЯРЫ СЕСЬ СУДЕБНИК УЛОЖЫ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СУДИТ И БОЯРОМ, И ОКОЛНИЧИМ. И ДВОРЕЦКИМ, И КАЗНАЧЕ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ЬАКОМ, И ВСЯКИМ ПРИКАЗНЫМ ЛЮДЕМ, И ПО ГОРОДОМ НАМЕСТНИ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О ВОЛОСТЕМ ВОЛОСТЕЛЕМ. И ТИУНОМ И ВСЯКИМ СУДЬ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1571760" y="342900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С.Иванов.</a:t>
            </a:r>
            <a:br>
              <a:rPr sz="3600"/>
            </a:b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Юрьев день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3960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7640" y="1628640"/>
            <a:ext cx="3809880" cy="4530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00000" y="4581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емпель</cp:lastModifiedBy>
  <dcterms:modified xsi:type="dcterms:W3CDTF">2009-01-22T02:35:01Z</dcterms:modified>
  <cp:revision>29</cp:revision>
  <dc:subject/>
  <dc:title>Начало правления Ивана IV Реформы Избранной рады</dc:title>
</cp:coreProperties>
</file>