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947-6C84-47AE-BE5B-D50E23E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52F-71C3-4A3D-A738-E44E131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66C-F20A-461E-8FB9-45A25361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BA4-40B5-4B28-BED9-85D43BB9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C03-17EB-4018-AD97-25F640D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338-7C21-44F6-925F-172C0748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56F-8B18-46FE-9112-644C27B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7A6-2A19-4E2C-9B96-6B2C9C28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CE9-20D2-42BE-B567-BD7BE56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DFD-24E4-4846-AC4F-5B16559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AF7-ECAA-447F-8520-53B6499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26F-D000-438D-A5D3-38F8517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553-1375-4906-8BED-1F7E749FB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ода в море солёная на вкус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ша страна борется за мир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чалась большая перемена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ети ходили в лес за грибами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уки надо мыть водой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 с мылом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расивы улицы нашего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      гор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уки надо мыть водой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с мыло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расивы улицы нашего                                                                                                                                              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     город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72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ода в море солёная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 на вку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726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ша страна борется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  за мир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372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чалась большая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переме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72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ети ходили в лес за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гриб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2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