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C85-00DC-4CA7-A3C7-22009138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236-643F-4253-A766-E047EA39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DD3-5E57-468D-821E-DE90AF49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77D-BB6E-4291-8831-7076D616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4A1-7C36-4442-9B4C-DC191D7F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014-32C8-4FDD-8D5A-E3BBF00E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E19-2F32-44F0-8433-FE71B6AB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DD9-8AB9-4BA2-8740-9E59AF76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3FD-4AA1-4C4B-BC73-8D567AC9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68C-0E1A-429F-8970-44C50A02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560-9948-4AA2-8887-ACDC3E85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E9D-1613-4C5B-BA24-5EF78242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127F-EA1A-41B1-B2AC-A6D8DE360E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Идёт дожди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Мы любим Амгуэм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Береги учебные вещ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У Андрея чистая тетрад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Помогай своему товарищ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олнце осветило всю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землю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Помогай  своему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товарищу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Солнце осветило всю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           землю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76312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Идёт дождик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91440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Мы любим Амгуэму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Береги учебные 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            вещи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76312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У Андрея чистая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     тетрадь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3-16T07:12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