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788-D955-4E29-81F3-7B6225DE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0F6-9EAD-47AB-8B88-E3BA64D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D64-D3EA-4A61-9F37-3F88FC41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054-258F-4570-9FB7-5886A25D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D65-5C7D-4522-9155-4FB739D2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846-E915-4AB5-9087-C953F8A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936-7769-4CAB-AC1B-4FC1F6A6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FA0-6E1F-4265-A0D2-C46C4FDE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CC7-F253-4344-9D46-42CB97FD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255-EAB5-472C-BD6A-A44B6BE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749-AF75-4977-83D9-AAFD31C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B3E-5952-404E-BF2A-8F00E93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0B2B-8D87-4176-B7DA-BB4E34A59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бо покрылось серыми тучам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Дети посадили во дворе акацию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Бабушка купила внуку букварь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Землю согрело тёплое солнышко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Моя сестра работает на фабрике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Ласково грело весеннее солн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оя сестра работает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на фабрик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Ласково грело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весеннее солнц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ебо покрылось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серыми тучами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br>
              <a:rPr sz="72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ети посадили во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дворе акацию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Бабушка купила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внуку буквар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Землю согрело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тёплое солнышк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1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