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8D3-8BA4-42F8-9204-7F4F72D5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38F-F36A-4652-BD47-0438C1A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B0E-5492-4A73-B75A-6E2AAC16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69E-BE60-4C27-9BBB-8951581F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6CD-4608-4DAD-BD08-8CEB844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082-31CB-4996-9D1E-4102EC57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099-C086-490C-B457-9BCBC91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CAE-8FC9-4E95-BB2A-D2451EA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7A0-81F9-4236-B96C-0EBFD2A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88D-1C31-4A1F-AC38-EAD42EC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9FA-15C6-46B3-853B-DB07F6B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B31-7CF8-46BB-8700-0567DA6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3DD-EF2C-45AB-A4CD-E792BA6B1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На огород забра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лись цыплят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Мы жили возл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берёзовой рощ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Зимой река по-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крылась льд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Мальчик подарил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маме цвет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Дежурные стёр-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ли пыль с доск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Оленеводы рабо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тают в тундр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1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