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4A3-7A7C-4039-A564-B60C4ECD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1AB-6083-4E6C-9D44-F8DCC64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3E4-7056-4181-8269-8C15C577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D20-F924-4B37-BF18-0973E3AE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A49-9FCE-4E8E-9906-517B6E3D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1F4-CAD1-4D54-A097-D2513748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527-F024-48E2-BE00-53018DE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70D-6AB4-42CF-AD08-1EA2C97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45F-8A22-4B08-BD86-E0E96CD0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017-6DC7-4CDA-8FC5-D1832BE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8A9-26D0-43E1-BC32-A654EA3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76C-2E9B-4709-A321-40887502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D5B-CF07-496E-854E-7B9DDC879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Город Москва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стоит на рек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В лесу собирают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земляник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Солнышко светит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   и греет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Федя решал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задачу у доск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Загорелась в не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           бе зорьк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На деревьях                                      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     сверкал иней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1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