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AE0-D4B2-4913-AFD1-464061E3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4A2-4DA5-419F-8DD6-BAFF55B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050-2EA8-4541-85DA-A5D9F2D8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971-C43E-475F-9FD0-F718FAB2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92E-6DCF-4110-A103-64EA8E90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33A-B636-4A36-9A7C-33B42366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9D8-020B-4173-B4EF-2384022A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C41-757B-4B01-9310-4A686958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BB3-0C73-47B3-B7A5-842C5593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D9C-8193-4DE0-A7C4-2B7216C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E11-6F5F-4C74-A469-766CF5E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A02-31CD-49B6-ADAF-EA5963BF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B88A-7AEC-4627-8CC2-56825E7FA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Пролетело жар-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кое лет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Возле дома поса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дили ел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Дятел долбил де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             рев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Я хочу посадить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  цвет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Иней запушил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деревь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Без воды цветы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   вяну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1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