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FFAB-078C-442A-BD9E-8595FD997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F3DE-4418-4CAB-9139-9B1FCF8F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9A4B-3620-4107-9776-BD74E62B3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1982-28BB-42BA-9828-8C125F811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FB22-04AB-4276-BC0B-4440F965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646C-4953-40AE-8156-D35F3819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7861-281B-4228-8DB6-0242AF16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F98B-4568-4C6F-83FF-C6ACECD4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7022-D41D-4E14-BE15-C3399677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20E7-6AF2-494E-8BDA-4E3E78FE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5796-6E29-4DA9-8749-A81532B8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924F-F75F-4E82-9EAC-D1317BCF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DDD1-E1EE-4A3F-AF50-27326047F6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Подул резкий 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                 ветер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Зоя прилежно 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                учится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742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entury Schoolbook"/>
              </a:rPr>
              <a:t>Прилетели птич-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Century Schoolbook"/>
              </a:rPr>
              <a:t>                           ки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entury Schoolbook"/>
              </a:rPr>
              <a:t>Ярко светит солн-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Century Schoolbook"/>
              </a:rPr>
              <a:t>                            це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Лида вытерла 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                   доску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entury Schoolbook"/>
              </a:rPr>
              <a:t>Весело бегут ру-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Century Schoolbook"/>
              </a:rPr>
              <a:t>                       чьи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аша</cp:lastModifiedBy>
  <dcterms:modified xsi:type="dcterms:W3CDTF">2008-03-16T07:10:5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