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AF2-D3B3-4E4F-AF11-80A723B0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13F-3062-4EDF-944C-A1DF596B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876-BBCE-4E46-9592-AA7D73AC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846-3230-4BCB-9BE1-B529F5D5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53B-6CFE-44AC-982F-87501E50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92C-4A8C-420C-B88F-1851E880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A52-399C-4362-A6DC-DABD2C4B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D31-F697-48BF-A27A-FDF26665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619-C0AD-47C9-AC87-B920917B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4FE-35D1-494A-8BF1-999D9A22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575-C9E6-4ACF-8E79-CA896AD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F61-1ABF-4C3F-8342-9031E94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DA64-5B58-41A3-9759-60C48989B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Дни стали короч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В лесу много бе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                       рёз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Трещат  мороз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Я ищу земляни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                      к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047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В лесу росла ел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Наступила осен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0:3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