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DD6-DE16-4A75-BB8C-AC163F3F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B0E-067A-4C5F-B1DE-5A4E3A45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D62-EE98-4F63-B8C9-4DD86771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B66-4F80-495D-B854-9BBF6156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568-5B6C-4CB1-BF8B-B8E23D8F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AB9-323C-4E5C-B3D2-83ACF04A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5CD-C32A-4730-AFCF-C63A89F8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CB1-25D7-415E-A8BA-4B2897A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BE7-42DA-42A8-8769-96D585C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042-7E47-4C26-A83C-41C649F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0D9-36A5-4D40-8CF1-FEFEA50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705-CEA3-4238-90BA-7441F3A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D2B-146C-4300-9E1B-15B0C4770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беда над врагом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наполнила грудь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Павки счастьем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Каждый день тысячи людей въезжают в новые квартир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По лесной зарос-шей тропе осторож-но идёт погранич-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                        ник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Мальчик подошёл к окну и увидел за рощей строящийся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                     дом.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Только король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удалился, как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окружили Алёшу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      придворны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Школьники выра-щивали мандарины, лимоны и апельсины.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По лесной заросшей тропе осторожно идёт пограничник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Мальчик подошёл к окну и увидел за ро-щей строящийся дом.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Только король уда-лился, как окружили Алёшу придворны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Победа над врагом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наполнила грудь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Павки счастье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Каждый день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тысячи людей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въезжают в новые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квартир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Школьники выра-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щивали мандари-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ны, лимоны и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            апельсин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4-06T12:23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