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B68-A8D6-4247-841B-A17074CE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2E9-45EE-4CE5-BAC2-93C3366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639-C69A-4482-A022-90ED7E34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623-B494-4A11-AAD2-1C3470F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08D-3C19-42C2-A185-CC659DF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E9A-6A46-4557-87A0-F5C68A85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2A1-5BAF-485D-B8F5-11BB7511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BAD-42E2-4F24-9598-A799AEFE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7F3-E7E8-48E9-9D32-2F4FBE9F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573-631D-4D12-A642-91CD6A9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553-2D7A-4279-BF55-D75A738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E38-D897-4950-82AA-726BEB8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E95-38AF-4786-81D8-8F014459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днажды в студёную зимнюю пору я из ле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         су вышел.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робилась из-под земли вода, и родил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    ся родничок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Цветы были незнакомые, похо- жие на  колоколь-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                     чик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Прохладная вода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хорошо освежила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уставших ребят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Играют волны,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ветер свищет, и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мачта гнётся и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скрипит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Малыш очень любил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лушать волшебные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              сказки.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Цветы были незна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комые, похожие на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колокольчик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рохладная вода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хорошо освежила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уставших ребят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Играют волны, ветер свищет, и мачта гнётся и скрипи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Однажды в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студёную зимнюю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пору я из лесу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                выше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Пробилась из-под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земли вода, и ро-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дился родничок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Малыш очень любил слушать волшебные сказки.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09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