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F292-BC84-4220-B742-45A069CD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4771-2BBD-4C95-AF52-1E8A2078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B07E-AB79-4918-82F7-F3FD5335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0F61-A52A-4A03-9FBF-5E2288FA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ED6E-EBBB-4228-AC1C-DDCB496B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39D2-6978-4219-83BB-43C1D37B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2DCD-08AF-4377-8194-BBB34849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69C2-F6B7-4838-893B-FE7966FB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40A3-7064-49FA-8E9A-F3F4E23C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D522-B7DC-433C-83B5-809AA7C7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8710-F732-4B85-B1A4-443569B1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87FC-2C20-43C9-BE01-FA53DC0C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B6B2-5A60-4642-ABFC-FC5D371B13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72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В тайге водятся хищ-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ные животные: волки, 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                              рыси.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Сквозь волнистые 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туманы пробирается 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                                луна.</a:t>
            </a:r>
            <a:br>
              <a:rPr sz="66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Много работы пасту-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хам в стаде ранней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                весной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На берегу моря рас-  кинулся пионерский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                лагерь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Скоро небо покроет- ся тучами, заморосит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                        дождь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Школьники готовятся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к новому учебному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                              году.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Много работы пасту-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хам в стаде ранней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                          весной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На берегу моря раски-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нулся пионерский 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                           лагерь.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Скоро небо покроется 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тучами, заморосит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                            дождь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В тайге водятся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хищные животные: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      волки, рыси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Сквозь волнистые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туманы пробирается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                     луна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Школьники готовят-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ся к новому учебно-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                     му году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аша</cp:lastModifiedBy>
  <dcterms:modified xsi:type="dcterms:W3CDTF">2008-03-16T07:13:3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