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271-1183-45F6-A4F7-3ED0D86A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AC8-0409-438E-A6F7-A88551A0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392-6A01-4240-85B6-D72C4E4F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46A-56CB-46C3-B584-2D72E17C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A1F-C12B-4D18-B28E-9418BE85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19F-E02B-4DE8-A62F-398BFC72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04D-0072-4536-8093-8358FE5D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38A-21C6-4E70-9CC2-9C46C8C9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E99-7F17-4316-A6E6-84EDD8FE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EBB-D56A-47AD-885D-D0780632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CF7-D28D-4532-9413-9D4AB329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740-AE33-4014-A0D4-06B06D0A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795F-B8E3-44EB-ADA5-F5C5356DF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Зацветёт, зазеленеет наш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  весёлый огород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Меж редеющих верхушек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показалась синева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Хороши привольные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широкие степи Украины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На смелого собака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лает, а трусливого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   кусае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Нам велит трудиться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школа, учит этому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      семья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Наш народ хочет жить в мире со всеми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народам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 смелого собака лает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а трусливого кусает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м велит трудиться школа, учит этому семья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ш народ хочет жить в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мире со всеми народ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Зацветёт, зазеленеет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наш весёлый огород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Меж редеющих верхушек показалась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     синев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Хороши привольные широкие степи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Украи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3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