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595-1B26-445C-853A-E71F8DF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69D-9132-46D8-B84F-C8377E2A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17E-0A11-4CEA-A033-202A9A33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542-8CF4-485E-A227-52E2B09D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E7D-0ABF-4843-962F-572A482D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AEA-BA51-42EA-8247-17EE42C1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B4F-867A-4BB4-9CB7-6415BEB2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62C-4096-404F-99C4-657570D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E33-976F-4E53-90CD-20F1BB2A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B45-7098-4C53-83D1-BC056F0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CD9-9983-468B-94D4-B5A664C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EDB-724D-413B-9F59-457B04C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1736-6BBB-4AB4-8D46-9108001DE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однялась за рекой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большая серая туча.                                                     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 далёкой тайге живут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охотники-эвенки.                            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се радовались встре-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че с космонавтами.                    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азведчицы отправи-лись в опасный путь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ружная семья и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землю превратит в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золот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бувь всегда необхо-димо очищать от пы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                      л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Разведчицы отправи-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лись в опасный путь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Дружная семья и зем-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лю превратит в золото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Обувь всегда необходи-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мо очищать от пыли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днялась за рекой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большая серая туч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 далёкой тайге жи-вут охотники-эвенк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се радовались встре-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че с космонавтам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3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