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8AD-7D46-4800-9547-F73A995E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2D8-98F9-48B3-8996-2CC72127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F0A-8518-4D24-B730-8C998C2A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167-9A0B-4ED3-9A8F-BCCE566A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8AB-0F64-4AB4-8C80-0E4CED87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CE6-1639-47B9-A0E9-897C031D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66F-82EA-444C-97E1-FD488C6A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221-9179-4391-AA61-AE1030FA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BB0-3C91-41A4-9EB1-6A0883D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D01-A85D-4209-A185-5077C3F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73A-99E5-41D7-9838-C3A846D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1ED-59F4-488A-9EFA-48C5930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5AC-7355-41DD-B368-9485AC1CA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вно скосили и убрали луга и поля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елка взобралась на верхнюю ветку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олнце светило ярко, и дети купались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сь народ гордится героями космоса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едушка Филипп пасёт колхозно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стадо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Люблю я в поле встречать восход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солн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едушка Филипп па-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сёт колхозное стад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Люблю я в поле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встречать восход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 солнц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Давно скосили и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убрали луга и пол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Белка взобралась на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верхнюю ветк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олнце светило ярко,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и дети купалис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Весь народ гордится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героями космос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3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