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5F9-EAD2-43E1-A673-77338EE6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A0B-FCF2-468F-BBB2-EFDC1EE4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4EB-8EEB-4B2B-8222-2FB0ACB3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63D-64AA-4E70-9273-DBA658CC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BB6-C765-4517-8DCF-C7B3F795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36F-3999-4B27-89C9-D796372D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684-858D-4C6A-A626-FFF73439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8C4-99E4-4CB7-9A69-7F70FA57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753-D564-4407-908C-A36178EB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730-4A6E-477B-9920-068D23B7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1DD-634B-46A4-8C61-94D5A6B7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6BD-F6C8-446C-9F09-471C26B9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80C6-7741-403A-9280-9620A6B6B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льчики принесли сухих веток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поле поспевают рожь и пшеница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 книжки выпал листочек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сирени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ти всех стран хотят жить в мире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ежий ветерок повеял прохладой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еркнула молния и загремел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гр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вежий ветерок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повеял прохладой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веркнула молния и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загремел гро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Мальчики принесли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сухих веток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В поле поспевают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рожь и пшениц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Из книжки выпал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листочек сирен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ети всех стран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хотят жить в мир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2:5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