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A663-40EF-4E6F-BD98-EC0AC344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01A8-8493-4AC4-B712-14C3690E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6424-724E-4C0F-8DC9-FBCFF0A5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664D-5A9E-4A1A-B8F0-A80E33CE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B066-FD59-46FD-81FA-FF4614AD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5E56-4D3B-4954-9375-30CE07CE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E1BA-8BD6-4A98-809B-132C5730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1C54-11FA-4807-A681-75BADC86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2BE9-D7AE-47A6-BC9A-1E325F45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C217-E5A0-4A1B-BC27-56C82DED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2A93-F332-4914-95EF-41266137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F63B-6854-4677-9597-8B88BE57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6B9A-B91F-4BC3-BA0E-CD63DFA771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есело колосится густая рожь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ля запорошило белым снегом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ы читали интересный рассказ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ичурин много и упорно работал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овые дома растут очень быстро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з машины вышел наш учите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Новые дома растут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    очень быстро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Из машины вышел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      наш учитель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Весело колосится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      густая рожь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Поля запорошило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   белым снегом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Мы читали инте-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       ресный рассказ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Мичурин много и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упорно работал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аша</cp:lastModifiedBy>
  <dcterms:modified xsi:type="dcterms:W3CDTF">2008-03-16T07:12:3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