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25D-FFBC-4A98-B210-C33155BD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617-5735-4ADF-AC4D-4CDC65E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7F1-B70B-4A64-91A7-7460741E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80C-5DA1-4343-926E-9EAA0709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61C-12D3-4B8B-A821-0D837D4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9FC-F376-418B-BB98-49A6B38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574-2A86-4048-A33F-93927D6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40D-A1E1-476D-8356-06FE00B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B89-AC57-4155-A9C7-E47C706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0E4-15D6-427E-9D2C-74AB388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659-0A3B-42B7-A4E5-5BCC9C5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817-90BD-43B9-AA23-350C127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FD1-9726-498C-909C-9AF662445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сква—столица нашей Родины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кольники поливают саженцы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путаты съехались на съезд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до быть честным и правдивым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ёзды сияют на башнях Кремля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ом наша семья жила на Волг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Звёзды сияют на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башнях Кремл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Летом наша семья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жила на Волг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осква—столиц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нашей Роди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Школьники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поливают саженц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епутаты съехались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на съезд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до быть честным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и правдив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