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6780-C86C-4D96-A6CF-52DE5D74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FF2-C72E-4623-A137-1FC8DCEC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CBD-5462-4D13-8486-8F593EF7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6AC-F49F-476C-822D-0D6E5FBB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44C2-44E6-4A1C-9DCD-20869F7E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49A-6651-4D81-A054-77AC453D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ACE-290B-42CB-A1C1-22218B87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2AC-33C6-4B47-98E5-66D6E51E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2C9-360E-4BF7-826E-1E9FA933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71F4-1686-4309-985C-ED0BF14E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B26-9AE4-43C0-89D7-01B7C1AB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6CF-E12E-4A1F-83DD-D541ECF5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C0C6-D4DE-4C92-AA9E-3A0366FD3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йствия с целыми числ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181560" cy="866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1152360"/>
          <a:ext cx="182520" cy="6634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1800" y="1815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18488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42464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64000" y="638172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ТОГ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4581360"/>
            <a:ext cx="7113600" cy="81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4335480"/>
            <a:ext cx="7113600" cy="81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130400" y="4551480"/>
            <a:ext cx="7113600" cy="81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346040" y="4767120"/>
            <a:ext cx="7113600" cy="819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267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2679840"/>
          <a:ext cx="182520" cy="5824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800" y="3261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67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39640" y="1255680"/>
            <a:ext cx="8352000" cy="14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0" y="2679840"/>
          <a:ext cx="182520" cy="5824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1800" y="3261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49780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91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3:12:31Z</dcterms:created>
  <dc:creator>user</dc:creator>
  <dc:description/>
  <dc:language>en-US</dc:language>
  <cp:lastModifiedBy>надежда</cp:lastModifiedBy>
  <dcterms:modified xsi:type="dcterms:W3CDTF">2009-08-08T15:46:29Z</dcterms:modified>
  <cp:revision>5</cp:revision>
  <dc:subject/>
  <dc:title>Действия с целыми числами</dc:title>
</cp:coreProperties>
</file>