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E72-7268-4221-9833-F7D0CCB6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84E4-D2B1-4D9E-9644-48B067C1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9EB-F1E8-4AFB-BE89-136F4E86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4B9-0B61-434B-9165-DA28BB8D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739-E635-4A21-9698-002A1B5B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918-EC14-42B0-A06C-51919085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BD0-DE0F-4D29-9061-1CA94C99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017-6DDF-4607-8C50-3653440B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9A2-712F-4079-A137-7F3796B6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BC2-255A-49E2-BC45-0F05B262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51BA-AF24-4E72-9DB0-57E5F3E6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B62-6CED-4970-B4FA-BC119C57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8793-D7EF-434A-B914-6EE2ACDB1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йствия с целыми числ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181560" cy="866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152360"/>
          <a:ext cx="182520" cy="6634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1800" y="1815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18488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42464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64000" y="638172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ТОГ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4581360"/>
            <a:ext cx="7113600" cy="81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4335480"/>
            <a:ext cx="7113600" cy="81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130400" y="4551480"/>
            <a:ext cx="7113600" cy="81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346040" y="4767120"/>
            <a:ext cx="7113600" cy="819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267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2679840"/>
          <a:ext cx="182520" cy="5824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800" y="3261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67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9640" y="1255680"/>
            <a:ext cx="8352000" cy="14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0" y="2679840"/>
          <a:ext cx="182520" cy="5824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800" y="3261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49780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0" b="91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12:31Z</dcterms:created>
  <dc:creator>user</dc:creator>
  <dc:description/>
  <dc:language>en-US</dc:language>
  <cp:lastModifiedBy>надежда</cp:lastModifiedBy>
  <dcterms:modified xsi:type="dcterms:W3CDTF">2009-08-08T15:46:29Z</dcterms:modified>
  <cp:revision>5</cp:revision>
  <dc:subject/>
  <dc:title>Действия с целыми числами</dc:title>
</cp:coreProperties>
</file>