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569-B9C8-42B8-A47B-5DA5CC5B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67D-2F0C-414F-83FA-7003433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924-E0B7-410E-A46C-AE4F25EB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0C8-2E06-422B-8FDF-5EDF000C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D22-0B54-4A9E-9FA8-A05FA98B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BB6B-1FEE-4A50-8E28-9C8CEEEF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FA81-6A6E-4D52-AB59-7BF268E1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5C62-50E0-4AE5-8DBF-9C9DC4D4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CDF-F79B-47F1-9830-B38430E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E14C-CFA6-4389-AAA8-18115277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D4A-B971-44AD-897B-CDACB21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F14-1744-4C12-ADBA-F23CB789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6008-5715-4220-9A7A-79D6C91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8146-D0C6-4702-8713-70C17CA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8EFC-0C2A-4B41-9D5D-5C30A0D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056B-194B-4650-B774-2CA516B3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0DD4-706E-4B39-B99E-4678BB9A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24B-453D-42A4-AE1F-E5BF59F4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3CB-0B92-411F-AB0B-CC76A00D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C03-A722-4D45-80F1-EA5B531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F6A-62C5-48DE-A192-6C96047F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72A-FC28-4DF3-A328-2BD6F8CF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585-12C7-4CBE-9953-CF726A56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BE1-112F-441A-A26F-F12C213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0A6-E783-419C-B431-569BC550541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6A32-8285-4F92-B2EE-49184FA956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2781000"/>
            <a:ext cx="640080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Comic Sans MS"/>
              </a:rPr>
              <a:t>Имя числительное как часть речи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356000" y="620640"/>
            <a:ext cx="32418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64000" y="2205000"/>
            <a:ext cx="122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31308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00"/>
                </a:solidFill>
                <a:latin typeface="Comic Sans MS"/>
              </a:rPr>
              <a:t>Сколько числитель-ных на экран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Из истории числительны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Ъ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ЪВА НА ДЕСЯТ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Е НА ДЕСЯ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20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800"/>
                </a:solidFill>
                <a:latin typeface="Comic Sans MS"/>
              </a:rPr>
              <a:t>Имена числительные могут быть разными членами предлож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7696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и пять – восем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делите восемь на дв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мудреца в одном тазу пустились по морю в гроз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708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28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4653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65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65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4653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Третье лишн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мь, седьмой, 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надцатый, двенадцатиметровый, двенадц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, трояк, третьего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вятка, девятого, девят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Правильный ответ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69608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мёр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надцатиметров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ояк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вя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Расшифруйте и запишите 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696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коре 7я  40  о5 сядет за  100л, блещущий  чи100тою.  Сес3цы-40и  е2   ухи3лись  пре2рительно приготовить  обед,  отыскать вме100  осе3ны   100лько  ус3ц, что пред100ит  целый пи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696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граф 59, правил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пражнение 34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думать собственный текст или несколько предложений, состоящих из слов, в состав которых входили бы числительны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25:25Z</dcterms:created>
  <dc:creator>C</dc:creator>
  <dc:description/>
  <dc:language>en-US</dc:language>
  <cp:lastModifiedBy>1</cp:lastModifiedBy>
  <dcterms:modified xsi:type="dcterms:W3CDTF">2009-01-21T14:44:54Z</dcterms:modified>
  <cp:revision>28</cp:revision>
  <dc:subject/>
  <dc:title>Слайд 1</dc:title>
</cp:coreProperties>
</file>