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1F3-E1A4-448E-AFA6-342B6550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85D-BE12-43B9-8396-A0B90E58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9D3-12C2-475B-ADF2-4275B31F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365-7593-4E63-A443-3CA1C7A6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F5D1-F1F4-4A47-BD95-E8AC9893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9AC3-2BD5-4EE3-A00B-369BF6E7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52D6-0E33-44BE-9B21-BCAB2A00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300B-48A0-465D-8470-3FE7FEBD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23F1-6023-428E-A754-794463EE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F8A8-957F-493A-A5E3-ECC7DE5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5A84-8F91-4AD0-B80A-AA3C3F0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9BB-4EFE-4C56-9D89-B7DC7DDD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16CC-40F4-4009-B106-2001E0D8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3B5F-5FA7-406B-8BD3-FB93C2B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C3C-1C26-41FF-9D40-3A18C33E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D0F3-E3C6-4E42-8683-8016E4FE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F556-3C06-4581-8D1F-4EF8D43B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F65-840B-4BD6-9FB5-D888A7D0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EC8-9CCF-488C-B3A3-B445FF1F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90E-7752-40CA-BE61-8D6F626D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F40-7666-421E-8C64-71DEE38C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444-48B4-46D5-9C0B-25A25574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687-ECD1-4538-BA63-C9BB8C3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A5F-0BCD-48A5-9BB5-0EFB79F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52A2-259B-4DE6-B5A1-3D4F3547546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5842-863D-4957-8314-263DE6CBA2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81000"/>
            <a:ext cx="6400800" cy="230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Comic Sans MS"/>
              </a:rPr>
              <a:t>Имя числительное как часть речи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356000" y="620640"/>
            <a:ext cx="324180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64000" y="2205000"/>
            <a:ext cx="122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31308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00"/>
                </a:solidFill>
                <a:latin typeface="Comic Sans MS"/>
              </a:rPr>
              <a:t>Сколько числитель-ных на экран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Из истории числительны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Ъ НА ДЕСЯТ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ЪВА НА ДЕСЯТ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Е НА ДЕСЯ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20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800"/>
                </a:solidFill>
                <a:latin typeface="Comic Sans MS"/>
              </a:rPr>
              <a:t>Имена числительные могут быть разными членами предло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7696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и пять – восем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делите восемь на дв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мудреца в одном тазу пустились по морю в гроз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708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28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4653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65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465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Третье лишне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960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мь, седьмой, семёр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надцатый, двенадцатиметровый, двенадц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, трояк, третьего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вятка, девятого, девят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Правильный ответ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96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мёр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надцатиметров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ояк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вя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Расшифруйте и запишите 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696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коре 7я  40  о5 сядет за  100л, блещущий  чи100тою.  Сес3цы-40и  е2   ухи3лись  пре2рительно приготовить  обед,  отыскать вме100  осе3ны   100лько  ус3ц, что пред100ит  целый пи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696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раграф 59, правил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пражнение 34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думать собственный текст или несколько предложений, состоящих из слов, в состав которых входили бы числительны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25:25Z</dcterms:created>
  <dc:creator>C</dc:creator>
  <dc:description/>
  <dc:language>en-US</dc:language>
  <cp:lastModifiedBy>1</cp:lastModifiedBy>
  <dcterms:modified xsi:type="dcterms:W3CDTF">2009-01-21T14:44:54Z</dcterms:modified>
  <cp:revision>28</cp:revision>
  <dc:subject/>
  <dc:title>Слайд 1</dc:title>
</cp:coreProperties>
</file>