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9B6A0-26B3-44AE-9C0A-36EE23912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B6469-B06D-423C-99AA-EDD3EE8E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5352B-F683-469E-A48F-1E30562E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EA182-B8D2-4CDF-AC0D-AA09F778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E0284-15CA-46F3-AC48-1C8CB074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54040-37C5-412B-A2E2-570B434F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0A8C6-F298-4895-8209-B960AFE6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509BD-03B0-4D80-8DF8-8E79F9D3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B9861-9C8F-4B75-9777-298FB0B9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36B19-6AE7-4F7F-BEBD-7399846A8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30293-2B8C-42C7-89DE-CBDFAC293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B577A-1BF5-4814-8B4D-94226C308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F906E-31A7-427A-B7F9-F374DC95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A9B998-0617-4D6A-8FE2-2EE0389E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081F4-C2AC-460D-819A-6683E99D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71614D-04FA-4EB3-85E4-199FBF5E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973316-0748-4C47-804C-904CACF2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088F2D-EC55-43F4-86FC-A8179A36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3C96DB-BC5E-422F-965B-7BC8D909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77838-DFE9-430D-A763-B8DAD244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C4BE5C-D178-422F-92BA-B15E183D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BA02AD-754D-4B3E-8C24-68273C7C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E1622-661D-4098-BC56-A3F129EE7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F013D-2F9C-49C5-A796-5F0D8C429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C3E4A-11BD-4390-B792-A61A2AE98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E6076-25C1-43D5-A18B-E67D6EE94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4FA3B-FD83-4334-B3E1-8AE3AE9F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17DF3-BEEC-49E7-8871-1648C2FD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E49D0-DB48-4DFB-82DB-8209ABEE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34B28-8D60-4CC2-A005-475AE947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98070-CA2D-4C4C-AB0E-7679AC11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77416-7948-43BD-92E6-3DF4B149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CFBF9-ED82-4939-8A5C-87882D17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E88F1-846C-41C0-855D-BCB61A82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E98C-6A2F-44F4-892E-6C9033E1C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9AFEB-CD1A-4D23-A984-F9D4C9D2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62B7D-0E63-43DF-A9CB-94020AB98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21C3D-8F74-4A30-A9DB-C015ED9B7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D01519-76BB-4DE8-9049-62F906B48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E401E-1D3F-4893-B074-4669680A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5F3CC4-3DC4-4E54-84F5-C04A6BCB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9B2DB1-A5D3-4F06-8449-D179CACD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738691-5224-4D0D-B875-17C2216A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D36590-BA10-4B69-B963-75616E28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5A41FC-DF7E-44FD-BBC9-E44F7C51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FDD5-44DC-44F0-B444-063FC625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596163-443D-4669-BE90-C347AFDA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CBD56D-E390-47FB-9CC8-8348DEF8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1E5F0A-1A1D-433D-9A0D-CF95A161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CCE935-DEAE-4E59-BD84-84087243A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98B6A8-4C5B-4BCF-9970-CA3228BF4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F42FE6-4507-408E-B1CA-0ECCEA180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5486B2-A7DB-4B7E-83E1-B8371A0A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46A534-6822-4D7C-8718-188C6599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36378F-8C28-4E2F-A59D-2500C6A5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47E4B7-26CF-42C8-AA8D-778739BD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5AF2-9904-437B-8EF9-FC779815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656D5C-5D1D-4582-BD5B-07E867D3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7BD0A7-7062-4CD0-9FF8-615EAFD6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A08AEF-7F91-43A7-9C03-F3496BFB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B1A970-4C80-4AF9-BF37-8155F5A4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2F9B1E-DF6E-4857-8B29-0D8477DA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342A96-6697-48EB-A137-B2429BA71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42FED6-04D4-4E30-AA67-CD58DB0B2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B2E339-7558-471B-A5D2-DEB1BCB7E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163B68-E733-4969-B856-CB32AA47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EE40ED-A3C5-4CB3-91EE-E47138C2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7956-8FE9-4652-9B0C-955CFA86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240DD7-A561-4C48-B982-6A95EB5F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5D4D16-59BA-4356-9468-7021E44B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D87548-ACCA-4298-AA23-84F26A53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F3FD89-655A-47D6-BC18-20A81B55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BE814D-13FC-4AF6-9DD9-70C54ADA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DC81BA-DCB4-4EA3-A8FE-ADDC7DB0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F31CB8-8C20-49A1-B65D-451FC375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616385-CB4A-4A9E-963C-A47767606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197EA6-CC80-4473-9324-F9B10D20B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247A68-EFEE-417C-AB83-50501A47D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EAB7-343D-4281-87D0-D408EAD1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A44BC9-EC01-4DF2-883D-F92C4241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EDBA8E-01D1-4540-8C1F-DDDC3D1D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7E5CE3-D039-4223-AF04-F41D00C1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84053F-4161-4CC7-99D0-CBDBB5B8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806110-66B4-40BC-9423-A85FDDC0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2EFD44-FED6-40AA-83E4-62AC37B6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A638C6-6603-47FC-B402-EF906F39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F68EF1-DEB5-450F-9CDE-4E467A8D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AC625D-223E-4E9C-BC38-FB193477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5952D7-867D-4D84-8CA9-A3FF44B9E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2F48-4F62-4910-9B7C-9CB5A656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E77D36-22BE-4688-870B-EB1B1771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DA1D42-77DF-48E4-BC9F-477D8051C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B63580-D984-4F1F-823B-0544B00D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930CAC-52C9-4BD8-A35E-89AD4D16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A42A8D-28E9-4837-8604-4D018BE0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354599-2255-4E38-8FB6-9F9BAAFE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D5381D-39F7-4EC1-B6D0-587B8755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38A551-EC79-4D20-84C2-9D76AE6A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17A323-4260-45AA-A97D-635F9026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2357C8-2B15-4833-870C-4AF3F61C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AD1E-1969-4F28-8C6F-ADC5C691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C23645-E296-4284-9CC9-131657BA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77A7C0-2BE6-4106-921D-A11B85A08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21C00B-E423-4602-8B59-8E810387E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83C58F-2A27-4E99-A1F7-2C62C8A88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A03783-D6E1-4210-834E-4A835C59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04E013-1286-4AD9-AF9A-AC37285C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799A0C-4A72-42B0-B7A1-AF63E30B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BAFF72-EDF1-4710-98B1-414E4D8F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0C99AA-2484-47CF-8FE8-88579D7B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4381F0-E9CD-4278-990C-5DAC5C07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A7B30-AB52-4C82-974C-B518C2D2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ECCD-4482-4952-9080-577CEE59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FF62FA-28E7-4DC5-A7E4-E73E5D12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25BDB8-99DF-4A7E-834F-E9C7C0D6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A8BE59-7C73-4107-8E80-32C4BE02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E29294-EEEA-4D21-8012-4CBBB4ECA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A6958E-7AB0-4404-B2CC-8BB7F937A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07841D3-F0D0-44D5-BCC9-1803F772A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0DE4BC2-7DB7-4969-820A-6BBEAA43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8006557-340D-469C-B7C9-34A384A5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C558E09-9C66-4C2C-A66E-9BF61EBD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CD83E0D-12C5-4C5E-B973-7A0BE284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5147-7D37-4047-91C6-543FB326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77D21D5-415E-4B58-A9DF-E24EC533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A21368B-BC7D-490D-9C30-D7B3AC55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586ADDE-1B5B-4A27-B632-E374887C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CCF57AD-1630-4A85-90DF-E5CA84CA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E9EF514-72BC-48FA-8F94-C6A5BE90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40826C9-907C-4276-A917-39E9CD4D2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472286E-0908-409A-9592-FA44C2CB3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4773-B77A-4236-9F27-E26DB437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2F4D-481C-49AC-9A05-7162DBD4B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0781-C924-4E07-BC9C-10CE29F3B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B7467-C0F7-4818-B34C-687487B5E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FC607-AE7A-47F6-9DF1-02656E0A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62F6D-0297-40CB-8C21-C0105878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3E165-5E28-49CB-B5CE-1E29A0BA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13613-FDE9-4C64-830D-7F1AF8F1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B7752-CD2F-4B19-92B0-4D9E3CB1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D7647-7610-42D3-B018-5760CB6C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94E05-AAA2-47A3-90B5-B60C4298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6420E-1202-44E4-AB0F-3C9DFA3E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9A02D-0DC1-420B-AE0B-05B5DF1A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81F29-7CF8-4180-9F95-EF579E9E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1B12A-EA0E-4F0A-AB23-617BA4D02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BC119-37DE-40FD-BD2F-2B6FA19D6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3DB08-2534-43C1-8CEC-C18A8A537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35C6E-8A4A-4715-9AB9-AAB53F90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8DA2B-609B-4F09-943D-A4B83EF9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3CCF8-5FF2-4D99-B77E-71E857F0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C1578-51FA-4C8B-B3A6-6E09B47A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9E495-B82A-4E35-BD8D-6EDAA900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B2146-5943-4C36-A117-0AAD326C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F3BCE-9BB7-405A-AA70-D52D2C2E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9C01F-2CEC-49D7-A0A6-7FAEC5DB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B3933-F717-4A42-AD6C-2D9AF652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312BB-DD4C-4FD8-ADA3-0E08D6FF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538F3-39F3-4929-9DEA-3FE0A7F11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FB410-D55C-45AD-88F3-7B69F55FD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BB568-68E6-40E0-8C7A-3E7149E55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55426-EC2F-460E-B3E7-92DF46DF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24ECE-F73C-43F2-B0BD-7B8D57F8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95E2D-C2D7-4721-9FAF-D86A6A1C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208C8-B4E7-4C07-A90D-2B766866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9DBA7-87A2-45F8-B375-00D0823E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241C3-DA26-4987-8D33-2BF16615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0DEB7-AD33-4B43-810C-7D6359FD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4F703-FCE9-4A60-AA14-29368324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5FE0E-5F1F-4FF9-9B53-E5D476CD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030AD-7B5E-4FDE-94FB-81EA922C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676A5-E3E5-41E9-BCA5-975A9873C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DB96D-AC7A-4618-9DB5-4266C55F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06488-0C74-4063-920F-628BD18D1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2959A-96D7-44C8-99FF-79E8EB383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CE9DF-3355-4242-900E-E0674FDB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22AE7-933F-42AC-80AD-4B7011C2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2FB78-5F16-4B0C-9085-731478FC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C21CB-9AF3-491E-82D1-D2755AE5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E1483-48B9-4BA6-A3F9-F1CEF134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8BD99-8690-4043-887D-3B2F1508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56D82-707F-4DF1-BA73-63E52840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A0868-0607-4373-9CEC-DC3561A4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30B8C-F59A-44D9-8371-2E2681A1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664AE-4B83-4CB9-BBD3-2B218F71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46D59-9248-4D0C-A2C0-C958221E6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DFEB6-02D9-4D40-8519-CDAB53692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85EDD-2B07-4F6A-BBC3-27D6B5E24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50DB6-FFD7-4B5D-A857-97EABB51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D5FCB-697B-4FC6-9EAE-A871A7DE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33E7B-B642-40F0-A37F-DA2ECEB3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620A9-902C-4169-97D5-483886D9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5C3F9-B328-47A2-8446-B07D8642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59259-3731-4173-8C98-E45E2B74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BA41C-5EC7-41C8-8376-DFF2096B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C0847-5E16-46C5-B8A3-65C19CC4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0D8E4-0ECE-40CF-8FAB-9F7BE7C7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FB1D7-1887-47F3-9C5A-9F4EFEF3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DFBEF-5983-4EA6-941A-3317EDCEA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C7326-1847-475C-9329-594E895FD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DFD62-F865-40F0-9B31-83596BBD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451A9-97B8-44BC-B271-59C61FD3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3E4AF-F656-48D2-8849-FDEAA694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708AB-7EC2-40C4-AB60-95E7940F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CA4A0-C062-4F89-A542-CD6CE3B0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A238F-1C0E-4E83-BF10-B2BAA941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7C5B1-D85B-48EC-8670-7277A6E1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91141-E327-4435-968D-922B5A04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2501B-C907-4288-BCBC-557055D2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9C3EF-6774-482D-9AE5-E75438D3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C9E29-04EB-42EC-9608-1AEE94EB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4F763-36B6-4620-846F-ABC95E672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731A5-C34E-4E52-A8E9-9B88E12E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3D9665-70F8-4EF9-9B00-85AB4FB5E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E7164-D98D-4D78-8143-E208B551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5B3FA-D9A4-4AB6-A916-353702F7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3278-D7C0-4F36-A2FF-D30E6550AE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dt" idx="28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ftr" idx="29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sldNum" idx="30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2E2D-88F5-4632-9BD9-E6DA7FAAF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7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7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E30F-07E5-4C2C-B898-CB7F3F235A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51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2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2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3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ftr" idx="3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E0AB-8C60-4240-A406-4C63BDA3DB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361E-BF33-4320-90DE-BE289391C3D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FB4A-1690-48F5-9186-DC7032AECC8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5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dt" idx="4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ftr" idx="4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sldNum" idx="4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0CB5-B3A1-4EC3-8CF0-FF9F82737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70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dt" idx="4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ftr" idx="4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 type="sldNum" idx="4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F5E2-B75D-4972-BC66-E3F3CD3E1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453E-F970-4A63-95A9-F350B2EDE3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ftr" idx="5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sldNum" idx="5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58EF-9C88-4A26-A696-D17D3B541F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dt" idx="5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9CFA-FEFB-4FC2-99B4-48329AF793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25F2-8196-4628-81EB-D091749B63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30C5-E974-49D8-B699-55AB112129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8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66cc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8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66cc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33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66cc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BFF9-FD1D-4A71-8E8F-CA37588A12D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23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23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3366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66cc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24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66cc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33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66cc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17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24D7-530D-4A45-81DD-AA83E7B9EFB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90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91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94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D5DC-001C-4592-9F17-DCF15F08C9D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38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4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PlaceHolder 1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sldNum" idx="24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19EC-FA77-4A46-96BC-081F8139109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DB76-E5C2-4AD5-B840-B041C3224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389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bunin.niv.ru/images/bunin/bunin_03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bunin.niv.ru/images/family/bunin_syn.jpg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2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bunin.niv.ru/images/mesta/dom-moscow.jpg" TargetMode="External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bunin.niv.ru/images/mesta/dom-voronez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bunin.niv.ru/images/mesta/gimnaziya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 txBox="1"/>
          <p:nvPr/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115640" y="2276280"/>
            <a:ext cx="7543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Тема урока: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Иван Алексеевич Бунин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. Слово о писателе. 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Проблема  рассказа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«Кавказ».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Мастерство Бунина-прозаика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/>
          </p:nvPr>
        </p:nvSpPr>
        <p:spPr>
          <a:xfrm>
            <a:off x="4642920" y="692280"/>
            <a:ext cx="4038840" cy="57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Свои первые стихи и рассказы Бунин напечатал в 17 лет. После литературно-критической статьи о знакомом поэте-самоучке Бунин был приглашен на работу в редакцию газеты, где выполнял обязанности от корректора до театрального критика. Много ездил по стране и жил только литературным трудом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3429000" cy="5530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/>
          </p:nvPr>
        </p:nvSpPr>
        <p:spPr>
          <a:xfrm>
            <a:off x="1547640" y="764640"/>
            <a:ext cx="6840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н познакомился со многими писателями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роленко, Куприным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рюсовым, Горьки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5" name="" descr=""/>
          <p:cNvPicPr/>
          <p:nvPr/>
        </p:nvPicPr>
        <p:blipFill>
          <a:blip r:embed="rId2"/>
          <a:stretch/>
        </p:blipFill>
        <p:spPr>
          <a:xfrm>
            <a:off x="1979640" y="2492280"/>
            <a:ext cx="53085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651672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 30 годам Бунин уже стал известным писателем, знакомым с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Чеховым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ахманиновым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Шаляпиным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Рассказы "Танька", "Антоновские яблоки", сб. стихов "Листопад" и перевод "Песни о Гайавате" Г. Лонгфелло поражали художественно отточенным языком, виртуозностью и в то же время простотой, энергической точностью, звуча как откровени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9" name="" descr=""/>
          <p:cNvPicPr/>
          <p:nvPr/>
        </p:nvPicPr>
        <p:blipFill>
          <a:blip r:embed="rId2"/>
          <a:stretch/>
        </p:blipFill>
        <p:spPr>
          <a:xfrm>
            <a:off x="395280" y="4869000"/>
            <a:ext cx="2882880" cy="1704960"/>
          </a:xfrm>
          <a:prstGeom prst="rect">
            <a:avLst/>
          </a:prstGeom>
          <a:ln w="0">
            <a:noFill/>
          </a:ln>
        </p:spPr>
      </p:pic>
      <p:pic>
        <p:nvPicPr>
          <p:cNvPr id="870" name="" descr=""/>
          <p:cNvPicPr/>
          <p:nvPr/>
        </p:nvPicPr>
        <p:blipFill>
          <a:blip r:embed="rId3"/>
          <a:stretch/>
        </p:blipFill>
        <p:spPr>
          <a:xfrm>
            <a:off x="6659640" y="404640"/>
            <a:ext cx="1981080" cy="2629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Garamond"/>
              </a:rPr>
              <a:t>Нобелевская прем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37447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Его роман "Жизнь Арсеньева" получил в 1933 Нобелевскую премию "за правдивый артистический талант, с которым он воссоздал в художественной прозе типичный русский характер"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75" name="" descr=""/>
          <p:cNvPicPr/>
          <p:nvPr/>
        </p:nvPicPr>
        <p:blipFill>
          <a:blip r:embed="rId1"/>
          <a:stretch/>
        </p:blipFill>
        <p:spPr>
          <a:xfrm>
            <a:off x="4500720" y="1989000"/>
            <a:ext cx="4427280" cy="2986200"/>
          </a:xfrm>
          <a:prstGeom prst="rect">
            <a:avLst/>
          </a:prstGeom>
          <a:ln w="19080">
            <a:solidFill>
              <a:srgbClr val="ffe7fb"/>
            </a:solidFill>
            <a:miter/>
          </a:ln>
        </p:spPr>
      </p:pic>
    </p:spTree>
  </p:cSld>
  <p:transition>
    <p:fade thruBlk="true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140000" y="3933360"/>
            <a:ext cx="439092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fe9"/>
                </a:solidFill>
                <a:latin typeface="Times New Roman"/>
              </a:rPr>
              <a:t>Иван Алексеевич с Варварой Владимировной Пащенко.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879" name="" descr="И.А. Бунин, В.В. Пащенко. Полтава. 1892 год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692280"/>
            <a:ext cx="29592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435640" y="333000"/>
            <a:ext cx="345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Сын Коленьк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881" name="" descr="Анна Цакни в год замужества с И.А. Буниным. 1898 г."/>
          <p:cNvPicPr/>
          <p:nvPr/>
        </p:nvPicPr>
        <p:blipFill>
          <a:blip r:embed="rId1"/>
          <a:stretch/>
        </p:blipFill>
        <p:spPr>
          <a:xfrm>
            <a:off x="1979640" y="2133720"/>
            <a:ext cx="2495520" cy="363672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Сын И.А. Бунина Николай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948360" y="1484280"/>
            <a:ext cx="1710000" cy="264636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/>
          <p:nvPr/>
        </p:nvSpPr>
        <p:spPr>
          <a:xfrm>
            <a:off x="752400" y="5949000"/>
            <a:ext cx="49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нна Николаевна Цакни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" descr=""/>
          <p:cNvPicPr/>
          <p:nvPr/>
        </p:nvPicPr>
        <p:blipFill>
          <a:blip r:embed="rId1"/>
          <a:stretch/>
        </p:blipFill>
        <p:spPr>
          <a:xfrm>
            <a:off x="-973080" y="0"/>
            <a:ext cx="10404360" cy="7334280"/>
          </a:xfrm>
          <a:prstGeom prst="rect">
            <a:avLst/>
          </a:prstGeom>
          <a:ln w="19080">
            <a:solidFill>
              <a:srgbClr val="ffe7fb"/>
            </a:solidFill>
            <a:miter/>
          </a:ln>
        </p:spPr>
      </p:pic>
      <p:sp>
        <p:nvSpPr>
          <p:cNvPr id="885" name=""/>
          <p:cNvSpPr/>
          <p:nvPr/>
        </p:nvSpPr>
        <p:spPr>
          <a:xfrm>
            <a:off x="5508720" y="1484280"/>
            <a:ext cx="363528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В 1900 Бунин смог впервые уехать в заграничное путешествие. Никогда не имевший и не желавший иметь свой дом, он жил вечным странником, объездившим Европу, Азию, Ближний Восток и Африку, но всегда находившим место и время для литературной рабо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/>
          </p:nvPr>
        </p:nvSpPr>
        <p:spPr>
          <a:xfrm>
            <a:off x="3132000" y="1628640"/>
            <a:ext cx="54835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ера Николаевна Муромцева родилась в 1881 году и принадлежала к дворянской профессорской старой московской семье. Спокойна, рассудительна, умна, прекрасно воспитана, знала четыре языка, неплохо владела пером, занималась переводами..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7" name="" descr="Вера Муромцева - гимназистка"/>
          <p:cNvPicPr/>
          <p:nvPr/>
        </p:nvPicPr>
        <p:blipFill>
          <a:blip r:embed="rId2"/>
          <a:stretch/>
        </p:blipFill>
        <p:spPr>
          <a:xfrm>
            <a:off x="539640" y="404640"/>
            <a:ext cx="256536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 txBox="1"/>
          <p:nvPr/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0" name=""/>
          <p:cNvGraphicFramePr/>
          <p:nvPr/>
        </p:nvGraphicFramePr>
        <p:xfrm>
          <a:off x="1690560" y="1249200"/>
          <a:ext cx="5832720" cy="375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0560" y="1249200"/>
                    <a:ext cx="5832720" cy="37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3106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ван Алексеевич Бунин умер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 ноября 1953 года в Париже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895" name="" descr=""/>
          <p:cNvPicPr/>
          <p:nvPr/>
        </p:nvPicPr>
        <p:blipFill>
          <a:blip r:embed="rId1"/>
          <a:stretch/>
        </p:blipFill>
        <p:spPr>
          <a:xfrm>
            <a:off x="4381560" y="507960"/>
            <a:ext cx="4762440" cy="6350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066320" y="1628640"/>
            <a:ext cx="7086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Цели и задачи урока:</a:t>
            </a:r>
            <a:br>
              <a:rPr sz="36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subTitle"/>
          </p:nvPr>
        </p:nvSpPr>
        <p:spPr>
          <a:xfrm>
            <a:off x="971640" y="2852640"/>
            <a:ext cx="768168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познакомиться с основными этапами жизни великого писател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закрепить умение работать с художественной и справочной литературой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развивать умение слушать, анализировать, выразительно чита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совершенствовать навыки монологического высказыв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 txBox="1"/>
          <p:nvPr/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imes New Roman"/>
              </a:rPr>
              <a:t>Темные алле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300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1937-1945 жил в крайней бедности, но писал рассказы, объединенные в книгу "Темные аллеи", которую Бунин считал "самой совершенной по мастерству"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0" name="" descr=""/>
          <p:cNvPicPr/>
          <p:nvPr/>
        </p:nvPicPr>
        <p:blipFill>
          <a:blip r:embed="rId1"/>
          <a:stretch/>
        </p:blipFill>
        <p:spPr>
          <a:xfrm>
            <a:off x="5364000" y="1557360"/>
            <a:ext cx="2816280" cy="4213080"/>
          </a:xfrm>
          <a:prstGeom prst="rect">
            <a:avLst/>
          </a:prstGeom>
          <a:ln w="19080">
            <a:solidFill>
              <a:srgbClr val="ffe7fb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Garamond"/>
              </a:rPr>
              <a:t>«Кавказ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904" name="" descr=""/>
          <p:cNvPicPr/>
          <p:nvPr/>
        </p:nvPicPr>
        <p:blipFill>
          <a:blip r:embed="rId1"/>
          <a:stretch/>
        </p:blipFill>
        <p:spPr>
          <a:xfrm>
            <a:off x="539640" y="566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05" name="" descr="Дом, в котором жил Ю.А. Бунин и где часто останавливался И.А. Бунин. Москва, Староконюшенный пер., 32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1197000"/>
            <a:ext cx="4535280" cy="367344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4"/>
          <a:stretch/>
        </p:blipFill>
        <p:spPr>
          <a:xfrm>
            <a:off x="4284720" y="3357720"/>
            <a:ext cx="456732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904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904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521643" fill="hold"/>
                                        <p:tgtEl>
                                          <p:spTgt spid="9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720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95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Garamond"/>
              </a:rPr>
              <a:t>Бунин Иван Алексеевич </a:t>
            </a:r>
            <a:br>
              <a:rPr sz="4000"/>
            </a:br>
            <a:r>
              <a:rPr b="1" lang="en-US" sz="4000" spc="-1" strike="noStrike">
                <a:solidFill>
                  <a:srgbClr val="dfd293"/>
                </a:solidFill>
                <a:latin typeface="Garamond"/>
              </a:rPr>
              <a:t>(1870-1953)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1"/>
          <a:stretch/>
        </p:blipFill>
        <p:spPr>
          <a:xfrm>
            <a:off x="2627280" y="404640"/>
            <a:ext cx="3968640" cy="5187960"/>
          </a:xfrm>
          <a:prstGeom prst="rect">
            <a:avLst/>
          </a:prstGeom>
          <a:ln w="19080">
            <a:solidFill>
              <a:srgbClr val="ffe7fb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dfe9"/>
                </a:solidFill>
                <a:latin typeface="Garamond"/>
              </a:rPr>
              <a:t>Отец:</a:t>
            </a: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 Алексей Николаевич Бунин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тец, Алексей Николаевич, помещик Орловской и Тульской губернии был вспыльчивый, азартный, более всего любящий охоту и пение под гитару старинных романсов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5" name="" descr="Алексей Николаевич Бунин"/>
          <p:cNvPicPr/>
          <p:nvPr/>
        </p:nvPicPr>
        <p:blipFill>
          <a:blip r:embed="rId1"/>
          <a:stretch/>
        </p:blipFill>
        <p:spPr>
          <a:xfrm>
            <a:off x="5292720" y="1628640"/>
            <a:ext cx="2917800" cy="4156200"/>
          </a:xfrm>
          <a:prstGeom prst="rect">
            <a:avLst/>
          </a:prstGeom>
          <a:ln w="19080">
            <a:solidFill>
              <a:srgbClr val="ffe7fb"/>
            </a:solidFill>
            <a:miter/>
          </a:ln>
        </p:spPr>
      </p:pic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Мать:</a:t>
            </a: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 Людмила Александровна Бунина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427640" y="1844280"/>
            <a:ext cx="4114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ать Ивана Бунина была полной противоположностью мужу: кроткой, нежной и чувствительной натурой, воспитанной на лирике Пушкина и Жуковского и занималась, в первую очередь, воспитанием детей..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50" name="" descr="Людмила Александровна Бунина"/>
          <p:cNvPicPr/>
          <p:nvPr/>
        </p:nvPicPr>
        <p:blipFill>
          <a:blip r:embed="rId1"/>
          <a:stretch/>
        </p:blipFill>
        <p:spPr>
          <a:xfrm>
            <a:off x="826920" y="1989000"/>
            <a:ext cx="2899080" cy="4029120"/>
          </a:xfrm>
          <a:prstGeom prst="rect">
            <a:avLst/>
          </a:prstGeom>
          <a:ln w="19080">
            <a:solidFill>
              <a:srgbClr val="ffe7fb"/>
            </a:solidFill>
            <a:miter/>
          </a:ln>
        </p:spPr>
      </p:pic>
    </p:spTree>
  </p:cSld>
  <p:transition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3646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7f3f3"/>
                </a:solidFill>
                <a:latin typeface="Times New Roman"/>
              </a:rPr>
              <a:t>Родился в старинной обедневшей дворянской семье. Детство Бунин провел в небольшом родовом имении в деревенской глуши Орловской губерн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54" name="" descr="Дом, в котором родился И.А. Бунин. Воронеж. Большая Дворянская ул.; ныне - просп. Революции, 3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2565360"/>
            <a:ext cx="4162680" cy="2790720"/>
          </a:xfrm>
          <a:prstGeom prst="rect">
            <a:avLst/>
          </a:prstGeom>
          <a:ln w="19080">
            <a:solidFill>
              <a:srgbClr val="ffe7fb"/>
            </a:solidFill>
            <a:miter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/>
          </p:nvPr>
        </p:nvSpPr>
        <p:spPr>
          <a:xfrm>
            <a:off x="4642920" y="2421000"/>
            <a:ext cx="39610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В 1881-1886 Бунин учился в Елецкой гимназии, которую не закончил. Он очень тосковал по дому, плохо учился и после начавшегося нервного расстройства был взят домо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56" name="" descr="Гимназия, в которой учился Бунин в Ельц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197000"/>
            <a:ext cx="3456000" cy="2663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Брат Юл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бучение Бунина продолжил его старший брат Юлий, отсидевший в тюрьме народник-чернопеределец, воспитавший в Бунине вольнолюбие и сострадание к обездоленны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59" name="" descr="Брат Бунина Юлий"/>
          <p:cNvPicPr/>
          <p:nvPr/>
        </p:nvPicPr>
        <p:blipFill>
          <a:blip r:embed="rId1"/>
          <a:stretch/>
        </p:blipFill>
        <p:spPr>
          <a:xfrm>
            <a:off x="5219640" y="1773360"/>
            <a:ext cx="2984400" cy="3746520"/>
          </a:xfrm>
          <a:prstGeom prst="rect">
            <a:avLst/>
          </a:prstGeom>
          <a:ln w="19080">
            <a:solidFill>
              <a:srgbClr val="ffe7fb"/>
            </a:solidFill>
            <a:miter/>
          </a:ln>
        </p:spPr>
      </p:pic>
    </p:spTree>
  </p:cSld>
  <p:transition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0:26:21Z</dcterms:created>
  <dc:creator>shcool</dc:creator>
  <dc:description/>
  <dc:language>en-US</dc:language>
  <cp:lastModifiedBy>Пользователь</cp:lastModifiedBy>
  <dcterms:modified xsi:type="dcterms:W3CDTF">2009-01-17T16:23:34Z</dcterms:modified>
  <cp:revision>26</cp:revision>
  <dc:subject/>
  <dc:title>Бунин Иван Алексеевич  (1870-1953) </dc:title>
</cp:coreProperties>
</file>