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A6E-7002-41F6-8600-AFAFC495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AC7-D13A-46A3-8A16-4C73C200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964-DE4C-49AB-8A71-7D8BDA2B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CF5-B82E-4C51-9BF0-F7FA7EC6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2F335-7428-4DEF-A965-E4B27C99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D6CCA-F2F7-4C96-8F15-BD1C05C8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38BC5-F213-4FCD-BEBF-536D20D3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43306-E4A0-4B5E-BEC4-BF178F87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45135-43A6-4F46-8902-5B7BAB4B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E4708-E6BB-44E6-8264-4D50B7A9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8E203-4C41-4D90-AF85-350723E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678-21FE-4FB9-9488-00A50590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1A97D-000B-4186-8C85-92A0301A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794A8-7E12-4966-A214-416589EC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E5B69-358D-454A-9A06-7F8F8B6E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BB5DB-686F-45A9-97B7-2BD60A45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20007-6581-47CD-A336-E79E49ED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59E-E62F-4547-BECA-B2C26206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CA8-51E1-442A-8196-312E5429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528-3301-418A-AD99-5F3EA7A2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93B-BADC-4E3B-A91C-FAC5DCC3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3F0-6154-4EB2-B16C-CC56B9CA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8D9-A3CB-4ED6-8661-BD969C45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5A2-3FC5-444E-9F7A-1B66D63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3FDE-3DA4-4B86-9CD4-3DEB83EEF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DD60-7ED2-4CA3-9781-58C2FF054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Методика подготовки и проведения родительского собр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льцева Ольга  Вячеслав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«Вохтомская ООШ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ндивидуальные форм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дивидуальные консуль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е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ещения на д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етрадиционные формы работы с родителям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тельские ч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тельские  веч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тельские тренин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тельские рин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 дневник классного руководит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дительское собрание должно просвещать родителей, а не констатировать ошибки и неудачи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ма собрания должна учитывать возрастные особенности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рание должно носить как теоретический, так и практический характ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рание не должно заниматься обсуждением и осуждением личности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843588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сный руководитель должен не назидать, а общаться с родител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тельское собрание не должно быть длительным по врем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ого контролируйте присутствие родителей на собрании, выясняйте причины пропус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тсутствующими родителями проводите индивидуальные беседы и консульт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ляйте программу собрания и перечень вопросов для обсу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жительный итог каждого собрания – это благоприятная основа будущего собр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одительское собрание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куще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матическ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тогов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кущее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рание с традиционной повесткой дня: результаты успеваемости, результаты проводимых мероприят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матическо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рание, посвящённое актуальной пробле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тогово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рание  по подведению результатов развития детского коллектива за определенное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пешность собр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щательная подгот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гнос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ади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щательная подготовк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анирование собр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 сценария собр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писание своеобразного сцен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гности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отдельных сторон жизни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ение актуальных т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ади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формление индивидуальных приглашений для р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дение родительских днев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ение традиционных рубрик в собр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ение ритуа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ощрения роди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ормы работы  с родителям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уппов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дивидуа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Групповые форм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фере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т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тельские клу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убы творчест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0:20:21Z</dcterms:created>
  <dc:creator>юзер</dc:creator>
  <dc:description/>
  <dc:language>en-US</dc:language>
  <cp:lastModifiedBy>юзер</cp:lastModifiedBy>
  <dcterms:modified xsi:type="dcterms:W3CDTF">2009-01-17T16:24:17Z</dcterms:modified>
  <cp:revision>5</cp:revision>
  <dc:subject/>
  <dc:title>Родительское собрание:  методика подготовки и проведения </dc:title>
</cp:coreProperties>
</file>