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141-B50F-4095-B180-B2FC8B78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1A4E-743E-434D-9CCA-36689C46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A550-E272-4889-A356-B864EC91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823D-D87B-47ED-AFD4-CD221D9C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21631-65DB-4930-9006-D73A91F7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0F596-B850-4470-AC7D-114D5DF4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DE8E0-9812-4410-BA62-C397C9E8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D6C35-70A7-40A6-B729-272CA45C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D64FC-1FF1-476B-97F2-1AFF7072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378AC-3B1B-4EE1-AE04-2EC78FF5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F381F-073E-4C3C-B362-DE5528A9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718B-8FAA-4E3F-AAD6-CDF14986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4F1E0-0310-4922-A129-97A52CE3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9CBBB-F6EF-4228-9068-250E6054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3F8B6-F3CB-4911-8F32-C93BF2A8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F9A9D-2BBE-4C35-9994-066D4C06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C1EAA-D512-4E40-B39B-25F2F07E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B81D-4060-4AB4-A0CA-9F279331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0154-39B1-42CD-941A-8850810D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4C39-3F1D-4784-8A8B-6D488C75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A614-A398-45A7-BF7C-93B3D0A4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C68-C4E2-4B15-B9DE-4D814A20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0F6-F9C8-4F07-BACE-EA8AAE53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C43-69A5-45B1-B70C-5E3125AC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B00D-E2E1-467F-8167-57FA0A063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7C5B-A300-4996-A44D-BC486ABF17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Методика подготовки и проведения родительского собр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льцева Ольга  Вячеслав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У «Вохтомская ООШ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Индивидуальные форм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ндивидуальные консульт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се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ещения на до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етрадиционные формы работы с родителями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дительские чт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дительские  веч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дительские тренинг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дительские ринг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В дневник классного руководител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одительское собрание должно просвещать родителей, а не констатировать ошибки и неудачи де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ма собрания должна учитывать возрастные особенности де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брание должно носить как теоретический, так и практический характ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брание не должно заниматься обсуждением и осуждением личности учащих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88640"/>
            <a:ext cx="843588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ассный руководитель должен не назидать, а общаться с родителя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дительское собрание не должно быть длительным по врем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рого контролируйте присутствие родителей на собрании, выясняйте причины пропуск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отсутствующими родителями проводите индивидуальные беседы и консульт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ляйте программу собрания и перечень вопросов для обсуж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ожительный итог каждого собрания – это благоприятная основа будущего собр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одительское собрание 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куще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матическ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тогов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кущее: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1471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брание с традиционной повесткой дня: результаты успеваемости, результаты проводимых мероприят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матическо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брание, посвящённое актуальной проблем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тогово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брание  по подведению результатов развития детского коллектива за определенное врем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спешность собр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щательная подгото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агност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ади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щательная подготовк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ланирование собр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бор сценария собр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писание своеобразного сцена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агности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зучение отдельных сторон жизни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ение актуальных те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адици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формление индивидуальных приглашений для родит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дение родительских днев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ение традиционных рубрик в собр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ение ритуал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флекс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ощрения родите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Формы работы  с родителям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рупповы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ндивидуаль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Групповые форм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нферен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тре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дительские клуб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лубы творчеств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20:20:21Z</dcterms:created>
  <dc:creator>юзер</dc:creator>
  <dc:description/>
  <dc:language>en-US</dc:language>
  <cp:lastModifiedBy>юзер</cp:lastModifiedBy>
  <dcterms:modified xsi:type="dcterms:W3CDTF">2009-01-17T16:24:17Z</dcterms:modified>
  <cp:revision>5</cp:revision>
  <dc:subject/>
  <dc:title>Родительское собрание:  методика подготовки и проведения </dc:title>
</cp:coreProperties>
</file>