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82D-0495-485D-A91C-B182547B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2E1-C3BC-44E3-8FC2-59B56F1E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221-6AFF-4F41-8D2B-4A36337B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AAC-8EA4-451D-B716-E99D3833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C2C-D424-49A9-9C81-F54B302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CAF-64E1-49A0-905B-3A5BAB2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386-C064-4B58-932D-85E9744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B83-1A8D-47C4-B4F3-7B959E2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E02-CCCD-49B4-8682-E371819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835-97F4-4D57-BCB7-FB208B0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886-C7FD-4B67-8D04-DAB9328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4C3-1982-4762-A6F8-B6D0FBE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B09-22CC-49DD-87B9-1F8386A12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1484280"/>
            <a:ext cx="695160" cy="67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763640" y="620640"/>
            <a:ext cx="695520" cy="6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77080" y="134136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11280" y="1557360"/>
            <a:ext cx="695520" cy="67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1413000"/>
            <a:ext cx="695160" cy="67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619280" y="2492280"/>
            <a:ext cx="695160" cy="67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132000" y="3573360"/>
            <a:ext cx="1838520" cy="23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57400" y="696960"/>
            <a:ext cx="260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В голове  -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В животе –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И в ногах сн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И в руках сн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Что за чудо – челов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2680" y="24922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692280"/>
            <a:ext cx="228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сю зиму ле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есной убежит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2160" y="155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042920" y="2637000"/>
            <a:ext cx="5256360" cy="33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2160" y="62064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драгоценный камень, а свет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440" y="112536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1628640"/>
            <a:ext cx="2592360" cy="2735280"/>
          </a:xfrm>
          <a:prstGeom prst="wedgeEllipseCallout">
            <a:avLst>
              <a:gd name="adj1" fmla="val -58268"/>
              <a:gd name="adj2" fmla="val 9793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1268280"/>
            <a:ext cx="2449800" cy="2160720"/>
          </a:xfrm>
          <a:prstGeom prst="wedgeEllipseCallout">
            <a:avLst>
              <a:gd name="adj1" fmla="val -59527"/>
              <a:gd name="adj2" fmla="val 1121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276640"/>
            <a:ext cx="2592360" cy="2376360"/>
          </a:xfrm>
          <a:prstGeom prst="wedgeEllipseCallout">
            <a:avLst>
              <a:gd name="adj1" fmla="val -63287"/>
              <a:gd name="adj2" fmla="val 10350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549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Elephant"/>
              </a:rPr>
              <a:t>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02640" y="549360"/>
            <a:ext cx="14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Elephant"/>
              </a:rPr>
              <a:t>Лё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1341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1341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6320" y="1989000"/>
            <a:ext cx="16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Белый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54720" y="191628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Eras Bold ITC"/>
              </a:rPr>
              <a:t>Бесцв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4922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421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06864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Непрозрачный</a:t>
            </a: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6320" y="2924280"/>
            <a:ext cx="289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Прозра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78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64500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68920" y="4692600"/>
            <a:ext cx="20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</a:rPr>
              <a:t>Рыхл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360" y="459756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rlin Sans FB Demi"/>
              </a:rPr>
              <a:t>Хрупкий</a:t>
            </a: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66996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Elephant"/>
              </a:rPr>
              <a:t>Летели серые гус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Elephant"/>
              </a:rPr>
              <a:t>нароняли белого п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80000" y="1052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9600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24360" y="537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948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332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140360" y="2997360"/>
            <a:ext cx="2000160" cy="234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341360"/>
            <a:ext cx="2303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79244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Всю зиму леж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 весной убе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133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24210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4720" y="6397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е драгоценный кам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 свет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98100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1268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720" y="150480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Дедушка без топ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мост мо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84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2133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981000"/>
            <a:ext cx="7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5536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Eras Bold ITC"/>
              </a:rPr>
              <a:t>По снегу покатите – я под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Eras Bold ITC"/>
              </a:rPr>
              <a:t>На костре согрейте – я проп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052640"/>
            <a:ext cx="352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413000"/>
            <a:ext cx="302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260800" cy="203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973080" y="3357720"/>
            <a:ext cx="2260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254E-007 L 0.56701 -0.14805 E">
                                      <p:cBhvr>
                                        <p:cTn id="28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3321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1160" y="476280"/>
            <a:ext cx="52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при таянии превращается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1880" y="1197000"/>
            <a:ext cx="62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вода замерзает, она превращается в л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7840" y="1773360"/>
            <a:ext cx="25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бесцве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7640" y="227664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ёд прозра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040" y="386064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нежинки пять лу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826560" y="3357720"/>
            <a:ext cx="20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рых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4920" y="285264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ёд хруп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7640" y="436572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прозра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6400" y="494172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снежинки одинак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720" y="551664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 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6160" y="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4936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112536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284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270828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1417600">
            <a:off x="7308360" y="169992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486900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4292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08720" y="3789360"/>
            <a:ext cx="36036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5516640"/>
            <a:ext cx="36036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54936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72360" y="112536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72360" y="170028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72360" y="220500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544500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429264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378936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328464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72360" y="270828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486900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30:24Z</dcterms:created>
  <dc:creator>Денис</dc:creator>
  <dc:description/>
  <dc:language>en-US</dc:language>
  <cp:lastModifiedBy>Денис</cp:lastModifiedBy>
  <dcterms:modified xsi:type="dcterms:W3CDTF">2009-01-23T13:59:57Z</dcterms:modified>
  <cp:revision>11</cp:revision>
  <dc:subject/>
  <dc:title>Слайд 1</dc:title>
</cp:coreProperties>
</file>