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DCB-6E46-4677-937F-BE6C2CF2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2EC-4C64-4E44-A78E-EABFBA0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C8B-5D10-43D2-BBBC-486B4676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E24-B193-4CAF-BCEC-0B852139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EEE-1DAE-40C3-81EA-507451B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474-28EC-4FF2-B87E-5EED5C3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5F8-FBC3-4491-96A5-3325C1C2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618-D30B-4F6A-99EC-3A9F1A9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387-4450-472F-941C-4CAB0D9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D6C-13CD-4A45-8FC9-2820872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6EF-35CA-4D0D-89E7-8418BEE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D74-FD1E-4ECC-A957-0D830DA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86E-67E4-43BD-B8FE-C2140ABE4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1484280"/>
            <a:ext cx="695160" cy="67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763640" y="620640"/>
            <a:ext cx="695520" cy="6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77080" y="134136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11280" y="155736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1413000"/>
            <a:ext cx="695160" cy="67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619280" y="249228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132000" y="3573360"/>
            <a:ext cx="1838520" cy="23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57400" y="696960"/>
            <a:ext cx="260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В голове  -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В животе –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И в ногах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И в руках сн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Что за чудо – челов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2680" y="24922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692280"/>
            <a:ext cx="228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сю зиму ле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есной убежит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2160" y="155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042920" y="2637000"/>
            <a:ext cx="5256360" cy="33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2160" y="62064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драгоценный камень, а свет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440" y="112536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1628640"/>
            <a:ext cx="2592360" cy="2735280"/>
          </a:xfrm>
          <a:prstGeom prst="wedgeEllipseCallout">
            <a:avLst>
              <a:gd name="adj1" fmla="val -58268"/>
              <a:gd name="adj2" fmla="val 9793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1268280"/>
            <a:ext cx="2449800" cy="2160720"/>
          </a:xfrm>
          <a:prstGeom prst="wedgeEllipseCallout">
            <a:avLst>
              <a:gd name="adj1" fmla="val -59527"/>
              <a:gd name="adj2" fmla="val 1121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276640"/>
            <a:ext cx="2592360" cy="2376360"/>
          </a:xfrm>
          <a:prstGeom prst="wedgeEllipseCallout">
            <a:avLst>
              <a:gd name="adj1" fmla="val -63287"/>
              <a:gd name="adj2" fmla="val 10350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549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Elephant"/>
              </a:rPr>
              <a:t>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02640" y="549360"/>
            <a:ext cx="14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Elephant"/>
              </a:rPr>
              <a:t>Лё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1341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1341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6320" y="1989000"/>
            <a:ext cx="16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Белый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54720" y="191628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Eras Bold ITC"/>
              </a:rPr>
              <a:t>Бесцв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4922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421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06864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Непрозрачный</a:t>
            </a: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6320" y="2924280"/>
            <a:ext cx="289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Прозра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78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64500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68920" y="4692600"/>
            <a:ext cx="20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Рыхл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360" y="459756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rlin Sans FB Demi"/>
              </a:rPr>
              <a:t>Хрупкий</a:t>
            </a: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66996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Elephant"/>
              </a:rPr>
              <a:t>Летели серые гус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Elephant"/>
              </a:rPr>
              <a:t>нароняли белого п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80000" y="1052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9600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24360" y="537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948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332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140360" y="2997360"/>
            <a:ext cx="2000160" cy="234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341360"/>
            <a:ext cx="2303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79244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Всю зиму леж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 весной убе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133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24210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4720" y="6397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е драгоценный кам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 свет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98100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1268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720" y="150480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Дедушка без топ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мост мо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84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2133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981000"/>
            <a:ext cx="7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5536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Eras Bold ITC"/>
              </a:rPr>
              <a:t>По снегу покатите – я под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Eras Bold ITC"/>
              </a:rPr>
              <a:t>На костре согрейте – я проп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052640"/>
            <a:ext cx="352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413000"/>
            <a:ext cx="302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260800" cy="203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973080" y="3357720"/>
            <a:ext cx="2260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254E-007 L 0.56701 -0.14805 E">
                                      <p:cBhvr>
                                        <p:cTn id="28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3321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1160" y="476280"/>
            <a:ext cx="52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при таянии превращается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1880" y="1197000"/>
            <a:ext cx="62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вода замерзает, она превращается в л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7840" y="1773360"/>
            <a:ext cx="25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бесцве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7640" y="227664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ёд прозра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040" y="386064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нежинки пять лу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826560" y="3357720"/>
            <a:ext cx="20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рых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4920" y="285264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ёд хруп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7640" y="436572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прозра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6400" y="494172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снежинки одинак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720" y="551664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6160" y="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4936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112536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284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270828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1417600">
            <a:off x="7308360" y="169992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486900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4292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08720" y="378936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5516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54936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72360" y="112536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72360" y="170028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72360" y="220500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544500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429264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378936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328464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72360" y="270828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486900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30:24Z</dcterms:created>
  <dc:creator>Денис</dc:creator>
  <dc:description/>
  <dc:language>en-US</dc:language>
  <cp:lastModifiedBy>Денис</cp:lastModifiedBy>
  <dcterms:modified xsi:type="dcterms:W3CDTF">2009-01-23T13:59:57Z</dcterms:modified>
  <cp:revision>11</cp:revision>
  <dc:subject/>
  <dc:title>Слайд 1</dc:title>
</cp:coreProperties>
</file>