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EF4-D0D5-4A9E-9096-C74C5FE8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4FA-669B-4B45-9A3F-B49E9AF7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A85-325B-4EFF-99D8-14C78668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F8C-572E-4F97-B620-7172421A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2F82-4887-4834-BC86-5033B2D4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D416-6AED-4397-BF63-38777FB3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040F-02CF-463B-A6AB-DCE1E689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1F9B-CE11-4F09-8DAE-604725EA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36BA-693F-4C5B-B42F-7B0B9654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E663-616C-4FCC-9728-E2D33277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6D75-F555-45A3-A817-9B88EBD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F39-27DC-4B92-8E8B-08977D90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6AF4-0BBF-4AD0-8FB9-40AF49DC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E1C0-FA97-4DED-B500-D08D9F84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216E-869D-4098-B75B-1BF22AB5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AA6D-257A-45E8-A52A-E95C3056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3F58-5F81-4BB5-9D3F-2BBC17FB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C2BA-B688-42C5-9A86-8D05ED5B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530EF-0FF0-424C-911F-DA1F6E5D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21AD-56E7-42F9-AB88-6DC21084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EE869-5100-4747-9924-0F0860EC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3338D-E5CA-4BD2-87EE-E58439E0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CED-A4F1-40C1-9088-E5ECDE4B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FB5F-CC9B-4A6F-A4BF-72A61F29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1814-6DC6-48E3-86B1-A9DBB4AA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1173-A5D7-4E93-A11B-283F92CE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96639-72CE-4D0E-B82D-14EAC9E7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1DD1E-978E-4E80-9EC9-8EE913AE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8ECA5-5FD4-442F-AF0F-66D9B7B6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9289-0071-47BF-8080-95F4DF62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9AB5-3DD9-4BE9-8E79-A8739EF7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D134E-9A05-4058-BCE8-E50496FA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99EC7-607B-4173-A2BA-5E8DB2A9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905-783B-4C03-A9C4-B448155C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A4B42-E419-4057-954C-A897C6FC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F8A8-8248-4B66-B620-3D970472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90149-1EF8-4ECF-B252-B1738BB4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AE9CD-A1D3-4314-BFBC-412592ED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4E0DB-72C3-401A-AC45-21BAF2F7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B4243-7737-4B4B-9F54-FD22F81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C0E89-D6E7-4B97-A929-55EA6A5F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AA788-00AE-4F7B-B76D-CBF73F88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C671E-1B3E-413B-A82C-9BCC43D1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1A2AE-9E45-44A9-9A2B-C2AAEA1E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9D5-1E23-4625-B06F-6BC17953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CD2A2-9F0A-4E4B-9D3B-33B72D45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9C2DE-A5F2-49D8-8E2B-D4FF29E6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569EA-AE11-45E4-BC43-B552161E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CC5B7-EBE6-490E-B052-B45580F6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56321-3AC8-44BB-9E50-5785FF71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4840F-4515-4302-A113-D9A69B0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5748E-BF4C-467F-9513-6C7D2AB0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7E2C-BF98-4EE8-A784-AA8BD9E4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C51E-CD27-42D0-980B-FADDBCBA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E2C68-7374-4D44-8843-FA69F7CD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947-4FA8-4E50-A804-3C783C79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BCF2E-D6ED-4DBA-B43C-0B77ADD2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F7A-C6A2-46C4-AB6A-8F6E6E9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3EE-4455-4140-A4E3-65DF2334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91C-6195-4A05-9D52-D67F682C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2AAF-9BD3-4B9C-95FC-C6EDA75A20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5272-6A88-434E-BAB8-E168F97A0AF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CA07-9E0C-4035-B1A4-ABDA5F7AB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3A24-40A3-4BAC-A0BA-F027AB050B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0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B6FA-60EE-4100-A135-3BD9DF13F4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181080" y="189000"/>
            <a:ext cx="8820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b the wrong 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hostess      suitcase      visa     moun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yscrapers      bicycle        passport    tickets             information desk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- in desk        tro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lcome to Australia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t museums, art galleries! Travel by plan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e holiday of a lifetime choose Austral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3025800" cy="20160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097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iscover  this exciting country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holiday will be fantastic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04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67183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US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100240" cy="24480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940360" y="3789360"/>
            <a:ext cx="2238480" cy="2305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2843280" y="2205000"/>
            <a:ext cx="2417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With beautiful countryside and exciting  sights your holiday will have everything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561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it Medeo! Charyn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an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2700360" cy="23018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1835280" y="4292640"/>
            <a:ext cx="3601800" cy="2417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der the let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’m……………………….in collecting stam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einrse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Uncle Ted went to Egypt, he…………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.on the Red Sea. (dnwirusf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I think football is…………………..(cextini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She has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………mountain. (lcimde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Meg is interested in…………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(ophtogarp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 and circle the correct wo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Sahara is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iggest / small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ll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erts / riv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stralia /Engl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re is a large desert and in that country you can se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andas /kangaro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re aren’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any / 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se animals in the Saha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Deserts are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ottest / warm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laces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When you go to a desert, you should always tak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ater /a camer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wea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tie /a 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he world is the book, and those do not travel, read only a page.”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5940360" y="3068640"/>
            <a:ext cx="2097000" cy="216360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1851120" cy="25923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3708360" y="3284640"/>
            <a:ext cx="1476360" cy="312084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4"/>
          <a:stretch/>
        </p:blipFill>
        <p:spPr>
          <a:xfrm>
            <a:off x="2916360" y="119700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ore we learn different countries, the more we know each other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3419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833400" y="2492280"/>
            <a:ext cx="2976480" cy="3529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645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gyp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311640" cy="2651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3240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ustral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457800" cy="21862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027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he US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5668920" cy="41720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6659640" y="3141720"/>
            <a:ext cx="18669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g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362640" y="3560400"/>
            <a:ext cx="2479680" cy="25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2943000" cy="31669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5529240" y="1052640"/>
            <a:ext cx="2649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d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1994040" cy="280980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808000" cy="210528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295272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rma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5148360" y="3116160"/>
            <a:ext cx="3647880" cy="243216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rcRect l="11949" t="1006" r="30328" b="7988"/>
          <a:stretch/>
        </p:blipFill>
        <p:spPr>
          <a:xfrm>
            <a:off x="179280" y="836640"/>
            <a:ext cx="2984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3:05:27Z</dcterms:created>
  <dc:creator>User</dc:creator>
  <dc:description/>
  <dc:language>en-US</dc:language>
  <cp:lastModifiedBy>Zver</cp:lastModifiedBy>
  <dcterms:modified xsi:type="dcterms:W3CDTF">2009-01-19T11:38:42Z</dcterms:modified>
  <cp:revision>28</cp:revision>
  <dc:subject/>
  <dc:title>“The more we learn, the more we know each other”</dc:title>
</cp:coreProperties>
</file>