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28.gif" ContentType="image/gif"/>
  <Override PartName="/ppt/media/image30.gif" ContentType="image/gif"/>
  <Override PartName="/ppt/media/image23.png" ContentType="image/png"/>
  <Override PartName="/ppt/media/image13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gif" ContentType="image/gif"/>
  <Override PartName="/ppt/media/image15.png" ContentType="image/png"/>
  <Override PartName="/ppt/media/image16.gif" ContentType="image/gif"/>
  <Override PartName="/ppt/media/image21.png" ContentType="image/png"/>
  <Override PartName="/ppt/media/image17.gif" ContentType="image/gif"/>
  <Override PartName="/ppt/media/image22.png" ContentType="image/png"/>
  <Override PartName="/ppt/media/image25.png" ContentType="image/png"/>
  <Override PartName="/ppt/media/image19.png" ContentType="image/png"/>
  <Override PartName="/ppt/media/image2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F7F-42E4-413A-B039-4F1948E2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175-6A00-4842-B9EE-C4079B8D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C4E-079A-4595-B42A-9781F788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455-744B-4851-B922-2E510627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48CE-EBEA-424C-A6CF-49AE478E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B545-9B68-41B8-B5C7-F21F0486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FE8B-08D8-467A-9574-32644E02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939D-4E35-4005-8EE7-4391B70E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50D2-AC11-4229-9572-08DC6E14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9259-9AB8-4CFC-B84E-512698FB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DA26-3EA9-4BF0-852C-376D8496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A28-B9C8-41B6-BA5B-092025C2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4576-F262-427B-B793-15BE0ED4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BC71-49C8-4900-BD09-59DE8D6D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9173-9013-4EC1-BD36-FA1BCBA2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ADE4-3DDE-4E23-9528-60318549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1C66-F1C3-4DF0-8D29-A9E07EB3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9B28-12C5-4073-808D-8D668B2D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BBEB-E8FD-4480-8877-A017B72C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55BB-2171-4FC3-88F5-6DD6AF13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3D0C-0E10-4B42-A257-DCA78394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43DE-6A5F-44B1-A5A7-D0B05E71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8EE-C00C-4428-8A2C-E155B1DE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62C7-EF00-4656-AB4D-DB6B69CE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93B7-68F8-4DBC-8219-4180F74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EE86-0CA9-4BF1-96A8-0683B2A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766D-AE37-4958-8627-7F73FCF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D7EC-89FB-486C-922E-B74642DC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817D-4ADA-44F6-A8E5-794AC761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BF4D6-E2C6-4E9E-8D04-793C3DDA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B65B1-3799-4460-9E66-D305D929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E2326-8AB3-4C26-AE7A-017694E1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1C71-AA25-4C11-B19C-B3A6A346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432-57E8-4482-93F7-7B5B2CC6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11E9-DAE7-4120-9A33-D4CB738F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6C5BD-F67E-48C9-892A-64127213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D8CB-53A4-413C-85E3-D039DB19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38EB-C109-4EC9-A52B-CB4F53F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94141-BF8C-4EAF-8D21-99B8C6FC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BB646-CDF7-4599-ACCE-0781A000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7EB1-0F95-4FB2-8835-1436345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16A6-AF85-4A06-9986-FD675290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C070-1EFB-4D46-AF4D-4A0C1685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A67A-0C65-46EC-83A2-765A71F9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472-5F68-4FAD-8836-F00E5953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4A31-2BA7-406D-87B1-F8E58CE0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F33A6-B234-4746-B03B-2B1F60AD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E4B1-8480-4F1C-9FDE-793E5636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3733B-130A-423A-8CF7-AC61E10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0F53-3611-4E83-BB70-05C7AB9C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6A870-37FC-4F1A-ACA4-08F379D3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DB1F-3431-4EDC-BD0D-7795FB2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1D758-6430-41BE-9954-FCF55EE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A27E-BE51-4DDA-8856-A719DBFB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1623B-558E-417C-B752-1BC7FEB1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EB7-5466-402B-A0D7-57A6D3B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497DD-B026-4FE6-87E0-CD91B235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8A2-1AE8-4FD8-9C01-2D562ED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501-9516-4031-96E7-85792440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044-C999-41B8-BA98-853035B3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544B-267C-4A45-A701-6F44F8C284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70CC-2A74-4E55-ACCA-118F5EB09A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D073-F0A0-4D46-99EE-1B4F32D3C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59B6-92F3-46A9-9026-204EBAC962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9E06-740F-4F2E-8A85-588925A4EF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2.png"/><Relationship Id="rId5" Type="http://schemas.openxmlformats.org/officeDocument/2006/relationships/image" Target="../media/image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12.png"/><Relationship Id="rId8" Type="http://schemas.openxmlformats.org/officeDocument/2006/relationships/audio" Target="file:///tmp/home/.config/libreoffice/4/user/gallery/&#1059;%20&#1089;&#1072;&#1084;&#1086;&#1074;&#1072;&#1088;&#1072;%20&#1082;&#1086;&#1088;&#1086;&#1090;&#1082;&#1072;&#1103;.wav" TargetMode="External"/><Relationship Id="rId9" Type="http://schemas.microsoft.com/office/2007/relationships/media" Target="file:///tmp/home/.config/libreoffice/4/user/gallery/&#1059;%20&#1089;&#1072;&#1084;&#1086;&#1074;&#1072;&#1088;&#1072;%20&#1082;&#1086;&#1088;&#1086;&#1090;&#1082;&#1072;&#1103;.wav" TargetMode="External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А С ПРИРОДНЫМ МАТЕРИАЛОМ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ПЛИКАЦИЯ ИЗ КРАШЕНЫХ ОПИЛОК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cc0000"/>
                </a:solidFill>
                <a:latin typeface="Monotype Corsiva"/>
              </a:rPr>
              <a:t>«Чайный сервиз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3382920" cy="281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05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763640" y="2276640"/>
            <a:ext cx="2232000" cy="3097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95640" y="2421000"/>
            <a:ext cx="100800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781360"/>
            <a:ext cx="431640" cy="1871640"/>
          </a:xfrm>
          <a:prstGeom prst="ellipse">
            <a:avLst/>
          </a:prstGeom>
          <a:solidFill>
            <a:srgbClr val="f3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2492280"/>
            <a:ext cx="64944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3640" y="3284640"/>
            <a:ext cx="64764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79640" y="4365720"/>
            <a:ext cx="647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34440" y="620280"/>
            <a:ext cx="723096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Намажьте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клеем синие кружочк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Возьмите опилки синего цвета и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присыпьте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эти круж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01000" y="1340640"/>
            <a:ext cx="47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Придавите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к основе через салфетку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2901960" cy="3529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84360" y="602136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f01"/>
                </a:solidFill>
                <a:latin typeface="Verdana"/>
              </a:rPr>
              <a:t>6.</a:t>
            </a: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 Остатки опилок </a:t>
            </a:r>
            <a:r>
              <a:rPr b="1" i="1" lang="en-US" sz="2000" spc="-1" strike="noStrike">
                <a:solidFill>
                  <a:srgbClr val="333399"/>
                </a:solidFill>
                <a:latin typeface="Verdana"/>
              </a:rPr>
              <a:t>стряхнуть</a:t>
            </a: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5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8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. Порядок работы для красного цвета повтори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2349360"/>
            <a:ext cx="2449440" cy="3167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2492280"/>
            <a:ext cx="1079640" cy="26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80000" y="2852640"/>
            <a:ext cx="504720" cy="2016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58920" y="2492280"/>
            <a:ext cx="792000" cy="792360"/>
          </a:xfrm>
          <a:prstGeom prst="ellipse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3357720"/>
            <a:ext cx="792360" cy="863280"/>
          </a:xfrm>
          <a:prstGeom prst="ellipse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4508640"/>
            <a:ext cx="792000" cy="7920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1989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8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9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6769080" cy="580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90" name=""/>
          <p:cNvSpPr/>
          <p:nvPr/>
        </p:nvSpPr>
        <p:spPr>
          <a:xfrm>
            <a:off x="547560" y="188280"/>
            <a:ext cx="443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Сборка деталей чайного серв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35053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ди за столом спокой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1557360"/>
            <a:ext cx="3600360" cy="212832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себя не пролив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п горячий или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торожней будь, 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яча твоя 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3889440" cy="2684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564000" y="2421000"/>
            <a:ext cx="3451320" cy="41655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859280" y="4581360"/>
            <a:ext cx="1306440" cy="598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5867280" y="4365720"/>
            <a:ext cx="943200" cy="695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974520" cy="851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8317080" y="105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119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ди за столом спокой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481640" y="1341360"/>
            <a:ext cx="4662360" cy="3345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3894120" cy="4392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948360" y="6021360"/>
            <a:ext cx="1306800" cy="3096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796000" y="5734080"/>
            <a:ext cx="942840" cy="695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79280" y="1484280"/>
            <a:ext cx="3745080" cy="76968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Ешь спокойно, не верт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ад тарелкой не крутись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8317080" y="1052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987640" y="4005360"/>
            <a:ext cx="111924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6157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272360" cy="6234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35053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2216160" cy="2658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11280" y="1052640"/>
            <a:ext cx="67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3059280" y="5661000"/>
            <a:ext cx="2752560" cy="100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-360" y="2420640"/>
            <a:ext cx="878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Аппликация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удожественная техника создания изображений из наклеенных или нашитых на основе кусков ткани, растительного материала, опилок, к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230880" y="0"/>
            <a:ext cx="2913120" cy="29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149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а конца, два кольца,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серёдке гвозди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2418840"/>
            <a:ext cx="48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ный Ива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ю жизнь в одной руба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белому полю пройде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ый след его пойм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372360" y="2492280"/>
            <a:ext cx="151128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250920" y="4732200"/>
            <a:ext cx="58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 помощью чего можно соединить две половинки, если нет ни                  гвоздя, ни молот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1211400" cy="151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77652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5164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738036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7308720" y="56610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74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47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576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тя с длинною косой мажет клей одной рук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144000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227640" y="2133720"/>
            <a:ext cx="2165400" cy="18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227640" y="4581360"/>
            <a:ext cx="1866960" cy="13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468360" y="227664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 альбома Арк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ечно сыплю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4797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под пилы у Дани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ыплю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630072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6227640" y="3645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622764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45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474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4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ТЕХНИКА БЕЗОПАСНОСТИ: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ожницы — острый инструмен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держи ножницы концами ввер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оставляй ножницы в открытом вид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ередавай ножницы в закрытом виде кольцами в сторону товарищ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 работе следи за пальцами левой ру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ез разрешения учителя не бери инструмент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733680" cy="1557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885080" y="5300640"/>
            <a:ext cx="9907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ЕЗАНИЕ БУМАГИ НОЖНИЦАМ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по прямой лини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резать серединой лезвия, смотреть на конец ножниц, направляя их вдоль ли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по кривой лини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смотреть на место разреза, плавно поворачивая левой рукой материа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812000" y="5229360"/>
            <a:ext cx="9907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АВИЛА РАБОТЫ КИСТЬЮ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839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ржи кисть вертикально к намазываемой поверх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машистыми движениями от середины к краям нанеси клей тонким слоем на всю поверхность дета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ложи детали на смазанную клеем поверх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жми через салфетку, убра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ишний кл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451640" y="4869000"/>
            <a:ext cx="9907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АВИЛА ЛИЧНОЙ ГИГИЕН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ботай на подкладной доске, если она бумажная, то по мере загрязнения — меня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еди за чистотой рук, вытирай их влажной тряпочк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сле работы тщательно убери рабочее место, вымой кисть, ру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885080" y="4149720"/>
            <a:ext cx="9907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ктическая работа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еревести рисунок на лист бумаги, по шаблон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619280" y="2997360"/>
            <a:ext cx="2160720" cy="30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0" y="3213000"/>
            <a:ext cx="1008000" cy="252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95640" y="3573360"/>
            <a:ext cx="57636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2550960" cy="3098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763640" y="3213000"/>
            <a:ext cx="72072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4005360"/>
            <a:ext cx="71892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5013360"/>
            <a:ext cx="71892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69720" y="6165720"/>
            <a:ext cx="50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Verdana"/>
              </a:rPr>
              <a:t>2.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Вырезать бокал ножницами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740720" y="4653000"/>
            <a:ext cx="9730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1:00:12Z</dcterms:created>
  <dc:creator>Вика</dc:creator>
  <dc:description/>
  <dc:language>en-US</dc:language>
  <cp:lastModifiedBy>Вика</cp:lastModifiedBy>
  <dcterms:modified xsi:type="dcterms:W3CDTF">2008-12-19T20:12:47Z</dcterms:modified>
  <cp:revision>62</cp:revision>
  <dc:subject/>
  <dc:title>ТЕМА УРОКА: РАБОТА С ПРИРОДНЫМ МАТЕРИАЛОМ. АППЛИКАЦИЯ ИЗ КРАШЕНЫХ ОПИЛОК «Чайный сервиз»</dc:title>
</cp:coreProperties>
</file>