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6CF-C613-4D7A-B80A-2B790721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19B-A364-446D-BF84-20385AA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D2E-8AC7-465B-810E-B9B890E0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B4E-BF4A-4E85-8BD8-4A212D03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6FE5-FA68-4891-A0BE-DC795547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838-B41A-43D5-B93A-E660E803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9B4F-B805-4860-B71D-327968E6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DF1E-99DD-4D0D-91C0-DA1E85C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BC5-C0B0-48ED-B6A6-3494928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54E-B033-460A-9D93-46DBEAD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9318-4F86-477E-85C0-E884CBD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0F-C25F-4582-9036-627FE8A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5579-8DDB-4689-B2E4-62246F8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8931-A1DD-4FD3-A66E-6BD5AA3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FFF9-5A34-4836-8029-B0A28CE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F372-FFB8-43E8-8FBA-4605870E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921-B1E9-4FAC-AD60-AF9DF999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8F36-DC35-473D-A115-8C27EB39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FC0C-1155-4811-82E8-778EDE73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2D11-34CC-4668-A628-8B85726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C879-FFC2-466D-89D1-B0A5B977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9AC3-1B2B-4192-B5ED-4FA57C98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9DF-FD52-4366-B7B8-85D447F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7477-6806-45D7-9A14-F6687F4D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DA78-81FB-4217-8B30-FE7D4D9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1F42-83AF-450D-B2C4-C6D4E73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C813-0A6F-4675-992B-B913BC7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0F20-E441-4D99-8535-B9FE514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E865-D523-4100-B143-38DAED6A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1F49-B3B6-4148-A813-82F9405D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8E2-10CC-44B7-A4C0-6C19FB5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60D-A23E-44B6-813A-AD1D596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2EC-6013-464D-B41C-2A50206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300-DC18-42C3-B747-91A4367A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804-3654-4C45-8359-A47C35B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8B2-04DF-4461-A694-32964B0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258-EC46-4888-9EBA-46E9028C8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ADE-1373-42CD-BDB5-D1BDF1CE92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D59A-5007-40B0-9004-45E60CFA21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836280"/>
            <a:ext cx="8062920" cy="276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omic Sans MS"/>
              </a:rPr>
              <a:t>Графики функций </a:t>
            </a: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y=ax</a:t>
            </a:r>
            <a:r>
              <a:rPr b="1" lang="en-US" sz="54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+n</a:t>
            </a:r>
            <a:r>
              <a:rPr b="1" lang="ru-RU" sz="5400" spc="-1" strike="noStrike">
                <a:solidFill>
                  <a:srgbClr val="cc0099"/>
                </a:solidFill>
                <a:latin typeface="Comic Sans MS"/>
              </a:rPr>
              <a:t> и </a:t>
            </a: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y=a(x-m)</a:t>
            </a:r>
            <a:r>
              <a:rPr b="1" lang="en-US" sz="54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ff"/>
                </a:solidFill>
                <a:latin typeface="Comic Sans MS"/>
              </a:rPr>
              <a:t>Выполнила: Винокурова Н.С. Увельская СОШ№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flipV="1">
            <a:off x="4859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556000" y="0"/>
            <a:ext cx="0" cy="328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177336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549360"/>
            <a:ext cx="1152360" cy="1738080"/>
          </a:xfrm>
          <a:custGeom>
            <a:avLst/>
            <a:gdLst/>
            <a:ahLst/>
            <a:rect l="l" t="t" r="r" b="b"/>
            <a:pathLst>
              <a:path w="726" h="1095">
                <a:moveTo>
                  <a:pt x="0" y="45"/>
                </a:moveTo>
                <a:cubicBezTo>
                  <a:pt x="121" y="570"/>
                  <a:pt x="242" y="1095"/>
                  <a:pt x="363" y="1088"/>
                </a:cubicBezTo>
                <a:cubicBezTo>
                  <a:pt x="484" y="1081"/>
                  <a:pt x="665" y="181"/>
                  <a:pt x="726" y="0"/>
                </a:cubicBezTo>
              </a:path>
            </a:pathLst>
          </a:custGeom>
          <a:noFill/>
          <a:ln w="349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6056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8000" y="-33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08920" y="2127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969800">
            <a:off x="2725200" y="10314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64360" y="188640"/>
            <a:ext cx="0" cy="30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2205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1473120"/>
            <a:ext cx="1079640" cy="1451160"/>
          </a:xfrm>
          <a:custGeom>
            <a:avLst/>
            <a:gdLst/>
            <a:ahLst/>
            <a:rect l="l" t="t" r="r" b="b"/>
            <a:pathLst>
              <a:path w="680" h="914">
                <a:moveTo>
                  <a:pt x="0" y="914"/>
                </a:moveTo>
                <a:cubicBezTo>
                  <a:pt x="125" y="464"/>
                  <a:pt x="250" y="14"/>
                  <a:pt x="363" y="7"/>
                </a:cubicBezTo>
                <a:cubicBezTo>
                  <a:pt x="476" y="0"/>
                  <a:pt x="627" y="725"/>
                  <a:pt x="680" y="869"/>
                </a:cubicBezTo>
              </a:path>
            </a:pathLst>
          </a:custGeom>
          <a:noFill/>
          <a:ln w="349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26360" y="219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11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18360" y="11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7142600">
            <a:off x="6058080" y="16560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-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560" y="65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28560" y="136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0560" y="35211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13640" y="35211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50920" y="3645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73408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0000" y="3933720"/>
            <a:ext cx="1152360" cy="1800360"/>
          </a:xfrm>
          <a:custGeom>
            <a:avLst/>
            <a:gdLst/>
            <a:ahLst/>
            <a:rect l="l" t="t" r="r" b="b"/>
            <a:pathLst>
              <a:path w="726" h="1134">
                <a:moveTo>
                  <a:pt x="0" y="0"/>
                </a:moveTo>
                <a:cubicBezTo>
                  <a:pt x="121" y="567"/>
                  <a:pt x="242" y="1134"/>
                  <a:pt x="363" y="1134"/>
                </a:cubicBezTo>
                <a:cubicBezTo>
                  <a:pt x="484" y="1134"/>
                  <a:pt x="666" y="189"/>
                  <a:pt x="726" y="0"/>
                </a:cubicBezTo>
              </a:path>
            </a:pathLst>
          </a:custGeom>
          <a:noFill/>
          <a:ln w="349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579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292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25640" y="5656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7201400">
            <a:off x="2863080" y="4345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(x-5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812000" y="3645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57340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4076640"/>
            <a:ext cx="1079640" cy="1657440"/>
          </a:xfrm>
          <a:custGeom>
            <a:avLst/>
            <a:gdLst/>
            <a:ahLst/>
            <a:rect l="l" t="t" r="r" b="b"/>
            <a:pathLst>
              <a:path w="680" h="1044">
                <a:moveTo>
                  <a:pt x="0" y="0"/>
                </a:moveTo>
                <a:cubicBezTo>
                  <a:pt x="102" y="522"/>
                  <a:pt x="204" y="1044"/>
                  <a:pt x="317" y="1044"/>
                </a:cubicBezTo>
                <a:cubicBezTo>
                  <a:pt x="430" y="1044"/>
                  <a:pt x="620" y="174"/>
                  <a:pt x="680" y="0"/>
                </a:cubicBezTo>
              </a:path>
            </a:pathLst>
          </a:custGeom>
          <a:noFill/>
          <a:ln w="349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2560" y="5656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5872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3728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4791600">
            <a:off x="5515200" y="44283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(x+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 flipV="1">
            <a:off x="471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340000" y="189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1844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260280"/>
            <a:ext cx="1296720" cy="129708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0" y="0"/>
                </a:moveTo>
                <a:cubicBezTo>
                  <a:pt x="136" y="408"/>
                  <a:pt x="272" y="817"/>
                  <a:pt x="408" y="817"/>
                </a:cubicBezTo>
                <a:cubicBezTo>
                  <a:pt x="544" y="817"/>
                  <a:pt x="749" y="136"/>
                  <a:pt x="817" y="0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529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05280" y="12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05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34000" y="13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857160"/>
            <a:ext cx="12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84560" y="928800"/>
            <a:ext cx="11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7915400">
            <a:off x="2524680" y="7246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1/2(x-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948360" y="260280"/>
            <a:ext cx="0" cy="30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76720" y="191628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1052640"/>
            <a:ext cx="1152720" cy="1081080"/>
          </a:xfrm>
          <a:custGeom>
            <a:avLst/>
            <a:gdLst/>
            <a:ahLst/>
            <a:rect l="l" t="t" r="r" b="b"/>
            <a:pathLst>
              <a:path w="726" h="681">
                <a:moveTo>
                  <a:pt x="0" y="0"/>
                </a:moveTo>
                <a:cubicBezTo>
                  <a:pt x="121" y="340"/>
                  <a:pt x="242" y="681"/>
                  <a:pt x="363" y="681"/>
                </a:cubicBezTo>
                <a:cubicBezTo>
                  <a:pt x="484" y="681"/>
                  <a:pt x="665" y="114"/>
                  <a:pt x="726" y="0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10360" y="150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02720" y="1865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427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42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4058400">
            <a:off x="4708080" y="986040"/>
            <a:ext cx="18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1/2(x+3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268360" y="3644640"/>
            <a:ext cx="0" cy="32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530064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27280" y="4221000"/>
            <a:ext cx="720720" cy="1944720"/>
          </a:xfrm>
          <a:custGeom>
            <a:avLst/>
            <a:gdLst/>
            <a:ahLst/>
            <a:rect l="l" t="t" r="r" b="b"/>
            <a:pathLst>
              <a:path w="454" h="1225">
                <a:moveTo>
                  <a:pt x="0" y="1225"/>
                </a:moveTo>
                <a:cubicBezTo>
                  <a:pt x="75" y="612"/>
                  <a:pt x="151" y="0"/>
                  <a:pt x="227" y="0"/>
                </a:cubicBezTo>
                <a:cubicBezTo>
                  <a:pt x="303" y="0"/>
                  <a:pt x="416" y="1021"/>
                  <a:pt x="454" y="1225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6092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43280" y="5445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34000" y="53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6092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13000">
            <a:off x="2701440" y="52974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-4(x-3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164360" y="3644640"/>
            <a:ext cx="0" cy="32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465300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56360" y="5157720"/>
            <a:ext cx="863640" cy="1295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cubicBezTo>
                  <a:pt x="113" y="408"/>
                  <a:pt x="226" y="0"/>
                  <a:pt x="317" y="0"/>
                </a:cubicBezTo>
                <a:cubicBezTo>
                  <a:pt x="408" y="0"/>
                  <a:pt x="506" y="680"/>
                  <a:pt x="544" y="816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73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8672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26360" y="4313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18720" y="4889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7307600">
            <a:off x="5250600" y="55584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-4(x+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560" y="65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86000" y="1364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3640" y="359244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13640" y="35924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764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877000"/>
            <a:ext cx="147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Comic Sans MS"/>
              </a:rPr>
              <a:t>План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Устн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2.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3.Закреп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Проверка знаний: те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Подведение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40000" y="333000"/>
            <a:ext cx="4679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1.Определи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2.Назвать нул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gt;0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4.Возрастание и убыва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5.Наибольшее или наименьшее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456000" cy="572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9800" y="530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96920" y="32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9640" y="522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1.Определи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2.Назвать нул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gt;0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4.Возрастание и убыва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5.Наибольшее или наименьшее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52920" cy="5649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312560" y="376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4681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1.Определи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2.Назвать нул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gt;0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y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4.Возрастание и убыва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5.Наибольшее или наименьшее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00720" cy="5476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92964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87436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248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Определить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Назвать нул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&gt;0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Возрастание и убыва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Наибольшее или наименьшее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743280" cy="5545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05440" y="177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4200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44920" y="32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86360" y="227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4720" y="23734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99"/>
                </a:solidFill>
                <a:latin typeface="Comic Sans MS"/>
              </a:rPr>
              <a:t>y=ax</a:t>
            </a:r>
            <a:r>
              <a:rPr b="1" i="1" lang="en-US" sz="54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i="1" lang="en-US" sz="5400" spc="-1" strike="noStrike">
                <a:solidFill>
                  <a:srgbClr val="cc0099"/>
                </a:solidFill>
                <a:latin typeface="Comic Sans MS"/>
              </a:rPr>
              <a:t>+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84360" y="170028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436572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844640"/>
            <a:ext cx="1655640" cy="2521080"/>
          </a:xfrm>
          <a:custGeom>
            <a:avLst/>
            <a:gdLst/>
            <a:ahLst/>
            <a:rect l="l" t="t" r="r" b="b"/>
            <a:pathLst>
              <a:path w="1043" h="1588">
                <a:moveTo>
                  <a:pt x="0" y="0"/>
                </a:moveTo>
                <a:cubicBezTo>
                  <a:pt x="162" y="794"/>
                  <a:pt x="325" y="1588"/>
                  <a:pt x="499" y="1588"/>
                </a:cubicBezTo>
                <a:cubicBezTo>
                  <a:pt x="673" y="1588"/>
                  <a:pt x="952" y="265"/>
                  <a:pt x="1043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659640" y="1628280"/>
            <a:ext cx="0" cy="446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36572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1700280"/>
            <a:ext cx="1873080" cy="2665440"/>
          </a:xfrm>
          <a:custGeom>
            <a:avLst/>
            <a:gdLst/>
            <a:ahLst/>
            <a:rect l="l" t="t" r="r" b="b"/>
            <a:pathLst>
              <a:path w="1180" h="1679">
                <a:moveTo>
                  <a:pt x="0" y="0"/>
                </a:moveTo>
                <a:cubicBezTo>
                  <a:pt x="219" y="839"/>
                  <a:pt x="438" y="1679"/>
                  <a:pt x="635" y="1679"/>
                </a:cubicBezTo>
                <a:cubicBezTo>
                  <a:pt x="832" y="1679"/>
                  <a:pt x="1089" y="280"/>
                  <a:pt x="118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92280"/>
            <a:ext cx="1727280" cy="2449440"/>
          </a:xfrm>
          <a:custGeom>
            <a:avLst/>
            <a:gdLst/>
            <a:ahLst/>
            <a:rect l="l" t="t" r="r" b="b"/>
            <a:pathLst>
              <a:path w="1088" h="1543">
                <a:moveTo>
                  <a:pt x="0" y="0"/>
                </a:moveTo>
                <a:cubicBezTo>
                  <a:pt x="204" y="771"/>
                  <a:pt x="408" y="1543"/>
                  <a:pt x="589" y="1543"/>
                </a:cubicBezTo>
                <a:cubicBezTo>
                  <a:pt x="770" y="1543"/>
                  <a:pt x="1005" y="257"/>
                  <a:pt x="1088" y="0"/>
                </a:cubicBezTo>
              </a:path>
            </a:pathLst>
          </a:custGeom>
          <a:noFill/>
          <a:ln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628640"/>
            <a:ext cx="1224000" cy="2232000"/>
          </a:xfrm>
          <a:custGeom>
            <a:avLst/>
            <a:gdLst/>
            <a:ahLst/>
            <a:rect l="l" t="t" r="r" b="b"/>
            <a:pathLst>
              <a:path w="771" h="1406">
                <a:moveTo>
                  <a:pt x="0" y="0"/>
                </a:moveTo>
                <a:cubicBezTo>
                  <a:pt x="117" y="703"/>
                  <a:pt x="235" y="1406"/>
                  <a:pt x="363" y="1406"/>
                </a:cubicBezTo>
                <a:cubicBezTo>
                  <a:pt x="491" y="1406"/>
                  <a:pt x="703" y="234"/>
                  <a:pt x="771" y="0"/>
                </a:cubicBezTo>
              </a:path>
            </a:pathLst>
          </a:custGeom>
          <a:noFill/>
          <a:ln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8492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3280" y="150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6564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6560" y="157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728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6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42360" y="4889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2636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7491200">
            <a:off x="6750000" y="175392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201400">
            <a:off x="6736680" y="34246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7209800">
            <a:off x="2423880" y="154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7201400">
            <a:off x="2286720" y="2977920"/>
            <a:ext cx="19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0000"/>
                </a:solidFill>
                <a:latin typeface="Comic Sans MS"/>
              </a:rPr>
              <a:t>y=a(x-m)</a:t>
            </a:r>
            <a:r>
              <a:rPr b="0" i="1" lang="en-US" sz="54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84360" y="1557360"/>
            <a:ext cx="0" cy="468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79736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1557360"/>
            <a:ext cx="2160720" cy="3251160"/>
          </a:xfrm>
          <a:custGeom>
            <a:avLst/>
            <a:gdLst/>
            <a:ahLst/>
            <a:rect l="l" t="t" r="r" b="b"/>
            <a:pathLst>
              <a:path w="1361" h="2048">
                <a:moveTo>
                  <a:pt x="0" y="45"/>
                </a:moveTo>
                <a:cubicBezTo>
                  <a:pt x="227" y="1046"/>
                  <a:pt x="454" y="2048"/>
                  <a:pt x="681" y="2041"/>
                </a:cubicBezTo>
                <a:cubicBezTo>
                  <a:pt x="908" y="2034"/>
                  <a:pt x="1248" y="340"/>
                  <a:pt x="1361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1628640"/>
            <a:ext cx="1727280" cy="3168720"/>
          </a:xfrm>
          <a:custGeom>
            <a:avLst/>
            <a:gdLst/>
            <a:ahLst/>
            <a:rect l="l" t="t" r="r" b="b"/>
            <a:pathLst>
              <a:path w="1088" h="1996">
                <a:moveTo>
                  <a:pt x="0" y="0"/>
                </a:moveTo>
                <a:cubicBezTo>
                  <a:pt x="158" y="998"/>
                  <a:pt x="317" y="1996"/>
                  <a:pt x="498" y="1996"/>
                </a:cubicBezTo>
                <a:cubicBezTo>
                  <a:pt x="679" y="1996"/>
                  <a:pt x="990" y="333"/>
                  <a:pt x="1088" y="0"/>
                </a:cubicBezTo>
              </a:path>
            </a:pathLst>
          </a:custGeom>
          <a:noFill/>
          <a:ln w="349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48360" y="1483920"/>
            <a:ext cx="0" cy="475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4797360"/>
            <a:ext cx="39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1628640"/>
            <a:ext cx="2233800" cy="3168720"/>
          </a:xfrm>
          <a:custGeom>
            <a:avLst/>
            <a:gdLst/>
            <a:ahLst/>
            <a:rect l="l" t="t" r="r" b="b"/>
            <a:pathLst>
              <a:path w="1407" h="1996">
                <a:moveTo>
                  <a:pt x="0" y="0"/>
                </a:moveTo>
                <a:cubicBezTo>
                  <a:pt x="223" y="998"/>
                  <a:pt x="447" y="1996"/>
                  <a:pt x="681" y="1996"/>
                </a:cubicBezTo>
                <a:cubicBezTo>
                  <a:pt x="915" y="1996"/>
                  <a:pt x="1286" y="333"/>
                  <a:pt x="1407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1628640"/>
            <a:ext cx="1800000" cy="3168720"/>
          </a:xfrm>
          <a:custGeom>
            <a:avLst/>
            <a:gdLst/>
            <a:ahLst/>
            <a:rect l="l" t="t" r="r" b="b"/>
            <a:pathLst>
              <a:path w="1134" h="1996">
                <a:moveTo>
                  <a:pt x="0" y="0"/>
                </a:moveTo>
                <a:cubicBezTo>
                  <a:pt x="177" y="998"/>
                  <a:pt x="355" y="1996"/>
                  <a:pt x="544" y="1996"/>
                </a:cubicBezTo>
                <a:cubicBezTo>
                  <a:pt x="733" y="1996"/>
                  <a:pt x="1036" y="333"/>
                  <a:pt x="1134" y="0"/>
                </a:cubicBezTo>
              </a:path>
            </a:pathLst>
          </a:custGeom>
          <a:noFill/>
          <a:ln w="349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81280" y="471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65280" y="147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729640" y="471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68920" y="140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7112000">
            <a:off x="3137760" y="198324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7250000">
            <a:off x="7735680" y="16822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7359800">
            <a:off x="1155960" y="288576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a(x+m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7041800">
            <a:off x="7610040" y="31993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a(x-m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65280" y="471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0560" y="4719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13280" y="471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66000" y="471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950080"/>
            <a:ext cx="169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V="1">
            <a:off x="2340000" y="0"/>
            <a:ext cx="0" cy="328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565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189000"/>
            <a:ext cx="2160720" cy="1450800"/>
          </a:xfrm>
          <a:custGeom>
            <a:avLst/>
            <a:gdLst/>
            <a:ahLst/>
            <a:rect l="l" t="t" r="r" b="b"/>
            <a:pathLst>
              <a:path w="1361" h="914">
                <a:moveTo>
                  <a:pt x="0" y="45"/>
                </a:moveTo>
                <a:cubicBezTo>
                  <a:pt x="227" y="479"/>
                  <a:pt x="454" y="914"/>
                  <a:pt x="681" y="907"/>
                </a:cubicBezTo>
                <a:cubicBezTo>
                  <a:pt x="908" y="900"/>
                  <a:pt x="1248" y="151"/>
                  <a:pt x="1361" y="0"/>
                </a:cubicBezTo>
              </a:path>
            </a:pathLst>
          </a:custGeom>
          <a:noFill/>
          <a:ln w="349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76560" y="248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1440" y="4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33280" y="248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8570600">
            <a:off x="2421720" y="8280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1/2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08200" y="1432080"/>
            <a:ext cx="102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33280" y="155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3640" y="65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093080" y="-360"/>
            <a:ext cx="0" cy="335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19640" y="177336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907920"/>
            <a:ext cx="2089080" cy="1597320"/>
          </a:xfrm>
          <a:custGeom>
            <a:avLst/>
            <a:gdLst/>
            <a:ahLst/>
            <a:rect l="l" t="t" r="r" b="b"/>
            <a:pathLst>
              <a:path w="1316" h="1006">
                <a:moveTo>
                  <a:pt x="0" y="46"/>
                </a:moveTo>
                <a:cubicBezTo>
                  <a:pt x="231" y="526"/>
                  <a:pt x="462" y="1006"/>
                  <a:pt x="681" y="998"/>
                </a:cubicBezTo>
                <a:cubicBezTo>
                  <a:pt x="900" y="990"/>
                  <a:pt x="1210" y="166"/>
                  <a:pt x="1316" y="0"/>
                </a:cubicBezTo>
              </a:path>
            </a:pathLst>
          </a:custGeom>
          <a:noFill/>
          <a:ln w="349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6928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18360" y="-33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85640" y="2414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288200" y="22240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286200">
            <a:off x="7372800" y="13510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1/2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58000" y="65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40000" y="3573360"/>
            <a:ext cx="0" cy="328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86900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11280" y="4869000"/>
            <a:ext cx="1368720" cy="1584360"/>
          </a:xfrm>
          <a:custGeom>
            <a:avLst/>
            <a:gdLst/>
            <a:ahLst/>
            <a:rect l="l" t="t" r="r" b="b"/>
            <a:pathLst>
              <a:path w="862" h="998">
                <a:moveTo>
                  <a:pt x="0" y="998"/>
                </a:moveTo>
                <a:cubicBezTo>
                  <a:pt x="155" y="499"/>
                  <a:pt x="310" y="0"/>
                  <a:pt x="454" y="0"/>
                </a:cubicBezTo>
                <a:cubicBezTo>
                  <a:pt x="598" y="0"/>
                  <a:pt x="794" y="832"/>
                  <a:pt x="862" y="998"/>
                </a:cubicBezTo>
              </a:path>
            </a:pathLst>
          </a:custGeom>
          <a:noFill/>
          <a:ln w="34920">
            <a:solidFill>
              <a:srgbClr val="6d6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1640" y="450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05280" y="486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3328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3895200">
            <a:off x="3029040" y="533232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-2(x-4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3640" y="35211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236000" y="3573360"/>
            <a:ext cx="0" cy="328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4941720"/>
            <a:ext cx="1152720" cy="1440000"/>
          </a:xfrm>
          <a:custGeom>
            <a:avLst/>
            <a:gdLst/>
            <a:ahLst/>
            <a:rect l="l" t="t" r="r" b="b"/>
            <a:pathLst>
              <a:path w="726" h="907">
                <a:moveTo>
                  <a:pt x="0" y="907"/>
                </a:moveTo>
                <a:cubicBezTo>
                  <a:pt x="121" y="453"/>
                  <a:pt x="242" y="0"/>
                  <a:pt x="363" y="0"/>
                </a:cubicBezTo>
                <a:cubicBezTo>
                  <a:pt x="484" y="0"/>
                  <a:pt x="666" y="756"/>
                  <a:pt x="726" y="907"/>
                </a:cubicBezTo>
              </a:path>
            </a:pathLst>
          </a:custGeom>
          <a:noFill/>
          <a:ln w="34920">
            <a:solidFill>
              <a:srgbClr val="6d6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584920" y="500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2928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25280" y="4503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89640" y="486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7314200">
            <a:off x="5193360" y="5615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=-2(x+2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29280" y="35211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33280" y="486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133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59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28:55Z</dcterms:created>
  <dc:creator>User9</dc:creator>
  <dc:description/>
  <dc:language>en-US</dc:language>
  <cp:lastModifiedBy>User9</cp:lastModifiedBy>
  <dcterms:modified xsi:type="dcterms:W3CDTF">2007-09-20T08:42:41Z</dcterms:modified>
  <cp:revision>9</cp:revision>
  <dc:subject/>
  <dc:title>Графики фу</dc:title>
</cp:coreProperties>
</file>