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7.jpeg" ContentType="image/jpeg"/>
  <Override PartName="/ppt/media/image56.jpeg" ContentType="image/jpeg"/>
  <Override PartName="/ppt/media/image53.png" ContentType="image/png"/>
  <Override PartName="/ppt/media/image55.jpeg" ContentType="image/jpeg"/>
  <Override PartName="/ppt/media/image58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3.jpeg" ContentType="image/jpeg"/>
  <Override PartName="/ppt/media/image37.png" ContentType="image/pn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4.png" ContentType="image/png"/>
  <Override PartName="/ppt/media/image75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20.jpeg" ContentType="image/jpeg"/>
  <Override PartName="/ppt/media/image14.jpeg" ContentType="image/jpeg"/>
  <Override PartName="/ppt/media/image41.jpeg" ContentType="image/jpeg"/>
  <Override PartName="/ppt/media/image17.jpeg" ContentType="image/jpeg"/>
  <Override PartName="/ppt/media/image4.jpeg" ContentType="image/jpeg"/>
  <Override PartName="/ppt/media/image18.jpeg" ContentType="image/jpeg"/>
  <Override PartName="/ppt/media/image5.jpeg" ContentType="image/jpeg"/>
  <Override PartName="/ppt/media/image16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62.jpeg" ContentType="image/jpeg"/>
  <Override PartName="/ppt/media/image79.jpeg" ContentType="image/jpeg"/>
  <Override PartName="/ppt/media/image19.jpeg" ContentType="image/jpeg"/>
  <Override PartName="/ppt/media/image63.jpeg" ContentType="image/jpeg"/>
  <Override PartName="/ppt/media/image90.jpeg" ContentType="image/jpeg"/>
  <Override PartName="/ppt/media/image6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1.jpeg" ContentType="image/jpeg"/>
  <Override PartName="/ppt/media/image74.jpeg" ContentType="image/jpeg"/>
  <Override PartName="/ppt/media/image15.jpeg" ContentType="image/jpeg"/>
  <Override PartName="/ppt/media/image61.jpeg" ContentType="image/jpeg"/>
  <Override PartName="/ppt/media/image78.jpeg" ContentType="image/jpeg"/>
  <Override PartName="/ppt/media/image80.png" ContentType="image/png"/>
  <Override PartName="/ppt/media/image65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70.jpeg" ContentType="image/jpeg"/>
  <Override PartName="/ppt/media/image69.jpeg" ContentType="image/jpeg"/>
  <Override PartName="/ppt/media/image89.png" ContentType="image/png"/>
  <Override PartName="/ppt/media/image50.jpeg" ContentType="image/jpeg"/>
  <Override PartName="/ppt/media/image54.png" ContentType="image/png"/>
  <Override PartName="/ppt/media/image76.jpeg" ContentType="image/jpeg"/>
  <Override PartName="/ppt/media/image8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84.jpeg" ContentType="image/jpeg"/>
  <Override PartName="/ppt/media/image25.jpeg" ContentType="image/jpeg"/>
  <Override PartName="/ppt/media/image85.jpeg" ContentType="image/jpeg"/>
  <Override PartName="/ppt/media/image26.jpeg" ContentType="image/jpeg"/>
  <Override PartName="/ppt/media/image51.jpeg" ContentType="image/jpeg"/>
  <Override PartName="/ppt/media/image88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6195-4B40-4194-9F77-57742D09C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A2F4-04BA-48D9-BAC5-246E991ED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6299-FBB5-473F-B684-A7101B4AB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25F8-3000-41E6-9BC8-E3AF1BE13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2CB66-0CC4-403C-8C84-0CA224851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79FC2-B1BC-4D38-9194-A6880E563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49DAC-139A-49D1-98D3-294B1885B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BD6E8-E202-4594-A047-1531F59F7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58BB7-BBD3-4FA4-9FD2-E8888FB84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69EB0-9AC6-4B61-A0E4-3CB607FC6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946AF-C7F2-4337-93EF-94AFAC7AF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C60E-D4D9-456C-B4F2-178307098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C01A7-F67A-4DF3-9E38-BEC169D86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23C1C-7B27-4EA3-85CE-49D8B72A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DAA0F-A00E-4FDC-BDA3-1FC8223AF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88F01-5B5E-4447-9A30-AF0C70CE7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A5CDB-1462-49A9-B271-37028D142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A4F3-90D9-474F-B753-C4A0986AD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E280-17CD-4E7A-A84C-3AB5EDB4B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50DA-54DB-4F4B-9036-4664966A4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5AE8-1B43-4864-BD2F-89B49EF34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371E-800B-46E3-AFF5-9E641CD6B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8809-684C-4F29-86A5-43D9B2328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7F64-EAC7-424B-A3E4-36FE47FFA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D4AEB-17D4-4031-9390-8F9AE64259C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98CC0-2762-4F7C-931B-A546BAA3276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9.jpeg"/><Relationship Id="rId3" Type="http://schemas.openxmlformats.org/officeDocument/2006/relationships/image" Target="../media/image8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image" Target="../media/image34.jpeg"/><Relationship Id="rId9" Type="http://schemas.openxmlformats.org/officeDocument/2006/relationships/image" Target="../media/image35.jpeg"/><Relationship Id="rId10" Type="http://schemas.openxmlformats.org/officeDocument/2006/relationships/image" Target="../media/image36.jpeg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3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14.jpeg"/><Relationship Id="rId5" Type="http://schemas.openxmlformats.org/officeDocument/2006/relationships/image" Target="../media/image18.jpeg"/><Relationship Id="rId6" Type="http://schemas.openxmlformats.org/officeDocument/2006/relationships/image" Target="../media/image15.jpeg"/><Relationship Id="rId7" Type="http://schemas.openxmlformats.org/officeDocument/2006/relationships/image" Target="../media/image47.jpeg"/><Relationship Id="rId8" Type="http://schemas.openxmlformats.org/officeDocument/2006/relationships/slideLayout" Target="../slideLayouts/slideLayout1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image" Target="../media/image53.png"/><Relationship Id="rId7" Type="http://schemas.openxmlformats.org/officeDocument/2006/relationships/image" Target="../media/image54.png"/><Relationship Id="rId8" Type="http://schemas.openxmlformats.org/officeDocument/2006/relationships/image" Target="../media/image55.jpeg"/><Relationship Id="rId9" Type="http://schemas.openxmlformats.org/officeDocument/2006/relationships/image" Target="../media/image56.jpeg"/><Relationship Id="rId10" Type="http://schemas.openxmlformats.org/officeDocument/2006/relationships/image" Target="../media/image57.jpeg"/><Relationship Id="rId11" Type="http://schemas.openxmlformats.org/officeDocument/2006/relationships/image" Target="../media/image58.jpeg"/><Relationship Id="rId12" Type="http://schemas.openxmlformats.org/officeDocument/2006/relationships/slideLayout" Target="../slideLayouts/slideLayout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image" Target="../media/image67.jpe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image" Target="../media/image70.jpeg"/><Relationship Id="rId4" Type="http://schemas.openxmlformats.org/officeDocument/2006/relationships/image" Target="../media/image71.jpeg"/><Relationship Id="rId5" Type="http://schemas.openxmlformats.org/officeDocument/2006/relationships/image" Target="../media/image72.jpeg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76.jpeg"/><Relationship Id="rId3" Type="http://schemas.openxmlformats.org/officeDocument/2006/relationships/image" Target="../media/image77.jpeg"/><Relationship Id="rId4" Type="http://schemas.openxmlformats.org/officeDocument/2006/relationships/image" Target="../media/image78.jpeg"/><Relationship Id="rId5" Type="http://schemas.openxmlformats.org/officeDocument/2006/relationships/image" Target="../media/image79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81.jpeg"/><Relationship Id="rId3" Type="http://schemas.openxmlformats.org/officeDocument/2006/relationships/image" Target="../media/image82.jpeg"/><Relationship Id="rId4" Type="http://schemas.openxmlformats.org/officeDocument/2006/relationships/image" Target="../media/image83.jpeg"/><Relationship Id="rId5" Type="http://schemas.openxmlformats.org/officeDocument/2006/relationships/image" Target="../media/image84.jpeg"/><Relationship Id="rId6" Type="http://schemas.openxmlformats.org/officeDocument/2006/relationships/image" Target="../media/image85.jpeg"/><Relationship Id="rId7" Type="http://schemas.openxmlformats.org/officeDocument/2006/relationships/image" Target="../media/image86.jpeg"/><Relationship Id="rId8" Type="http://schemas.openxmlformats.org/officeDocument/2006/relationships/image" Target="../media/image87.jpeg"/><Relationship Id="rId9" Type="http://schemas.openxmlformats.org/officeDocument/2006/relationships/image" Target="../media/image88.jpeg"/><Relationship Id="rId10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hyperlink" Target="http://www.brixbrum.ru/terem/ris_terem/416.gif" TargetMode="External"/><Relationship Id="rId3" Type="http://schemas.openxmlformats.org/officeDocument/2006/relationships/image" Target="../media/image89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image" Target="../media/image90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image" Target="../media/image90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image" Target="../media/image9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2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image" Target="../media/image14.jpeg"/><Relationship Id="rId14" Type="http://schemas.openxmlformats.org/officeDocument/2006/relationships/image" Target="../media/image15.jpeg"/><Relationship Id="rId15" Type="http://schemas.openxmlformats.org/officeDocument/2006/relationships/image" Target="../media/image16.jpeg"/><Relationship Id="rId16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image" Target="../media/image90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image" Target="../media/image90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image" Target="../media/image90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image" Target="../media/image90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image" Target="../media/image90.jpe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image" Target="../media/image90.jpe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8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image" Target="../media/image90.jpe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8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979640" y="2421000"/>
            <a:ext cx="597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908000" y="333360"/>
            <a:ext cx="554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Times New Roman"/>
              </a:rPr>
              <a:t>Тип Моллюски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32000" y="119700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859280" y="3517920"/>
            <a:ext cx="3967200" cy="29750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395280" y="1700280"/>
            <a:ext cx="3816360" cy="34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ecff"/>
                </a:solidFill>
                <a:latin typeface="Times New Roman"/>
              </a:rPr>
              <a:t>У НЕКОТОРЫХ  ВИДОВ РАКОВИНЫ НЕТ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3672000" cy="240696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468360" y="3573360"/>
            <a:ext cx="3672000" cy="287496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3"/>
          <a:stretch/>
        </p:blipFill>
        <p:spPr>
          <a:xfrm>
            <a:off x="4716360" y="4149720"/>
            <a:ext cx="3911760" cy="231624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4"/>
          <a:stretch/>
        </p:blipFill>
        <p:spPr>
          <a:xfrm>
            <a:off x="4716360" y="907920"/>
            <a:ext cx="395460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3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500"/>
                            </p:stCondLst>
                            <p:childTnLst>
                              <p:par>
                                <p:cTn id="30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4500"/>
                            </p:stCondLst>
                            <p:childTnLst>
                              <p:par>
                                <p:cTn id="3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ecff"/>
                </a:solidFill>
                <a:latin typeface="Times New Roman"/>
              </a:rPr>
              <a:t>РАЗНООБРАЗИЕ РАКОВИН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1835280" y="1197000"/>
            <a:ext cx="5545080" cy="525636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2771640" y="1197000"/>
            <a:ext cx="3940200" cy="525636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3"/>
          <a:stretch/>
        </p:blipFill>
        <p:spPr>
          <a:xfrm>
            <a:off x="1042920" y="1628640"/>
            <a:ext cx="6918480" cy="415152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4"/>
          <a:stretch/>
        </p:blipFill>
        <p:spPr>
          <a:xfrm>
            <a:off x="1619280" y="1341360"/>
            <a:ext cx="5977080" cy="461808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5"/>
          <a:stretch/>
        </p:blipFill>
        <p:spPr>
          <a:xfrm>
            <a:off x="755640" y="1106640"/>
            <a:ext cx="7345440" cy="551016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6"/>
          <a:stretch/>
        </p:blipFill>
        <p:spPr>
          <a:xfrm>
            <a:off x="2843280" y="1125360"/>
            <a:ext cx="3673440" cy="573264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7"/>
          <a:stretch/>
        </p:blipFill>
        <p:spPr>
          <a:xfrm>
            <a:off x="2411280" y="1197000"/>
            <a:ext cx="4467240" cy="531972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8"/>
          <a:stretch/>
        </p:blipFill>
        <p:spPr>
          <a:xfrm>
            <a:off x="1619280" y="1341360"/>
            <a:ext cx="6359400" cy="477036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9"/>
          <a:stretch/>
        </p:blipFill>
        <p:spPr>
          <a:xfrm>
            <a:off x="2268360" y="1268280"/>
            <a:ext cx="3940200" cy="525636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10"/>
          <a:stretch/>
        </p:blipFill>
        <p:spPr>
          <a:xfrm>
            <a:off x="2268360" y="1268280"/>
            <a:ext cx="4408560" cy="51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4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3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2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6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9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4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68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7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8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6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20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2000"/>
                            </p:stCondLst>
                            <p:childTnLst>
                              <p:par>
                                <p:cTn id="40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4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4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412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424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ecff"/>
                </a:solidFill>
                <a:latin typeface="Times New Roman"/>
              </a:rPr>
              <a:t>ВНУТРЕННЕЕ СТРОЕНИЕ МОЛЛЮСКОВ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1835280" y="1463760"/>
            <a:ext cx="5545080" cy="468936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5003640" y="3284640"/>
            <a:ext cx="36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ecff"/>
                </a:solidFill>
                <a:latin typeface="Times New Roman"/>
              </a:rPr>
              <a:t>РАДУЛА (ТЁРКА) БРЮХОНОГИХ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2484360" y="1590840"/>
            <a:ext cx="4608720" cy="45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ecff"/>
                </a:solidFill>
                <a:latin typeface="Times New Roman"/>
              </a:rPr>
              <a:t>ВНУТРЕННЕЕ СТРОЕНИЕ МОЛЛЮСКОВ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003640" y="3284640"/>
            <a:ext cx="36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1476360" y="1268280"/>
            <a:ext cx="6049800" cy="51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ecff"/>
                </a:solidFill>
                <a:latin typeface="Times New Roman"/>
              </a:rPr>
              <a:t>ОРГАНЫ ЧУВСТВ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3456000" cy="2376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395280" y="3716280"/>
            <a:ext cx="3745080" cy="276372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4211640" y="1197000"/>
            <a:ext cx="44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95640" y="1197000"/>
            <a:ext cx="48243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fe1ff"/>
                </a:solidFill>
                <a:latin typeface="Times New Roman"/>
              </a:rPr>
              <a:t>Органы осязания – на голове, в ноге, жабрах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fe1ff"/>
                </a:solidFill>
                <a:latin typeface="Times New Roman"/>
              </a:rPr>
              <a:t>Органы зрения – на голов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fe1ff"/>
                </a:solidFill>
                <a:latin typeface="Times New Roman"/>
              </a:rPr>
              <a:t>Органы обоняния – на голове, в кож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fe1ff"/>
                </a:solidFill>
                <a:latin typeface="Times New Roman"/>
              </a:rPr>
              <a:t>Органы равновесия в ног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fe1ff"/>
                </a:solidFill>
                <a:latin typeface="Times New Roman"/>
              </a:rPr>
              <a:t>Органы химического чувства – в жабрах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3"/>
          <a:stretch/>
        </p:blipFill>
        <p:spPr>
          <a:xfrm>
            <a:off x="4427640" y="3716280"/>
            <a:ext cx="42498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ccecff"/>
                </a:solidFill>
                <a:uFillTx/>
                <a:latin typeface="Times New Roman"/>
              </a:rPr>
              <a:t>Отличительные черты</a:t>
            </a:r>
            <a:r>
              <a:rPr b="1" i="1" lang="ru-RU" sz="3200" spc="-1" strike="noStrike">
                <a:solidFill>
                  <a:srgbClr val="ccecff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fe1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afe1ff"/>
                </a:solidFill>
                <a:uFillTx/>
                <a:latin typeface="Times New Roman"/>
              </a:rPr>
              <a:t>Среда обитания моллюсков</a:t>
            </a:r>
            <a:r>
              <a:rPr b="1" lang="ru-RU" sz="3200" spc="-1" strike="noStrike">
                <a:solidFill>
                  <a:srgbClr val="afe1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Verdana"/>
              </a:rPr>
              <a:t>Моря, пресные водоёмы, суш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fe1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afe1ff"/>
                </a:solidFill>
                <a:uFillTx/>
                <a:latin typeface="Times New Roman"/>
              </a:rPr>
              <a:t>Симметрия тела</a:t>
            </a:r>
            <a:r>
              <a:rPr b="1" lang="ru-RU" sz="3200" spc="-1" strike="noStrike">
                <a:solidFill>
                  <a:srgbClr val="afe1ff"/>
                </a:solidFill>
                <a:latin typeface="Times New Roman"/>
              </a:rPr>
              <a:t> </a:t>
            </a:r>
            <a:r>
              <a:rPr b="1" lang="ru-RU" sz="3200" spc="-1" strike="noStrike" u="sng">
                <a:solidFill>
                  <a:srgbClr val="afe1ff"/>
                </a:solidFill>
                <a:uFillTx/>
                <a:latin typeface="Times New Roman"/>
              </a:rPr>
              <a:t>большинства моллюсков</a:t>
            </a:r>
            <a:r>
              <a:rPr b="1" lang="ru-RU" sz="3200" spc="-1" strike="noStrike">
                <a:solidFill>
                  <a:srgbClr val="afe1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Verdana"/>
              </a:rPr>
              <a:t>Двустроння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fe1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afe1ff"/>
                </a:solidFill>
                <a:uFillTx/>
                <a:latin typeface="Times New Roman"/>
              </a:rPr>
              <a:t>Тело большинства моллюсков</a:t>
            </a:r>
            <a:r>
              <a:rPr b="1" lang="ru-RU" sz="3200" spc="-1" strike="noStrike">
                <a:solidFill>
                  <a:srgbClr val="afe1ff"/>
                </a:solidFill>
                <a:latin typeface="Times New Roman"/>
              </a:rPr>
              <a:t> </a:t>
            </a:r>
            <a:r>
              <a:rPr b="1" lang="ru-RU" sz="3200" spc="-1" strike="noStrike" u="sng">
                <a:solidFill>
                  <a:srgbClr val="afe1ff"/>
                </a:solidFill>
                <a:uFillTx/>
                <a:latin typeface="Times New Roman"/>
              </a:rPr>
              <a:t>защищено</a:t>
            </a:r>
            <a:r>
              <a:rPr b="1" lang="ru-RU" sz="3200" spc="-1" strike="noStrike">
                <a:solidFill>
                  <a:srgbClr val="afe1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Verdana"/>
              </a:rPr>
              <a:t>Раковин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fe1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afe1ff"/>
                </a:solidFill>
                <a:uFillTx/>
                <a:latin typeface="Times New Roman"/>
              </a:rPr>
              <a:t>Тело покрыто кожной складкой</a:t>
            </a:r>
            <a:r>
              <a:rPr b="1" lang="ru-RU" sz="3200" spc="-1" strike="noStrike">
                <a:solidFill>
                  <a:srgbClr val="afe1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Verdana"/>
              </a:rPr>
              <a:t>Манти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50920" y="-11397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23640" y="333000"/>
            <a:ext cx="8373960" cy="62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afe1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afe1ff"/>
                </a:solidFill>
                <a:uFillTx/>
                <a:latin typeface="Times New Roman"/>
              </a:rPr>
              <a:t>Между телом и мантией находится</a:t>
            </a:r>
            <a:r>
              <a:rPr b="1" lang="ru-RU" sz="3200" spc="-1" strike="noStrike">
                <a:solidFill>
                  <a:srgbClr val="afe1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Verdana"/>
              </a:rPr>
              <a:t>Мантийная полос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afe1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afe1ff"/>
                </a:solidFill>
                <a:uFillTx/>
                <a:latin typeface="Times New Roman"/>
              </a:rPr>
              <a:t>Тело большинства</a:t>
            </a:r>
            <a:r>
              <a:rPr b="1" lang="ru-RU" sz="3200" spc="-1" strike="noStrike">
                <a:solidFill>
                  <a:srgbClr val="afe1ff"/>
                </a:solidFill>
                <a:latin typeface="Times New Roman"/>
              </a:rPr>
              <a:t> </a:t>
            </a:r>
            <a:r>
              <a:rPr b="1" lang="ru-RU" sz="3200" spc="-1" strike="noStrike" u="sng">
                <a:solidFill>
                  <a:srgbClr val="afe1ff"/>
                </a:solidFill>
                <a:uFillTx/>
                <a:latin typeface="Times New Roman"/>
              </a:rPr>
              <a:t>моллюсков состоит из</a:t>
            </a:r>
            <a:r>
              <a:rPr b="1" lang="ru-RU" sz="3200" spc="-1" strike="noStrike">
                <a:solidFill>
                  <a:srgbClr val="afe1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Verdana"/>
              </a:rPr>
              <a:t>Головы, туловища, ноги, раковины, мант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afe1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afe1ff"/>
                </a:solidFill>
                <a:uFillTx/>
                <a:latin typeface="Times New Roman"/>
              </a:rPr>
              <a:t>Кровеносная система</a:t>
            </a:r>
            <a:r>
              <a:rPr b="1" lang="ru-RU" sz="3200" spc="-1" strike="noStrike">
                <a:solidFill>
                  <a:srgbClr val="afe1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Verdana"/>
              </a:rPr>
              <a:t>Незамкнута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afe1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afe1ff"/>
                </a:solidFill>
                <a:uFillTx/>
                <a:latin typeface="Times New Roman"/>
              </a:rPr>
              <a:t>Органы дыхания</a:t>
            </a:r>
            <a:r>
              <a:rPr b="1" lang="ru-RU" sz="3200" spc="-1" strike="noStrike">
                <a:solidFill>
                  <a:srgbClr val="afe1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Verdana"/>
              </a:rPr>
              <a:t>Лёгкое или жабр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afe1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afe1ff"/>
                </a:solidFill>
                <a:uFillTx/>
                <a:latin typeface="Times New Roman"/>
              </a:rPr>
              <a:t>В пищеварительной системе появляются</a:t>
            </a:r>
            <a:r>
              <a:rPr b="1" lang="ru-RU" sz="3200" spc="-1" strike="noStrike">
                <a:solidFill>
                  <a:srgbClr val="afe1ff"/>
                </a:solidFill>
                <a:latin typeface="Times New Roman"/>
              </a:rPr>
              <a:t> </a:t>
            </a:r>
            <a:r>
              <a:rPr b="1" lang="ru-RU" sz="3200" spc="-1" strike="noStrike" u="sng">
                <a:solidFill>
                  <a:srgbClr val="afe1ff"/>
                </a:solidFill>
                <a:uFillTx/>
                <a:latin typeface="Times New Roman"/>
              </a:rPr>
              <a:t>органы</a:t>
            </a:r>
            <a:r>
              <a:rPr b="1" lang="ru-RU" sz="3200" spc="-1" strike="noStrike">
                <a:solidFill>
                  <a:srgbClr val="afe1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Verdana"/>
              </a:rPr>
              <a:t>Радула (тёрка), печень, слюнные желез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24000" y="-21877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50560" y="404640"/>
            <a:ext cx="889308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fe1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afe1ff"/>
                </a:solidFill>
                <a:uFillTx/>
                <a:latin typeface="Times New Roman"/>
              </a:rPr>
              <a:t>Органы выделения</a:t>
            </a:r>
            <a:r>
              <a:rPr b="1" lang="ru-RU" sz="3200" spc="-1" strike="noStrike">
                <a:solidFill>
                  <a:srgbClr val="afe1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Verdana"/>
              </a:rPr>
              <a:t>Поч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fe1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afe1ff"/>
                </a:solidFill>
                <a:uFillTx/>
                <a:latin typeface="Times New Roman"/>
              </a:rPr>
              <a:t>Нервная система</a:t>
            </a:r>
            <a:r>
              <a:rPr b="1" lang="ru-RU" sz="3200" spc="-1" strike="noStrike">
                <a:solidFill>
                  <a:srgbClr val="afe1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Verdana"/>
              </a:rPr>
              <a:t>Нервные узлы, нервные стволы, нерв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fe1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afe1ff"/>
                </a:solidFill>
                <a:uFillTx/>
                <a:latin typeface="Times New Roman"/>
              </a:rPr>
              <a:t>Органы чувств</a:t>
            </a:r>
            <a:r>
              <a:rPr b="1" lang="ru-RU" sz="3200" spc="-1" strike="noStrike">
                <a:solidFill>
                  <a:srgbClr val="afe1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Verdana"/>
              </a:rPr>
              <a:t>Осязания, обоняния, зрения, равновесия, химического чувст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fe1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afe1ff"/>
                </a:solidFill>
                <a:uFillTx/>
                <a:latin typeface="Times New Roman"/>
              </a:rPr>
              <a:t>По способу размножения моллюски</a:t>
            </a:r>
            <a:r>
              <a:rPr b="1" lang="ru-RU" sz="3200" spc="-1" strike="noStrike">
                <a:solidFill>
                  <a:srgbClr val="afe1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Verdana"/>
              </a:rPr>
              <a:t>Раздельнополые и гермафродит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68360" y="-171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cecff"/>
                </a:solidFill>
                <a:uFillTx/>
                <a:latin typeface="Times New Roman"/>
              </a:rPr>
              <a:t>Класс Брюхоногие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6012000" y="4076640"/>
            <a:ext cx="2808000" cy="210816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324000" y="3284640"/>
            <a:ext cx="2054160" cy="273672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250920" y="620640"/>
            <a:ext cx="1944720" cy="149724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4"/>
          <a:stretch/>
        </p:blipFill>
        <p:spPr>
          <a:xfrm>
            <a:off x="3059280" y="4221000"/>
            <a:ext cx="2520720" cy="189072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0" y="2349360"/>
            <a:ext cx="26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Малый прудови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516720" y="328464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Ариат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32000" y="342900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Голый слизен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686560" y="6237360"/>
            <a:ext cx="34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Виноградная улит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059280" y="623736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Катуш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60930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Ахатинид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5"/>
          <a:stretch/>
        </p:blipFill>
        <p:spPr>
          <a:xfrm>
            <a:off x="6588000" y="476280"/>
            <a:ext cx="1998720" cy="266364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6"/>
          <a:stretch/>
        </p:blipFill>
        <p:spPr>
          <a:xfrm>
            <a:off x="2843280" y="981000"/>
            <a:ext cx="31017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2000"/>
                            </p:stCondLst>
                            <p:childTnLst>
                              <p:par>
                                <p:cTn id="5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5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5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3500"/>
                            </p:stCondLst>
                            <p:childTnLst>
                              <p:par>
                                <p:cTn id="5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24000" y="-11397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95280" y="189000"/>
            <a:ext cx="82296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fe1ff"/>
                </a:solidFill>
                <a:latin typeface="Times New Roman"/>
              </a:rPr>
              <a:t>«…карась лежит, зарывшись в ил, и выбирает оттуда микроскопических ракушек ради продовольствия и рассуждает: «Да и устроена она (ракушка) так, что никак невозможно её проглотить. Потяни рылом воду, ан в зобу у тебя  уж видимо-невидимо ракушек кишит»…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fe1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fe1ff"/>
                </a:solidFill>
                <a:latin typeface="Times New Roman"/>
              </a:rPr>
              <a:t>                                              </a:t>
            </a:r>
            <a:r>
              <a:rPr b="1" i="1" lang="ru-RU" sz="2800" spc="-1" strike="noStrike">
                <a:solidFill>
                  <a:srgbClr val="afe1ff"/>
                </a:solidFill>
                <a:latin typeface="Times New Roman"/>
              </a:rPr>
              <a:t>М.Е. Салтыков-Щедр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fe1ff"/>
                </a:solidFill>
                <a:latin typeface="Times New Roman"/>
              </a:rPr>
              <a:t>                                              </a:t>
            </a:r>
            <a:r>
              <a:rPr b="1" i="1" lang="ru-RU" sz="2800" spc="-1" strike="noStrike">
                <a:solidFill>
                  <a:srgbClr val="afe1ff"/>
                </a:solidFill>
                <a:latin typeface="Times New Roman"/>
              </a:rPr>
              <a:t>«Карась-идеалист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fe1ff"/>
                </a:solidFill>
                <a:latin typeface="Times New Roman"/>
              </a:rPr>
              <a:t>    </a:t>
            </a:r>
            <a:r>
              <a:rPr b="1" i="1" lang="ru-RU" sz="3200" spc="-1" strike="noStrike">
                <a:solidFill>
                  <a:srgbClr val="afe1ff"/>
                </a:solidFill>
                <a:latin typeface="Times New Roman"/>
              </a:rPr>
              <a:t>Догадались ли вы, каких животных мы в повседневной жизни называем ракушкам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-1189080" y="0"/>
            <a:ext cx="9453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cecff"/>
                </a:solidFill>
                <a:uFillTx/>
                <a:latin typeface="Times New Roman"/>
              </a:rPr>
              <a:t>Класс Двустворчатые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2190600" cy="170496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6300720" y="404640"/>
            <a:ext cx="2457360" cy="163836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3"/>
          <a:stretch/>
        </p:blipFill>
        <p:spPr>
          <a:xfrm>
            <a:off x="3276720" y="1484280"/>
            <a:ext cx="2400120" cy="160020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539640" y="2781360"/>
            <a:ext cx="20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Мид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348000" y="314172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Устриц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164360" y="1628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Лим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50920" y="59500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Морское ушк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732720" y="393372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Тридак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877080" y="623736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Перловиц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276720" y="616572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Морской гребешо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4"/>
          <a:stretch/>
        </p:blipFill>
        <p:spPr>
          <a:xfrm>
            <a:off x="3059280" y="3860640"/>
            <a:ext cx="3311280" cy="220824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5"/>
          <a:stretch/>
        </p:blipFill>
        <p:spPr>
          <a:xfrm>
            <a:off x="6588000" y="4581360"/>
            <a:ext cx="2232000" cy="167328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6"/>
          <a:stretch/>
        </p:blipFill>
        <p:spPr>
          <a:xfrm>
            <a:off x="324000" y="3357720"/>
            <a:ext cx="2539800" cy="253980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7"/>
          <a:stretch/>
        </p:blipFill>
        <p:spPr>
          <a:xfrm>
            <a:off x="6443640" y="2205000"/>
            <a:ext cx="237492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000"/>
                            </p:stCondLst>
                            <p:childTnLst>
                              <p:par>
                                <p:cTn id="58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4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4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2500"/>
                            </p:stCondLst>
                            <p:childTnLst>
                              <p:par>
                                <p:cTn id="59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3000"/>
                            </p:stCondLst>
                            <p:childTnLst>
                              <p:par>
                                <p:cTn id="60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3500"/>
                            </p:stCondLst>
                            <p:childTnLst>
                              <p:par>
                                <p:cTn id="604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1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4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4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cecff"/>
                </a:solidFill>
                <a:uFillTx/>
                <a:latin typeface="Times New Roman"/>
              </a:rPr>
              <a:t>Класс Головоногие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5435640" y="1052640"/>
            <a:ext cx="1638360" cy="17143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7093080" y="260280"/>
            <a:ext cx="1800000" cy="11718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tretch/>
        </p:blipFill>
        <p:spPr>
          <a:xfrm>
            <a:off x="7093080" y="1484280"/>
            <a:ext cx="1834920" cy="137628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2268360" y="1413000"/>
            <a:ext cx="2270160" cy="152532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tretch/>
        </p:blipFill>
        <p:spPr>
          <a:xfrm>
            <a:off x="250920" y="260280"/>
            <a:ext cx="1958760" cy="295272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tretch/>
        </p:blipFill>
        <p:spPr>
          <a:xfrm>
            <a:off x="250920" y="4005360"/>
            <a:ext cx="2808360" cy="210636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7"/>
          <a:stretch/>
        </p:blipFill>
        <p:spPr>
          <a:xfrm>
            <a:off x="2268360" y="3213000"/>
            <a:ext cx="2233800" cy="143676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8"/>
          <a:stretch/>
        </p:blipFill>
        <p:spPr>
          <a:xfrm>
            <a:off x="5435640" y="3357720"/>
            <a:ext cx="1914480" cy="143964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9"/>
          <a:stretch/>
        </p:blipFill>
        <p:spPr>
          <a:xfrm>
            <a:off x="6948360" y="5157720"/>
            <a:ext cx="1816200" cy="138420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10"/>
          <a:stretch/>
        </p:blipFill>
        <p:spPr>
          <a:xfrm>
            <a:off x="7093080" y="3860640"/>
            <a:ext cx="1833480" cy="137484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0" y="3500280"/>
            <a:ext cx="29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Каракатиц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012000" y="2421000"/>
            <a:ext cx="25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Осьминог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227640" y="6165720"/>
            <a:ext cx="30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Кальмар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1"/>
          <a:stretch/>
        </p:blipFill>
        <p:spPr>
          <a:xfrm>
            <a:off x="3851280" y="4941720"/>
            <a:ext cx="2290680" cy="163836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2700360" y="6093000"/>
            <a:ext cx="31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Наутилу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00"/>
                            </p:stCondLst>
                            <p:childTnLst>
                              <p:par>
                                <p:cTn id="61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1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2500"/>
                            </p:stCondLst>
                            <p:childTnLst>
                              <p:par>
                                <p:cTn id="62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3000"/>
                            </p:stCondLst>
                            <p:childTnLst>
                              <p:par>
                                <p:cTn id="6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3500"/>
                            </p:stCondLst>
                            <p:childTnLst>
                              <p:par>
                                <p:cTn id="63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4000"/>
                            </p:stCondLst>
                            <p:childTnLst>
                              <p:par>
                                <p:cTn id="63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6000"/>
                            </p:stCondLst>
                            <p:childTnLst>
                              <p:par>
                                <p:cTn id="6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6500"/>
                            </p:stCondLst>
                            <p:childTnLst>
                              <p:par>
                                <p:cTn id="64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1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4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4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7500"/>
                            </p:stCondLst>
                            <p:childTnLst>
                              <p:par>
                                <p:cTn id="65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1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4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4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8500"/>
                            </p:stCondLst>
                            <p:childTnLst>
                              <p:par>
                                <p:cTn id="6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6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1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0" y="-11397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95280" y="333000"/>
            <a:ext cx="8229600" cy="54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НЕОБЫКНОВЕННАЯ ПРОГУЛК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ПО ОБЫКНОВЕННЫМ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МАГАЗИНА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cecff"/>
                </a:solidFill>
                <a:uFillTx/>
                <a:latin typeface="Times New Roman"/>
              </a:rPr>
              <a:t>ПРОДОВОЛЬСТВЕННЫЙ МАГАЗИН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539640" y="1916280"/>
            <a:ext cx="3119400" cy="441612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4356000" y="3141720"/>
            <a:ext cx="4391280" cy="32972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5364000" y="1123920"/>
            <a:ext cx="2376720" cy="184932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3851280" y="206064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Мид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500"/>
                            </p:stCondLst>
                            <p:childTnLst>
                              <p:par>
                                <p:cTn id="68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3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2500"/>
                            </p:stCondLst>
                            <p:childTnLst>
                              <p:par>
                                <p:cTn id="6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95280" y="-8920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4176720" cy="374184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4929120" y="1700280"/>
            <a:ext cx="3859200" cy="477504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1332000" y="4941720"/>
            <a:ext cx="33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Устрицы на обе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500"/>
                            </p:stCondLst>
                            <p:childTnLst>
                              <p:par>
                                <p:cTn id="6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50920" y="-11397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3297240" cy="504036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5256360" y="1844640"/>
            <a:ext cx="3406680" cy="454176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3780000" y="40464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Виноградная улитка на обе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500"/>
                            </p:stCondLst>
                            <p:childTnLst>
                              <p:par>
                                <p:cTn id="70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68360" y="-11397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4535280" cy="238140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826920" y="4076640"/>
            <a:ext cx="3137040" cy="235260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3"/>
          <a:stretch/>
        </p:blipFill>
        <p:spPr>
          <a:xfrm>
            <a:off x="5076720" y="1557360"/>
            <a:ext cx="3684600" cy="484668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468360" y="314172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Осьминог и кальмар на ужин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2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2500"/>
                            </p:stCondLst>
                            <p:childTnLst>
                              <p:par>
                                <p:cTn id="7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cecff"/>
                </a:solidFill>
                <a:uFillTx/>
                <a:latin typeface="Times New Roman"/>
              </a:rPr>
              <a:t>ЮВЕЛИРНЫЙ МАГАЗИН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3024360" cy="302436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5508720" y="981000"/>
            <a:ext cx="3311280" cy="275904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3"/>
          <a:stretch/>
        </p:blipFill>
        <p:spPr>
          <a:xfrm>
            <a:off x="324000" y="4221000"/>
            <a:ext cx="3139920" cy="235764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4"/>
          <a:stretch/>
        </p:blipFill>
        <p:spPr>
          <a:xfrm>
            <a:off x="2627280" y="2421000"/>
            <a:ext cx="3378240" cy="295596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5"/>
          <a:stretch/>
        </p:blipFill>
        <p:spPr>
          <a:xfrm>
            <a:off x="5435640" y="3645000"/>
            <a:ext cx="3378240" cy="286524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55087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99"/>
                </a:solidFill>
                <a:latin typeface="Times New Roman"/>
              </a:rPr>
              <a:t>Тридак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500"/>
                            </p:stCondLst>
                            <p:childTnLst>
                              <p:par>
                                <p:cTn id="73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7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2500"/>
                            </p:stCondLst>
                            <p:childTnLst>
                              <p:par>
                                <p:cTn id="7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3000"/>
                            </p:stCondLst>
                            <p:childTnLst>
                              <p:par>
                                <p:cTn id="7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3500"/>
                            </p:stCondLst>
                            <p:childTnLst>
                              <p:par>
                                <p:cTn id="7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ecff"/>
                </a:solidFill>
                <a:latin typeface="Times New Roman"/>
              </a:rPr>
              <a:t>Украшения из жемчуга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3571920" cy="266688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2987640" y="3789360"/>
            <a:ext cx="3828960" cy="263844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3"/>
          <a:stretch/>
        </p:blipFill>
        <p:spPr>
          <a:xfrm>
            <a:off x="4932360" y="126828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500"/>
                            </p:stCondLst>
                            <p:childTnLst>
                              <p:par>
                                <p:cTn id="75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0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2500"/>
                            </p:stCondLst>
                            <p:childTnLst>
                              <p:par>
                                <p:cTn id="7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4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cecff"/>
                </a:solidFill>
                <a:uFillTx/>
                <a:latin typeface="Times New Roman"/>
              </a:rPr>
              <a:t>Хозяйственный магазин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2876400" cy="288108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2"/>
          <a:stretch/>
        </p:blipFill>
        <p:spPr>
          <a:xfrm>
            <a:off x="5292720" y="1052640"/>
            <a:ext cx="3384720" cy="231300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3"/>
          <a:stretch/>
        </p:blipFill>
        <p:spPr>
          <a:xfrm>
            <a:off x="468360" y="4076640"/>
            <a:ext cx="3741840" cy="252432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4"/>
          <a:stretch/>
        </p:blipFill>
        <p:spPr>
          <a:xfrm>
            <a:off x="4788000" y="371628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3851280" y="595008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ин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804000" y="292428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лаку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5"/>
          <a:stretch/>
        </p:blipFill>
        <p:spPr>
          <a:xfrm>
            <a:off x="3276720" y="1197000"/>
            <a:ext cx="2484360" cy="331308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3492360" y="40053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Мурек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39640" y="350028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Морской гребешо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1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2500"/>
                            </p:stCondLst>
                            <p:childTnLst>
                              <p:par>
                                <p:cTn id="77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3000"/>
                            </p:stCondLst>
                            <p:childTnLst>
                              <p:par>
                                <p:cTn id="7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3500"/>
                            </p:stCondLst>
                            <p:childTnLst>
                              <p:par>
                                <p:cTn id="78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cecff"/>
                </a:solidFill>
                <a:uFillTx/>
                <a:latin typeface="Times New Roman"/>
              </a:rPr>
              <a:t>Тип Моллюски  или Мягкотелые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5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ffff"/>
                </a:solidFill>
                <a:uFillTx/>
                <a:latin typeface="Times New Roman"/>
              </a:rPr>
              <a:t>Моллюски</a:t>
            </a: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 – от латинского слов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«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molluskus</a:t>
            </a: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», что в переводе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означает – </a:t>
            </a:r>
            <a:r>
              <a:rPr b="1" i="1" lang="ru-RU" sz="4000" spc="-1" strike="noStrike" u="sng">
                <a:solidFill>
                  <a:srgbClr val="ffffff"/>
                </a:solidFill>
                <a:uFillTx/>
                <a:latin typeface="Times New Roman"/>
              </a:rPr>
              <a:t>мягкий</a:t>
            </a: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95280" y="-171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cecff"/>
                </a:solidFill>
                <a:uFillTx/>
                <a:latin typeface="Times New Roman"/>
              </a:rPr>
              <a:t>Галантерейный магазин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2"/>
          <a:stretch/>
        </p:blipFill>
        <p:spPr>
          <a:xfrm>
            <a:off x="468360" y="1413000"/>
            <a:ext cx="2951280" cy="236052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3"/>
          <a:stretch/>
        </p:blipFill>
        <p:spPr>
          <a:xfrm>
            <a:off x="5651640" y="1484280"/>
            <a:ext cx="3203280" cy="242100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4"/>
          <a:stretch/>
        </p:blipFill>
        <p:spPr>
          <a:xfrm>
            <a:off x="3924360" y="1125360"/>
            <a:ext cx="2432160" cy="274644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5"/>
          <a:stretch/>
        </p:blipFill>
        <p:spPr>
          <a:xfrm>
            <a:off x="6877080" y="3573360"/>
            <a:ext cx="1960560" cy="273708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6"/>
          <a:stretch/>
        </p:blipFill>
        <p:spPr>
          <a:xfrm>
            <a:off x="468360" y="3933720"/>
            <a:ext cx="1763640" cy="241776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7"/>
          <a:stretch/>
        </p:blipFill>
        <p:spPr>
          <a:xfrm>
            <a:off x="2124000" y="4437000"/>
            <a:ext cx="1747800" cy="189864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8"/>
          <a:stretch/>
        </p:blipFill>
        <p:spPr>
          <a:xfrm>
            <a:off x="4572000" y="4005360"/>
            <a:ext cx="2009880" cy="254772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9"/>
          <a:stretch/>
        </p:blipFill>
        <p:spPr>
          <a:xfrm>
            <a:off x="3276720" y="3429000"/>
            <a:ext cx="1944720" cy="15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500"/>
                            </p:stCondLst>
                            <p:childTnLst>
                              <p:par>
                                <p:cTn id="79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9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2500"/>
                            </p:stCondLst>
                            <p:childTnLst>
                              <p:par>
                                <p:cTn id="80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3000"/>
                            </p:stCondLst>
                            <p:childTnLst>
                              <p:par>
                                <p:cTn id="80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9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3500"/>
                            </p:stCondLst>
                            <p:childTnLst>
                              <p:par>
                                <p:cTn id="8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4000"/>
                            </p:stCondLst>
                            <p:childTnLst>
                              <p:par>
                                <p:cTn id="8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4500"/>
                            </p:stCondLst>
                            <p:childTnLst>
                              <p:par>
                                <p:cTn id="81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5000"/>
                            </p:stCondLst>
                            <p:childTnLst>
                              <p:par>
                                <p:cTn id="82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476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ccecff"/>
                </a:solidFill>
                <a:uFillTx/>
                <a:latin typeface="Times New Roman"/>
              </a:rPr>
              <a:t>Проверь свои знания!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87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afe1ff"/>
                </a:solidFill>
                <a:uFillTx/>
                <a:latin typeface="Times New Roman"/>
              </a:rPr>
              <a:t>Тест – тренажё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Times New Roman"/>
              </a:rPr>
              <a:t>от осьминога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Times New Roman"/>
              </a:rPr>
              <a:t>виноградной улит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Times New Roman"/>
              </a:rPr>
              <a:t>и морского гребеш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9" name="" descr="Картинка 20 из 500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333360"/>
            <a:ext cx="25430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893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ccecff"/>
                </a:solidFill>
                <a:uFillTx/>
                <a:latin typeface="Times New Roman"/>
              </a:rPr>
              <a:t>Среда обитания моллюсков: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Times New Roman"/>
              </a:rPr>
              <a:t>Суш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Times New Roman"/>
              </a:rPr>
              <a:t>Суша, моря, пресные водоём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Times New Roman"/>
              </a:rPr>
              <a:t>Суша, мор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Times New Roman"/>
              </a:rPr>
              <a:t>Пресные водоём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>
            <a:hlinkClick r:id="" action="ppaction://hlinkshowjump?jump=nextslide"/>
          </p:cNvPr>
          <p:cNvSpPr/>
          <p:nvPr/>
        </p:nvSpPr>
        <p:spPr>
          <a:xfrm>
            <a:off x="468360" y="2492280"/>
            <a:ext cx="358560" cy="35892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00" h="21622">
                <a:moveTo>
                  <a:pt x="0" y="0"/>
                </a:moveTo>
                <a:lnTo>
                  <a:pt x="21600" y="0"/>
                </a:lnTo>
                <a:lnTo>
                  <a:pt x="21600" y="21622"/>
                </a:lnTo>
                <a:lnTo>
                  <a:pt x="0" y="21622"/>
                </a:lnTo>
                <a:close/>
              </a:path>
              <a:path fill="lightenLess" w="21600" h="216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2">
                <a:moveTo>
                  <a:pt x="21600" y="0"/>
                </a:moveTo>
                <a:lnTo>
                  <a:pt x="21600" y="21622"/>
                </a:lnTo>
                <a:lnTo>
                  <a:pt x="20200" y="20222"/>
                </a:lnTo>
                <a:lnTo>
                  <a:pt x="20200" y="1400"/>
                </a:lnTo>
                <a:close/>
              </a:path>
              <a:path fill="darkenLess" w="21600" h="21622">
                <a:moveTo>
                  <a:pt x="21600" y="21622"/>
                </a:moveTo>
                <a:lnTo>
                  <a:pt x="0" y="21622"/>
                </a:lnTo>
                <a:lnTo>
                  <a:pt x="1400" y="20222"/>
                </a:lnTo>
                <a:lnTo>
                  <a:pt x="20200" y="20222"/>
                </a:lnTo>
                <a:close/>
              </a:path>
              <a:path fill="lighten" w="21600" h="21622">
                <a:moveTo>
                  <a:pt x="0" y="216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>
            <a:hlinkClick r:id="rId1" action="ppaction://hlinksldjump"/>
          </p:cNvPr>
          <p:cNvSpPr/>
          <p:nvPr/>
        </p:nvSpPr>
        <p:spPr>
          <a:xfrm>
            <a:off x="468360" y="3068640"/>
            <a:ext cx="358560" cy="35892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00" h="21622">
                <a:moveTo>
                  <a:pt x="0" y="0"/>
                </a:moveTo>
                <a:lnTo>
                  <a:pt x="21600" y="0"/>
                </a:lnTo>
                <a:lnTo>
                  <a:pt x="21600" y="21622"/>
                </a:lnTo>
                <a:lnTo>
                  <a:pt x="0" y="21622"/>
                </a:lnTo>
                <a:close/>
              </a:path>
              <a:path fill="lightenLess" w="21600" h="216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2">
                <a:moveTo>
                  <a:pt x="21600" y="0"/>
                </a:moveTo>
                <a:lnTo>
                  <a:pt x="21600" y="21622"/>
                </a:lnTo>
                <a:lnTo>
                  <a:pt x="20200" y="20222"/>
                </a:lnTo>
                <a:lnTo>
                  <a:pt x="20200" y="1400"/>
                </a:lnTo>
                <a:close/>
              </a:path>
              <a:path fill="darkenLess" w="21600" h="21622">
                <a:moveTo>
                  <a:pt x="21600" y="21622"/>
                </a:moveTo>
                <a:lnTo>
                  <a:pt x="0" y="21622"/>
                </a:lnTo>
                <a:lnTo>
                  <a:pt x="1400" y="20222"/>
                </a:lnTo>
                <a:lnTo>
                  <a:pt x="20200" y="20222"/>
                </a:lnTo>
                <a:close/>
              </a:path>
              <a:path fill="lighten" w="21600" h="21622">
                <a:moveTo>
                  <a:pt x="0" y="216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68360" y="3645000"/>
            <a:ext cx="358560" cy="3585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>
            <a:hlinkClick r:id="" action="ppaction://hlinkshowjump?jump=nextslide"/>
          </p:cNvPr>
          <p:cNvSpPr/>
          <p:nvPr/>
        </p:nvSpPr>
        <p:spPr>
          <a:xfrm>
            <a:off x="468360" y="3645000"/>
            <a:ext cx="358560" cy="3585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>
            <a:hlinkClick r:id="" action="ppaction://hlinkshowjump?jump=nextslide"/>
          </p:cNvPr>
          <p:cNvSpPr/>
          <p:nvPr/>
        </p:nvSpPr>
        <p:spPr>
          <a:xfrm>
            <a:off x="468360" y="4221000"/>
            <a:ext cx="358560" cy="35892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00" h="21622">
                <a:moveTo>
                  <a:pt x="0" y="0"/>
                </a:moveTo>
                <a:lnTo>
                  <a:pt x="21600" y="0"/>
                </a:lnTo>
                <a:lnTo>
                  <a:pt x="21600" y="21622"/>
                </a:lnTo>
                <a:lnTo>
                  <a:pt x="0" y="21622"/>
                </a:lnTo>
                <a:close/>
              </a:path>
              <a:path fill="lightenLess" w="21600" h="216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2">
                <a:moveTo>
                  <a:pt x="21600" y="0"/>
                </a:moveTo>
                <a:lnTo>
                  <a:pt x="21600" y="21622"/>
                </a:lnTo>
                <a:lnTo>
                  <a:pt x="20200" y="20222"/>
                </a:lnTo>
                <a:lnTo>
                  <a:pt x="20200" y="1400"/>
                </a:lnTo>
                <a:close/>
              </a:path>
              <a:path fill="darkenLess" w="21600" h="21622">
                <a:moveTo>
                  <a:pt x="21600" y="21622"/>
                </a:moveTo>
                <a:lnTo>
                  <a:pt x="0" y="21622"/>
                </a:lnTo>
                <a:lnTo>
                  <a:pt x="1400" y="20222"/>
                </a:lnTo>
                <a:lnTo>
                  <a:pt x="20200" y="20222"/>
                </a:lnTo>
                <a:close/>
              </a:path>
              <a:path fill="lighten" w="21600" h="21622">
                <a:moveTo>
                  <a:pt x="0" y="216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1332000" y="907920"/>
            <a:ext cx="61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вет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верны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1258920" y="3357720"/>
            <a:ext cx="5478480" cy="1228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НЕПРАВИЛЬНО!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9" name="">
            <a:hlinkClick r:id="" action="ppaction://hlinkshowjump?jump=previousslide"/>
          </p:cNvPr>
          <p:cNvSpPr/>
          <p:nvPr/>
        </p:nvSpPr>
        <p:spPr>
          <a:xfrm>
            <a:off x="250920" y="602136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b99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fill="hold">
                      <p:stCondLst>
                        <p:cond delay="0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after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6" repeatCount="10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>
            <a:hlinkClick r:id="" action="ppaction://hlinkshowjump?jump=nextslide"/>
          </p:cNvPr>
          <p:cNvSpPr/>
          <p:nvPr/>
        </p:nvSpPr>
        <p:spPr>
          <a:xfrm>
            <a:off x="2286000" y="2421000"/>
            <a:ext cx="4572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8ae8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332000" y="907920"/>
            <a:ext cx="61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Ответ верны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1619280" y="3141720"/>
            <a:ext cx="5184720" cy="1014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498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99ff"/>
                    </a:gs>
                    <a:gs pos="100000">
                      <a:srgbClr val="2f4675"/>
                    </a:gs>
                  </a:gsLst>
                  <a:lin ang="5400000"/>
                </a:gradFill>
                <a:latin typeface="Times New Roman"/>
              </a:rPr>
              <a:t>МОЛОДЕЦ !!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99ff"/>
                  </a:gs>
                  <a:gs pos="100000">
                    <a:srgbClr val="2f4675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33" name="">
            <a:hlinkClick r:id="" action="ppaction://hlinkshowjump?jump=nextslide"/>
          </p:cNvPr>
          <p:cNvSpPr/>
          <p:nvPr/>
        </p:nvSpPr>
        <p:spPr>
          <a:xfrm>
            <a:off x="250920" y="6021360"/>
            <a:ext cx="718920" cy="71928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00" h="21611">
                <a:moveTo>
                  <a:pt x="0" y="0"/>
                </a:moveTo>
                <a:lnTo>
                  <a:pt x="21600" y="0"/>
                </a:lnTo>
                <a:lnTo>
                  <a:pt x="21600" y="21611"/>
                </a:lnTo>
                <a:lnTo>
                  <a:pt x="0" y="21611"/>
                </a:lnTo>
                <a:close/>
              </a:path>
              <a:path fill="lightenLess" w="21600" h="216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1">
                <a:moveTo>
                  <a:pt x="21600" y="0"/>
                </a:moveTo>
                <a:lnTo>
                  <a:pt x="21600" y="21611"/>
                </a:lnTo>
                <a:lnTo>
                  <a:pt x="20200" y="20211"/>
                </a:lnTo>
                <a:lnTo>
                  <a:pt x="20200" y="1400"/>
                </a:lnTo>
                <a:close/>
              </a:path>
              <a:path fill="darkenLess" w="21600" h="21611">
                <a:moveTo>
                  <a:pt x="21600" y="21611"/>
                </a:moveTo>
                <a:lnTo>
                  <a:pt x="0" y="21611"/>
                </a:lnTo>
                <a:lnTo>
                  <a:pt x="1400" y="20211"/>
                </a:lnTo>
                <a:lnTo>
                  <a:pt x="20200" y="20211"/>
                </a:lnTo>
                <a:close/>
              </a:path>
              <a:path fill="lighten" w="21600" h="21611">
                <a:moveTo>
                  <a:pt x="0" y="216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1"/>
                </a:lnTo>
                <a:close/>
              </a:path>
              <a:path fill="darken" w="21600" h="21611">
                <a:moveTo>
                  <a:pt x="3794" y="3799"/>
                </a:moveTo>
                <a:lnTo>
                  <a:pt x="17806" y="10805"/>
                </a:lnTo>
                <a:lnTo>
                  <a:pt x="3794" y="17812"/>
                </a:lnTo>
                <a:close/>
              </a:path>
            </a:pathLst>
          </a:custGeom>
          <a:solidFill>
            <a:srgbClr val="0b99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fill="hold">
                      <p:stCondLst>
                        <p:cond delay="0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4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893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cecff"/>
                </a:solidFill>
                <a:uFillTx/>
                <a:latin typeface="Times New Roman"/>
              </a:rPr>
              <a:t>Тело большинства моллюсков состоит из</a:t>
            </a:r>
            <a:r>
              <a:rPr b="1" i="1" lang="ru-RU" sz="3600" spc="-1" strike="noStrike" u="sng">
                <a:solidFill>
                  <a:srgbClr val="ccecff"/>
                </a:solidFill>
                <a:uFillTx/>
                <a:latin typeface="Times New Roman"/>
              </a:rPr>
              <a:t>: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Times New Roman"/>
              </a:rPr>
              <a:t>Головы, туловища, ноги, ракови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Times New Roman"/>
              </a:rPr>
              <a:t>Головы, туловища, раковины, ноги, мант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Times New Roman"/>
              </a:rPr>
              <a:t>Головы, туловища, ракови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Times New Roman"/>
              </a:rPr>
              <a:t>Головы, туловища, раковины, ноги, щупале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>
            <a:hlinkClick r:id="" action="ppaction://hlinkshowjump?jump=nextslide"/>
          </p:cNvPr>
          <p:cNvSpPr/>
          <p:nvPr/>
        </p:nvSpPr>
        <p:spPr>
          <a:xfrm>
            <a:off x="468360" y="2492280"/>
            <a:ext cx="358560" cy="35892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00" h="21622">
                <a:moveTo>
                  <a:pt x="0" y="0"/>
                </a:moveTo>
                <a:lnTo>
                  <a:pt x="21600" y="0"/>
                </a:lnTo>
                <a:lnTo>
                  <a:pt x="21600" y="21622"/>
                </a:lnTo>
                <a:lnTo>
                  <a:pt x="0" y="21622"/>
                </a:lnTo>
                <a:close/>
              </a:path>
              <a:path fill="lightenLess" w="21600" h="216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2">
                <a:moveTo>
                  <a:pt x="21600" y="0"/>
                </a:moveTo>
                <a:lnTo>
                  <a:pt x="21600" y="21622"/>
                </a:lnTo>
                <a:lnTo>
                  <a:pt x="20200" y="20222"/>
                </a:lnTo>
                <a:lnTo>
                  <a:pt x="20200" y="1400"/>
                </a:lnTo>
                <a:close/>
              </a:path>
              <a:path fill="darkenLess" w="21600" h="21622">
                <a:moveTo>
                  <a:pt x="21600" y="21622"/>
                </a:moveTo>
                <a:lnTo>
                  <a:pt x="0" y="21622"/>
                </a:lnTo>
                <a:lnTo>
                  <a:pt x="1400" y="20222"/>
                </a:lnTo>
                <a:lnTo>
                  <a:pt x="20200" y="20222"/>
                </a:lnTo>
                <a:close/>
              </a:path>
              <a:path fill="lighten" w="21600" h="21622">
                <a:moveTo>
                  <a:pt x="0" y="216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68360" y="3068640"/>
            <a:ext cx="358560" cy="35892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00" h="21622">
                <a:moveTo>
                  <a:pt x="0" y="0"/>
                </a:moveTo>
                <a:lnTo>
                  <a:pt x="21600" y="0"/>
                </a:lnTo>
                <a:lnTo>
                  <a:pt x="21600" y="21622"/>
                </a:lnTo>
                <a:lnTo>
                  <a:pt x="0" y="21622"/>
                </a:lnTo>
                <a:close/>
              </a:path>
              <a:path fill="lightenLess" w="21600" h="216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2">
                <a:moveTo>
                  <a:pt x="21600" y="0"/>
                </a:moveTo>
                <a:lnTo>
                  <a:pt x="21600" y="21622"/>
                </a:lnTo>
                <a:lnTo>
                  <a:pt x="20200" y="20222"/>
                </a:lnTo>
                <a:lnTo>
                  <a:pt x="20200" y="1400"/>
                </a:lnTo>
                <a:close/>
              </a:path>
              <a:path fill="darkenLess" w="21600" h="21622">
                <a:moveTo>
                  <a:pt x="21600" y="21622"/>
                </a:moveTo>
                <a:lnTo>
                  <a:pt x="0" y="21622"/>
                </a:lnTo>
                <a:lnTo>
                  <a:pt x="1400" y="20222"/>
                </a:lnTo>
                <a:lnTo>
                  <a:pt x="20200" y="20222"/>
                </a:lnTo>
                <a:close/>
              </a:path>
              <a:path fill="lighten" w="21600" h="21622">
                <a:moveTo>
                  <a:pt x="0" y="216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>
            <a:hlinkClick r:id="" action="ppaction://hlinkshowjump?jump=nextslide"/>
          </p:cNvPr>
          <p:cNvSpPr/>
          <p:nvPr/>
        </p:nvSpPr>
        <p:spPr>
          <a:xfrm>
            <a:off x="468360" y="4149720"/>
            <a:ext cx="358560" cy="35892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00" h="21622">
                <a:moveTo>
                  <a:pt x="0" y="0"/>
                </a:moveTo>
                <a:lnTo>
                  <a:pt x="21600" y="0"/>
                </a:lnTo>
                <a:lnTo>
                  <a:pt x="21600" y="21622"/>
                </a:lnTo>
                <a:lnTo>
                  <a:pt x="0" y="21622"/>
                </a:lnTo>
                <a:close/>
              </a:path>
              <a:path fill="lightenLess" w="21600" h="216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2">
                <a:moveTo>
                  <a:pt x="21600" y="0"/>
                </a:moveTo>
                <a:lnTo>
                  <a:pt x="21600" y="21622"/>
                </a:lnTo>
                <a:lnTo>
                  <a:pt x="20200" y="20222"/>
                </a:lnTo>
                <a:lnTo>
                  <a:pt x="20200" y="1400"/>
                </a:lnTo>
                <a:close/>
              </a:path>
              <a:path fill="darkenLess" w="21600" h="21622">
                <a:moveTo>
                  <a:pt x="21600" y="21622"/>
                </a:moveTo>
                <a:lnTo>
                  <a:pt x="0" y="21622"/>
                </a:lnTo>
                <a:lnTo>
                  <a:pt x="1400" y="20222"/>
                </a:lnTo>
                <a:lnTo>
                  <a:pt x="20200" y="20222"/>
                </a:lnTo>
                <a:close/>
              </a:path>
              <a:path fill="lighten" w="21600" h="21622">
                <a:moveTo>
                  <a:pt x="0" y="216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>
            <a:hlinkClick r:id="" action="ppaction://hlinkshowjump?jump=nextslide"/>
          </p:cNvPr>
          <p:cNvSpPr/>
          <p:nvPr/>
        </p:nvSpPr>
        <p:spPr>
          <a:xfrm>
            <a:off x="468360" y="4724280"/>
            <a:ext cx="358560" cy="35892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00" h="21622">
                <a:moveTo>
                  <a:pt x="0" y="0"/>
                </a:moveTo>
                <a:lnTo>
                  <a:pt x="21600" y="0"/>
                </a:lnTo>
                <a:lnTo>
                  <a:pt x="21600" y="21622"/>
                </a:lnTo>
                <a:lnTo>
                  <a:pt x="0" y="21622"/>
                </a:lnTo>
                <a:close/>
              </a:path>
              <a:path fill="lightenLess" w="21600" h="216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2">
                <a:moveTo>
                  <a:pt x="21600" y="0"/>
                </a:moveTo>
                <a:lnTo>
                  <a:pt x="21600" y="21622"/>
                </a:lnTo>
                <a:lnTo>
                  <a:pt x="20200" y="20222"/>
                </a:lnTo>
                <a:lnTo>
                  <a:pt x="20200" y="1400"/>
                </a:lnTo>
                <a:close/>
              </a:path>
              <a:path fill="darkenLess" w="21600" h="21622">
                <a:moveTo>
                  <a:pt x="21600" y="21622"/>
                </a:moveTo>
                <a:lnTo>
                  <a:pt x="0" y="21622"/>
                </a:lnTo>
                <a:lnTo>
                  <a:pt x="1400" y="20222"/>
                </a:lnTo>
                <a:lnTo>
                  <a:pt x="20200" y="20222"/>
                </a:lnTo>
                <a:close/>
              </a:path>
              <a:path fill="lighten" w="21600" h="21622">
                <a:moveTo>
                  <a:pt x="0" y="216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1332000" y="907920"/>
            <a:ext cx="61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вет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верны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1258920" y="3357720"/>
            <a:ext cx="5478480" cy="1228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НЕПРАВИЛЬНО!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2" name="">
            <a:hlinkClick r:id="" action="ppaction://hlinkshowjump?jump=previousslide"/>
          </p:cNvPr>
          <p:cNvSpPr/>
          <p:nvPr/>
        </p:nvSpPr>
        <p:spPr>
          <a:xfrm>
            <a:off x="250920" y="602136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b99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fill="hold">
                      <p:stCondLst>
                        <p:cond delay="0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after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6" repeatCount="10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2286000" y="2421000"/>
            <a:ext cx="4572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8ae8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332000" y="907920"/>
            <a:ext cx="61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Ответ верны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1619280" y="3141720"/>
            <a:ext cx="5184720" cy="1014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498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99ff"/>
                    </a:gs>
                    <a:gs pos="100000">
                      <a:srgbClr val="2f4675"/>
                    </a:gs>
                  </a:gsLst>
                  <a:lin ang="5400000"/>
                </a:gradFill>
                <a:latin typeface="Times New Roman"/>
              </a:rPr>
              <a:t>МОЛОДЕЦ !!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99ff"/>
                  </a:gs>
                  <a:gs pos="100000">
                    <a:srgbClr val="2f4675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50920" y="6021360"/>
            <a:ext cx="718920" cy="71928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00" h="21611">
                <a:moveTo>
                  <a:pt x="0" y="0"/>
                </a:moveTo>
                <a:lnTo>
                  <a:pt x="21600" y="0"/>
                </a:lnTo>
                <a:lnTo>
                  <a:pt x="21600" y="21611"/>
                </a:lnTo>
                <a:lnTo>
                  <a:pt x="0" y="21611"/>
                </a:lnTo>
                <a:close/>
              </a:path>
              <a:path fill="lightenLess" w="21600" h="216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1">
                <a:moveTo>
                  <a:pt x="21600" y="0"/>
                </a:moveTo>
                <a:lnTo>
                  <a:pt x="21600" y="21611"/>
                </a:lnTo>
                <a:lnTo>
                  <a:pt x="20200" y="20211"/>
                </a:lnTo>
                <a:lnTo>
                  <a:pt x="20200" y="1400"/>
                </a:lnTo>
                <a:close/>
              </a:path>
              <a:path fill="darkenLess" w="21600" h="21611">
                <a:moveTo>
                  <a:pt x="21600" y="21611"/>
                </a:moveTo>
                <a:lnTo>
                  <a:pt x="0" y="21611"/>
                </a:lnTo>
                <a:lnTo>
                  <a:pt x="1400" y="20211"/>
                </a:lnTo>
                <a:lnTo>
                  <a:pt x="20200" y="20211"/>
                </a:lnTo>
                <a:close/>
              </a:path>
              <a:path fill="lighten" w="21600" h="21611">
                <a:moveTo>
                  <a:pt x="0" y="216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1"/>
                </a:lnTo>
                <a:close/>
              </a:path>
              <a:path fill="darken" w="21600" h="21611">
                <a:moveTo>
                  <a:pt x="3794" y="3799"/>
                </a:moveTo>
                <a:lnTo>
                  <a:pt x="17806" y="10805"/>
                </a:lnTo>
                <a:lnTo>
                  <a:pt x="3794" y="17812"/>
                </a:lnTo>
                <a:close/>
              </a:path>
            </a:pathLst>
          </a:custGeom>
          <a:solidFill>
            <a:srgbClr val="0b99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fill="hold">
                      <p:stCondLst>
                        <p:cond delay="0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2" dur="2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2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2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893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cecff"/>
                </a:solidFill>
                <a:uFillTx/>
                <a:latin typeface="Times New Roman"/>
              </a:rPr>
              <a:t>Органы дыхания моллюсков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Times New Roman"/>
              </a:rPr>
              <a:t>Лёгк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Times New Roman"/>
              </a:rPr>
              <a:t>У одних – лёгкое, у других - жаб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Times New Roman"/>
              </a:rPr>
              <a:t>Жаб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Times New Roman"/>
              </a:rPr>
              <a:t>Дышат всем тел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>
            <a:hlinkClick r:id="" action="ppaction://hlinkshowjump?jump=nextslide"/>
          </p:cNvPr>
          <p:cNvSpPr/>
          <p:nvPr/>
        </p:nvSpPr>
        <p:spPr>
          <a:xfrm>
            <a:off x="468360" y="2492280"/>
            <a:ext cx="358560" cy="35892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00" h="21622">
                <a:moveTo>
                  <a:pt x="0" y="0"/>
                </a:moveTo>
                <a:lnTo>
                  <a:pt x="21600" y="0"/>
                </a:lnTo>
                <a:lnTo>
                  <a:pt x="21600" y="21622"/>
                </a:lnTo>
                <a:lnTo>
                  <a:pt x="0" y="21622"/>
                </a:lnTo>
                <a:close/>
              </a:path>
              <a:path fill="lightenLess" w="21600" h="216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2">
                <a:moveTo>
                  <a:pt x="21600" y="0"/>
                </a:moveTo>
                <a:lnTo>
                  <a:pt x="21600" y="21622"/>
                </a:lnTo>
                <a:lnTo>
                  <a:pt x="20200" y="20222"/>
                </a:lnTo>
                <a:lnTo>
                  <a:pt x="20200" y="1400"/>
                </a:lnTo>
                <a:close/>
              </a:path>
              <a:path fill="darkenLess" w="21600" h="21622">
                <a:moveTo>
                  <a:pt x="21600" y="21622"/>
                </a:moveTo>
                <a:lnTo>
                  <a:pt x="0" y="21622"/>
                </a:lnTo>
                <a:lnTo>
                  <a:pt x="1400" y="20222"/>
                </a:lnTo>
                <a:lnTo>
                  <a:pt x="20200" y="20222"/>
                </a:lnTo>
                <a:close/>
              </a:path>
              <a:path fill="lighten" w="21600" h="21622">
                <a:moveTo>
                  <a:pt x="0" y="216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68360" y="3068640"/>
            <a:ext cx="358560" cy="35892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00" h="21622">
                <a:moveTo>
                  <a:pt x="0" y="0"/>
                </a:moveTo>
                <a:lnTo>
                  <a:pt x="21600" y="0"/>
                </a:lnTo>
                <a:lnTo>
                  <a:pt x="21600" y="21622"/>
                </a:lnTo>
                <a:lnTo>
                  <a:pt x="0" y="21622"/>
                </a:lnTo>
                <a:close/>
              </a:path>
              <a:path fill="lightenLess" w="21600" h="216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2">
                <a:moveTo>
                  <a:pt x="21600" y="0"/>
                </a:moveTo>
                <a:lnTo>
                  <a:pt x="21600" y="21622"/>
                </a:lnTo>
                <a:lnTo>
                  <a:pt x="20200" y="20222"/>
                </a:lnTo>
                <a:lnTo>
                  <a:pt x="20200" y="1400"/>
                </a:lnTo>
                <a:close/>
              </a:path>
              <a:path fill="darkenLess" w="21600" h="21622">
                <a:moveTo>
                  <a:pt x="21600" y="21622"/>
                </a:moveTo>
                <a:lnTo>
                  <a:pt x="0" y="21622"/>
                </a:lnTo>
                <a:lnTo>
                  <a:pt x="1400" y="20222"/>
                </a:lnTo>
                <a:lnTo>
                  <a:pt x="20200" y="20222"/>
                </a:lnTo>
                <a:close/>
              </a:path>
              <a:path fill="lighten" w="21600" h="21622">
                <a:moveTo>
                  <a:pt x="0" y="216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>
            <a:hlinkClick r:id="" action="ppaction://hlinkshowjump?jump=nextslide"/>
          </p:cNvPr>
          <p:cNvSpPr/>
          <p:nvPr/>
        </p:nvSpPr>
        <p:spPr>
          <a:xfrm>
            <a:off x="468360" y="3645000"/>
            <a:ext cx="358560" cy="3585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>
            <a:hlinkClick r:id="" action="ppaction://hlinkshowjump?jump=nextslide"/>
          </p:cNvPr>
          <p:cNvSpPr/>
          <p:nvPr/>
        </p:nvSpPr>
        <p:spPr>
          <a:xfrm>
            <a:off x="468360" y="4221000"/>
            <a:ext cx="358560" cy="35892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00" h="21622">
                <a:moveTo>
                  <a:pt x="0" y="0"/>
                </a:moveTo>
                <a:lnTo>
                  <a:pt x="21600" y="0"/>
                </a:lnTo>
                <a:lnTo>
                  <a:pt x="21600" y="21622"/>
                </a:lnTo>
                <a:lnTo>
                  <a:pt x="0" y="21622"/>
                </a:lnTo>
                <a:close/>
              </a:path>
              <a:path fill="lightenLess" w="21600" h="216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2">
                <a:moveTo>
                  <a:pt x="21600" y="0"/>
                </a:moveTo>
                <a:lnTo>
                  <a:pt x="21600" y="21622"/>
                </a:lnTo>
                <a:lnTo>
                  <a:pt x="20200" y="20222"/>
                </a:lnTo>
                <a:lnTo>
                  <a:pt x="20200" y="1400"/>
                </a:lnTo>
                <a:close/>
              </a:path>
              <a:path fill="darkenLess" w="21600" h="21622">
                <a:moveTo>
                  <a:pt x="21600" y="21622"/>
                </a:moveTo>
                <a:lnTo>
                  <a:pt x="0" y="21622"/>
                </a:lnTo>
                <a:lnTo>
                  <a:pt x="1400" y="20222"/>
                </a:lnTo>
                <a:lnTo>
                  <a:pt x="20200" y="20222"/>
                </a:lnTo>
                <a:close/>
              </a:path>
              <a:path fill="lighten" w="21600" h="21622">
                <a:moveTo>
                  <a:pt x="0" y="216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1332000" y="907920"/>
            <a:ext cx="61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вет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верны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1258920" y="3357720"/>
            <a:ext cx="5478480" cy="1228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НЕПРАВИЛЬНО!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5" name="">
            <a:hlinkClick r:id="" action="ppaction://hlinkshowjump?jump=previousslide"/>
          </p:cNvPr>
          <p:cNvSpPr/>
          <p:nvPr/>
        </p:nvSpPr>
        <p:spPr>
          <a:xfrm>
            <a:off x="250920" y="602136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b99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fill="hold">
                      <p:stCondLst>
                        <p:cond delay="0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after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6" repeatCount="10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0"/>
            <a:ext cx="82296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РАЗНООБРАЗИЕ МОЛЛЮС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7199280" cy="45054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2268360" y="1628640"/>
            <a:ext cx="4391280" cy="446436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2340000" y="1484280"/>
            <a:ext cx="4248000" cy="39607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900000" y="1557360"/>
            <a:ext cx="7201080" cy="45356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5"/>
          <a:stretch/>
        </p:blipFill>
        <p:spPr>
          <a:xfrm>
            <a:off x="900000" y="1773360"/>
            <a:ext cx="7272360" cy="439236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6"/>
          <a:stretch/>
        </p:blipFill>
        <p:spPr>
          <a:xfrm>
            <a:off x="971640" y="1628640"/>
            <a:ext cx="7345440" cy="4537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7"/>
          <a:stretch/>
        </p:blipFill>
        <p:spPr>
          <a:xfrm>
            <a:off x="971640" y="1484280"/>
            <a:ext cx="7416720" cy="48243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8"/>
          <a:stretch/>
        </p:blipFill>
        <p:spPr>
          <a:xfrm>
            <a:off x="900000" y="1557360"/>
            <a:ext cx="7344000" cy="475128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9"/>
          <a:stretch/>
        </p:blipFill>
        <p:spPr>
          <a:xfrm>
            <a:off x="755640" y="1700280"/>
            <a:ext cx="7561440" cy="45910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10"/>
          <a:stretch/>
        </p:blipFill>
        <p:spPr>
          <a:xfrm>
            <a:off x="684360" y="1557360"/>
            <a:ext cx="7056360" cy="47880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11"/>
          <a:stretch/>
        </p:blipFill>
        <p:spPr>
          <a:xfrm>
            <a:off x="539640" y="1484280"/>
            <a:ext cx="7272360" cy="49690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12"/>
          <a:stretch/>
        </p:blipFill>
        <p:spPr>
          <a:xfrm>
            <a:off x="826920" y="1844640"/>
            <a:ext cx="7417080" cy="463248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13"/>
          <a:stretch/>
        </p:blipFill>
        <p:spPr>
          <a:xfrm>
            <a:off x="611280" y="1773360"/>
            <a:ext cx="6913440" cy="42051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14"/>
          <a:stretch/>
        </p:blipFill>
        <p:spPr>
          <a:xfrm>
            <a:off x="2627280" y="1916280"/>
            <a:ext cx="4265640" cy="36176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15"/>
          <a:stretch/>
        </p:blipFill>
        <p:spPr>
          <a:xfrm>
            <a:off x="1332000" y="1700280"/>
            <a:ext cx="611964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0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60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5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0"/>
                            </p:stCondLst>
                            <p:childTnLst>
                              <p:par>
                                <p:cTn id="7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96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17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8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8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4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8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70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20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1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2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2286000" y="2421000"/>
            <a:ext cx="4572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8ae8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332000" y="907920"/>
            <a:ext cx="61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Ответ верны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1619280" y="3141720"/>
            <a:ext cx="5184720" cy="1014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498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99ff"/>
                    </a:gs>
                    <a:gs pos="100000">
                      <a:srgbClr val="2f4675"/>
                    </a:gs>
                  </a:gsLst>
                  <a:lin ang="5400000"/>
                </a:gradFill>
                <a:latin typeface="Times New Roman"/>
              </a:rPr>
              <a:t>МОЛОДЕЦ !!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99ff"/>
                  </a:gs>
                  <a:gs pos="100000">
                    <a:srgbClr val="2f4675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59" name="">
            <a:hlinkClick r:id="" action="ppaction://hlinkshowjump?jump=nextslide"/>
          </p:cNvPr>
          <p:cNvSpPr/>
          <p:nvPr/>
        </p:nvSpPr>
        <p:spPr>
          <a:xfrm>
            <a:off x="250920" y="6021360"/>
            <a:ext cx="718920" cy="71928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00" h="21611">
                <a:moveTo>
                  <a:pt x="0" y="0"/>
                </a:moveTo>
                <a:lnTo>
                  <a:pt x="21600" y="0"/>
                </a:lnTo>
                <a:lnTo>
                  <a:pt x="21600" y="21611"/>
                </a:lnTo>
                <a:lnTo>
                  <a:pt x="0" y="21611"/>
                </a:lnTo>
                <a:close/>
              </a:path>
              <a:path fill="lightenLess" w="21600" h="216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1">
                <a:moveTo>
                  <a:pt x="21600" y="0"/>
                </a:moveTo>
                <a:lnTo>
                  <a:pt x="21600" y="21611"/>
                </a:lnTo>
                <a:lnTo>
                  <a:pt x="20200" y="20211"/>
                </a:lnTo>
                <a:lnTo>
                  <a:pt x="20200" y="1400"/>
                </a:lnTo>
                <a:close/>
              </a:path>
              <a:path fill="darkenLess" w="21600" h="21611">
                <a:moveTo>
                  <a:pt x="21600" y="21611"/>
                </a:moveTo>
                <a:lnTo>
                  <a:pt x="0" y="21611"/>
                </a:lnTo>
                <a:lnTo>
                  <a:pt x="1400" y="20211"/>
                </a:lnTo>
                <a:lnTo>
                  <a:pt x="20200" y="20211"/>
                </a:lnTo>
                <a:close/>
              </a:path>
              <a:path fill="lighten" w="21600" h="21611">
                <a:moveTo>
                  <a:pt x="0" y="216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1"/>
                </a:lnTo>
                <a:close/>
              </a:path>
              <a:path fill="darken" w="21600" h="21611">
                <a:moveTo>
                  <a:pt x="3794" y="3799"/>
                </a:moveTo>
                <a:lnTo>
                  <a:pt x="17806" y="10805"/>
                </a:lnTo>
                <a:lnTo>
                  <a:pt x="3794" y="17812"/>
                </a:lnTo>
                <a:close/>
              </a:path>
            </a:pathLst>
          </a:custGeom>
          <a:solidFill>
            <a:srgbClr val="0b99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63" dur="indefinite" restart="never" nodeType="tmRoot">
          <p:childTnLst>
            <p:seq>
              <p:cTn id="964" dur="indefinite" nodeType="mainSeq">
                <p:childTnLst>
                  <p:par>
                    <p:cTn id="965" fill="hold">
                      <p:stCondLst>
                        <p:cond delay="0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0" dur="2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2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2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893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cecff"/>
                </a:solidFill>
                <a:uFillTx/>
                <a:latin typeface="Times New Roman"/>
              </a:rPr>
              <a:t>Кровеносная система моллюсков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Times New Roman"/>
              </a:rPr>
              <a:t>Отсутству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Times New Roman"/>
              </a:rPr>
              <a:t>Незамкнут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Times New Roman"/>
              </a:rPr>
              <a:t>Замкнут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Times New Roman"/>
              </a:rPr>
              <a:t>У одних – замкнутая, у других – незамкнута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>
            <a:hlinkClick r:id="" action="ppaction://hlinkshowjump?jump=nextslide"/>
          </p:cNvPr>
          <p:cNvSpPr/>
          <p:nvPr/>
        </p:nvSpPr>
        <p:spPr>
          <a:xfrm>
            <a:off x="468360" y="2492280"/>
            <a:ext cx="358560" cy="35892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00" h="21622">
                <a:moveTo>
                  <a:pt x="0" y="0"/>
                </a:moveTo>
                <a:lnTo>
                  <a:pt x="21600" y="0"/>
                </a:lnTo>
                <a:lnTo>
                  <a:pt x="21600" y="21622"/>
                </a:lnTo>
                <a:lnTo>
                  <a:pt x="0" y="21622"/>
                </a:lnTo>
                <a:close/>
              </a:path>
              <a:path fill="lightenLess" w="21600" h="216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2">
                <a:moveTo>
                  <a:pt x="21600" y="0"/>
                </a:moveTo>
                <a:lnTo>
                  <a:pt x="21600" y="21622"/>
                </a:lnTo>
                <a:lnTo>
                  <a:pt x="20200" y="20222"/>
                </a:lnTo>
                <a:lnTo>
                  <a:pt x="20200" y="1400"/>
                </a:lnTo>
                <a:close/>
              </a:path>
              <a:path fill="darkenLess" w="21600" h="21622">
                <a:moveTo>
                  <a:pt x="21600" y="21622"/>
                </a:moveTo>
                <a:lnTo>
                  <a:pt x="0" y="21622"/>
                </a:lnTo>
                <a:lnTo>
                  <a:pt x="1400" y="20222"/>
                </a:lnTo>
                <a:lnTo>
                  <a:pt x="20200" y="20222"/>
                </a:lnTo>
                <a:close/>
              </a:path>
              <a:path fill="lighten" w="21600" h="21622">
                <a:moveTo>
                  <a:pt x="0" y="216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>
            <a:hlinkClick r:id="rId1" action="ppaction://hlinksldjump"/>
          </p:cNvPr>
          <p:cNvSpPr/>
          <p:nvPr/>
        </p:nvSpPr>
        <p:spPr>
          <a:xfrm>
            <a:off x="468360" y="3068640"/>
            <a:ext cx="358560" cy="35892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00" h="21622">
                <a:moveTo>
                  <a:pt x="0" y="0"/>
                </a:moveTo>
                <a:lnTo>
                  <a:pt x="21600" y="0"/>
                </a:lnTo>
                <a:lnTo>
                  <a:pt x="21600" y="21622"/>
                </a:lnTo>
                <a:lnTo>
                  <a:pt x="0" y="21622"/>
                </a:lnTo>
                <a:close/>
              </a:path>
              <a:path fill="lightenLess" w="21600" h="216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2">
                <a:moveTo>
                  <a:pt x="21600" y="0"/>
                </a:moveTo>
                <a:lnTo>
                  <a:pt x="21600" y="21622"/>
                </a:lnTo>
                <a:lnTo>
                  <a:pt x="20200" y="20222"/>
                </a:lnTo>
                <a:lnTo>
                  <a:pt x="20200" y="1400"/>
                </a:lnTo>
                <a:close/>
              </a:path>
              <a:path fill="darkenLess" w="21600" h="21622">
                <a:moveTo>
                  <a:pt x="21600" y="21622"/>
                </a:moveTo>
                <a:lnTo>
                  <a:pt x="0" y="21622"/>
                </a:lnTo>
                <a:lnTo>
                  <a:pt x="1400" y="20222"/>
                </a:lnTo>
                <a:lnTo>
                  <a:pt x="20200" y="20222"/>
                </a:lnTo>
                <a:close/>
              </a:path>
              <a:path fill="lighten" w="21600" h="21622">
                <a:moveTo>
                  <a:pt x="0" y="216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>
            <a:hlinkClick r:id="" action="ppaction://hlinkshowjump?jump=nextslide"/>
          </p:cNvPr>
          <p:cNvSpPr/>
          <p:nvPr/>
        </p:nvSpPr>
        <p:spPr>
          <a:xfrm>
            <a:off x="468360" y="3645000"/>
            <a:ext cx="358560" cy="3585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68360" y="4221000"/>
            <a:ext cx="358560" cy="35892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00" h="21622">
                <a:moveTo>
                  <a:pt x="0" y="0"/>
                </a:moveTo>
                <a:lnTo>
                  <a:pt x="21600" y="0"/>
                </a:lnTo>
                <a:lnTo>
                  <a:pt x="21600" y="21622"/>
                </a:lnTo>
                <a:lnTo>
                  <a:pt x="0" y="21622"/>
                </a:lnTo>
                <a:close/>
              </a:path>
              <a:path fill="lightenLess" w="21600" h="216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2">
                <a:moveTo>
                  <a:pt x="21600" y="0"/>
                </a:moveTo>
                <a:lnTo>
                  <a:pt x="21600" y="21622"/>
                </a:lnTo>
                <a:lnTo>
                  <a:pt x="20200" y="20222"/>
                </a:lnTo>
                <a:lnTo>
                  <a:pt x="20200" y="1400"/>
                </a:lnTo>
                <a:close/>
              </a:path>
              <a:path fill="darkenLess" w="21600" h="21622">
                <a:moveTo>
                  <a:pt x="21600" y="21622"/>
                </a:moveTo>
                <a:lnTo>
                  <a:pt x="0" y="21622"/>
                </a:lnTo>
                <a:lnTo>
                  <a:pt x="1400" y="20222"/>
                </a:lnTo>
                <a:lnTo>
                  <a:pt x="20200" y="20222"/>
                </a:lnTo>
                <a:close/>
              </a:path>
              <a:path fill="lighten" w="21600" h="21622">
                <a:moveTo>
                  <a:pt x="0" y="216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1332000" y="907920"/>
            <a:ext cx="61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вет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верны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1258920" y="3357720"/>
            <a:ext cx="5478480" cy="1228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НЕПРАВИЛЬНО!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8" name="">
            <a:hlinkClick r:id="" action="ppaction://hlinkshowjump?jump=previousslide"/>
          </p:cNvPr>
          <p:cNvSpPr/>
          <p:nvPr/>
        </p:nvSpPr>
        <p:spPr>
          <a:xfrm>
            <a:off x="250920" y="602136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b99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0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after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6" repeatCount="10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2286000" y="2421000"/>
            <a:ext cx="4572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8ae8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332000" y="907920"/>
            <a:ext cx="61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Ответ верны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1619280" y="3141720"/>
            <a:ext cx="5184720" cy="1014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498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99ff"/>
                    </a:gs>
                    <a:gs pos="100000">
                      <a:srgbClr val="2f4675"/>
                    </a:gs>
                  </a:gsLst>
                  <a:lin ang="5400000"/>
                </a:gradFill>
                <a:latin typeface="Times New Roman"/>
              </a:rPr>
              <a:t>МОЛОДЕЦ !!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99ff"/>
                  </a:gs>
                  <a:gs pos="100000">
                    <a:srgbClr val="2f4675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72" name="">
            <a:hlinkClick r:id="" action="ppaction://hlinkshowjump?jump=nextslide"/>
          </p:cNvPr>
          <p:cNvSpPr/>
          <p:nvPr/>
        </p:nvSpPr>
        <p:spPr>
          <a:xfrm>
            <a:off x="250920" y="6021360"/>
            <a:ext cx="718920" cy="71928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00" h="21611">
                <a:moveTo>
                  <a:pt x="0" y="0"/>
                </a:moveTo>
                <a:lnTo>
                  <a:pt x="21600" y="0"/>
                </a:lnTo>
                <a:lnTo>
                  <a:pt x="21600" y="21611"/>
                </a:lnTo>
                <a:lnTo>
                  <a:pt x="0" y="21611"/>
                </a:lnTo>
                <a:close/>
              </a:path>
              <a:path fill="lightenLess" w="21600" h="216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1">
                <a:moveTo>
                  <a:pt x="21600" y="0"/>
                </a:moveTo>
                <a:lnTo>
                  <a:pt x="21600" y="21611"/>
                </a:lnTo>
                <a:lnTo>
                  <a:pt x="20200" y="20211"/>
                </a:lnTo>
                <a:lnTo>
                  <a:pt x="20200" y="1400"/>
                </a:lnTo>
                <a:close/>
              </a:path>
              <a:path fill="darkenLess" w="21600" h="21611">
                <a:moveTo>
                  <a:pt x="21600" y="21611"/>
                </a:moveTo>
                <a:lnTo>
                  <a:pt x="0" y="21611"/>
                </a:lnTo>
                <a:lnTo>
                  <a:pt x="1400" y="20211"/>
                </a:lnTo>
                <a:lnTo>
                  <a:pt x="20200" y="20211"/>
                </a:lnTo>
                <a:close/>
              </a:path>
              <a:path fill="lighten" w="21600" h="21611">
                <a:moveTo>
                  <a:pt x="0" y="216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1"/>
                </a:lnTo>
                <a:close/>
              </a:path>
              <a:path fill="darken" w="21600" h="21611">
                <a:moveTo>
                  <a:pt x="3794" y="3799"/>
                </a:moveTo>
                <a:lnTo>
                  <a:pt x="17806" y="10805"/>
                </a:lnTo>
                <a:lnTo>
                  <a:pt x="3794" y="17812"/>
                </a:lnTo>
                <a:close/>
              </a:path>
            </a:pathLst>
          </a:custGeom>
          <a:solidFill>
            <a:srgbClr val="0b99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11" dur="indefinite" restart="never" nodeType="tmRoot">
          <p:childTnLst>
            <p:seq>
              <p:cTn id="1012" dur="indefinite" nodeType="mainSeq">
                <p:childTnLst>
                  <p:par>
                    <p:cTn id="1013" fill="hold">
                      <p:stCondLst>
                        <p:cond delay="0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7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8" dur="2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2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2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893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cecff"/>
                </a:solidFill>
                <a:uFillTx/>
                <a:latin typeface="Times New Roman"/>
              </a:rPr>
              <a:t>Органы выделения моллюсков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Times New Roman"/>
              </a:rPr>
              <a:t>Пече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Times New Roman"/>
              </a:rPr>
              <a:t>Поч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Times New Roman"/>
              </a:rPr>
              <a:t>Жаб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Times New Roman"/>
              </a:rPr>
              <a:t>У одних – печень, у других – поч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>
            <a:hlinkClick r:id="" action="ppaction://hlinkshowjump?jump=nextslide"/>
          </p:cNvPr>
          <p:cNvSpPr/>
          <p:nvPr/>
        </p:nvSpPr>
        <p:spPr>
          <a:xfrm>
            <a:off x="468360" y="2492280"/>
            <a:ext cx="358560" cy="35892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00" h="21622">
                <a:moveTo>
                  <a:pt x="0" y="0"/>
                </a:moveTo>
                <a:lnTo>
                  <a:pt x="21600" y="0"/>
                </a:lnTo>
                <a:lnTo>
                  <a:pt x="21600" y="21622"/>
                </a:lnTo>
                <a:lnTo>
                  <a:pt x="0" y="21622"/>
                </a:lnTo>
                <a:close/>
              </a:path>
              <a:path fill="lightenLess" w="21600" h="216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2">
                <a:moveTo>
                  <a:pt x="21600" y="0"/>
                </a:moveTo>
                <a:lnTo>
                  <a:pt x="21600" y="21622"/>
                </a:lnTo>
                <a:lnTo>
                  <a:pt x="20200" y="20222"/>
                </a:lnTo>
                <a:lnTo>
                  <a:pt x="20200" y="1400"/>
                </a:lnTo>
                <a:close/>
              </a:path>
              <a:path fill="darkenLess" w="21600" h="21622">
                <a:moveTo>
                  <a:pt x="21600" y="21622"/>
                </a:moveTo>
                <a:lnTo>
                  <a:pt x="0" y="21622"/>
                </a:lnTo>
                <a:lnTo>
                  <a:pt x="1400" y="20222"/>
                </a:lnTo>
                <a:lnTo>
                  <a:pt x="20200" y="20222"/>
                </a:lnTo>
                <a:close/>
              </a:path>
              <a:path fill="lighten" w="21600" h="21622">
                <a:moveTo>
                  <a:pt x="0" y="216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68360" y="3068640"/>
            <a:ext cx="358560" cy="35892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00" h="21622">
                <a:moveTo>
                  <a:pt x="0" y="0"/>
                </a:moveTo>
                <a:lnTo>
                  <a:pt x="21600" y="0"/>
                </a:lnTo>
                <a:lnTo>
                  <a:pt x="21600" y="21622"/>
                </a:lnTo>
                <a:lnTo>
                  <a:pt x="0" y="21622"/>
                </a:lnTo>
                <a:close/>
              </a:path>
              <a:path fill="lightenLess" w="21600" h="216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2">
                <a:moveTo>
                  <a:pt x="21600" y="0"/>
                </a:moveTo>
                <a:lnTo>
                  <a:pt x="21600" y="21622"/>
                </a:lnTo>
                <a:lnTo>
                  <a:pt x="20200" y="20222"/>
                </a:lnTo>
                <a:lnTo>
                  <a:pt x="20200" y="1400"/>
                </a:lnTo>
                <a:close/>
              </a:path>
              <a:path fill="darkenLess" w="21600" h="21622">
                <a:moveTo>
                  <a:pt x="21600" y="21622"/>
                </a:moveTo>
                <a:lnTo>
                  <a:pt x="0" y="21622"/>
                </a:lnTo>
                <a:lnTo>
                  <a:pt x="1400" y="20222"/>
                </a:lnTo>
                <a:lnTo>
                  <a:pt x="20200" y="20222"/>
                </a:lnTo>
                <a:close/>
              </a:path>
              <a:path fill="lighten" w="21600" h="21622">
                <a:moveTo>
                  <a:pt x="0" y="216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>
            <a:hlinkClick r:id="" action="ppaction://hlinkshowjump?jump=nextslide"/>
          </p:cNvPr>
          <p:cNvSpPr/>
          <p:nvPr/>
        </p:nvSpPr>
        <p:spPr>
          <a:xfrm>
            <a:off x="468360" y="3645000"/>
            <a:ext cx="358560" cy="3585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>
            <a:hlinkClick r:id="" action="ppaction://hlinkshowjump?jump=nextslide"/>
          </p:cNvPr>
          <p:cNvSpPr/>
          <p:nvPr/>
        </p:nvSpPr>
        <p:spPr>
          <a:xfrm>
            <a:off x="468360" y="4221000"/>
            <a:ext cx="358560" cy="35892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00" h="21622">
                <a:moveTo>
                  <a:pt x="0" y="0"/>
                </a:moveTo>
                <a:lnTo>
                  <a:pt x="21600" y="0"/>
                </a:lnTo>
                <a:lnTo>
                  <a:pt x="21600" y="21622"/>
                </a:lnTo>
                <a:lnTo>
                  <a:pt x="0" y="21622"/>
                </a:lnTo>
                <a:close/>
              </a:path>
              <a:path fill="lightenLess" w="21600" h="216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2">
                <a:moveTo>
                  <a:pt x="21600" y="0"/>
                </a:moveTo>
                <a:lnTo>
                  <a:pt x="21600" y="21622"/>
                </a:lnTo>
                <a:lnTo>
                  <a:pt x="20200" y="20222"/>
                </a:lnTo>
                <a:lnTo>
                  <a:pt x="20200" y="1400"/>
                </a:lnTo>
                <a:close/>
              </a:path>
              <a:path fill="darkenLess" w="21600" h="21622">
                <a:moveTo>
                  <a:pt x="21600" y="21622"/>
                </a:moveTo>
                <a:lnTo>
                  <a:pt x="0" y="21622"/>
                </a:lnTo>
                <a:lnTo>
                  <a:pt x="1400" y="20222"/>
                </a:lnTo>
                <a:lnTo>
                  <a:pt x="20200" y="20222"/>
                </a:lnTo>
                <a:close/>
              </a:path>
              <a:path fill="lighten" w="21600" h="21622">
                <a:moveTo>
                  <a:pt x="0" y="216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1332000" y="907920"/>
            <a:ext cx="61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вет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верны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1258920" y="3357720"/>
            <a:ext cx="5478480" cy="1228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НЕПРАВИЛЬНО!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1" name="">
            <a:hlinkClick r:id="" action="ppaction://hlinkshowjump?jump=previousslide"/>
          </p:cNvPr>
          <p:cNvSpPr/>
          <p:nvPr/>
        </p:nvSpPr>
        <p:spPr>
          <a:xfrm>
            <a:off x="250920" y="602136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b99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fill="hold">
                      <p:stCondLst>
                        <p:cond delay="0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after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6" repeatCount="10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2286000" y="2421000"/>
            <a:ext cx="4572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8ae8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332000" y="907920"/>
            <a:ext cx="61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Ответ верны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1619280" y="3141720"/>
            <a:ext cx="5184720" cy="1014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498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99ff"/>
                    </a:gs>
                    <a:gs pos="100000">
                      <a:srgbClr val="2f4675"/>
                    </a:gs>
                  </a:gsLst>
                  <a:lin ang="5400000"/>
                </a:gradFill>
                <a:latin typeface="Times New Roman"/>
              </a:rPr>
              <a:t>МОЛОДЕЦ !!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99ff"/>
                  </a:gs>
                  <a:gs pos="100000">
                    <a:srgbClr val="2f4675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85" name="">
            <a:hlinkClick r:id="" action="ppaction://hlinkshowjump?jump=nextslide"/>
          </p:cNvPr>
          <p:cNvSpPr/>
          <p:nvPr/>
        </p:nvSpPr>
        <p:spPr>
          <a:xfrm>
            <a:off x="250920" y="6021360"/>
            <a:ext cx="718920" cy="71928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00" h="21611">
                <a:moveTo>
                  <a:pt x="0" y="0"/>
                </a:moveTo>
                <a:lnTo>
                  <a:pt x="21600" y="0"/>
                </a:lnTo>
                <a:lnTo>
                  <a:pt x="21600" y="21611"/>
                </a:lnTo>
                <a:lnTo>
                  <a:pt x="0" y="21611"/>
                </a:lnTo>
                <a:close/>
              </a:path>
              <a:path fill="lightenLess" w="21600" h="216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1">
                <a:moveTo>
                  <a:pt x="21600" y="0"/>
                </a:moveTo>
                <a:lnTo>
                  <a:pt x="21600" y="21611"/>
                </a:lnTo>
                <a:lnTo>
                  <a:pt x="20200" y="20211"/>
                </a:lnTo>
                <a:lnTo>
                  <a:pt x="20200" y="1400"/>
                </a:lnTo>
                <a:close/>
              </a:path>
              <a:path fill="darkenLess" w="21600" h="21611">
                <a:moveTo>
                  <a:pt x="21600" y="21611"/>
                </a:moveTo>
                <a:lnTo>
                  <a:pt x="0" y="21611"/>
                </a:lnTo>
                <a:lnTo>
                  <a:pt x="1400" y="20211"/>
                </a:lnTo>
                <a:lnTo>
                  <a:pt x="20200" y="20211"/>
                </a:lnTo>
                <a:close/>
              </a:path>
              <a:path fill="lighten" w="21600" h="21611">
                <a:moveTo>
                  <a:pt x="0" y="216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1"/>
                </a:lnTo>
                <a:close/>
              </a:path>
              <a:path fill="darken" w="21600" h="21611">
                <a:moveTo>
                  <a:pt x="3794" y="3799"/>
                </a:moveTo>
                <a:lnTo>
                  <a:pt x="17806" y="10805"/>
                </a:lnTo>
                <a:lnTo>
                  <a:pt x="3794" y="17812"/>
                </a:lnTo>
                <a:close/>
              </a:path>
            </a:pathLst>
          </a:custGeom>
          <a:solidFill>
            <a:srgbClr val="0b99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59" dur="indefinite" restart="never" nodeType="tmRoot">
          <p:childTnLst>
            <p:seq>
              <p:cTn id="1060" dur="indefinite" nodeType="mainSeq">
                <p:childTnLst>
                  <p:par>
                    <p:cTn id="1061" fill="hold">
                      <p:stCondLst>
                        <p:cond delay="0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6" dur="2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2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2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893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cecff"/>
                </a:solidFill>
                <a:uFillTx/>
                <a:latin typeface="Times New Roman"/>
              </a:rPr>
              <a:t>Нервная система моллюсков представлена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Times New Roman"/>
              </a:rPr>
              <a:t>Нерв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Times New Roman"/>
              </a:rPr>
              <a:t>Нервными узлами, нервными стволами, нерв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Times New Roman"/>
              </a:rPr>
              <a:t>Нервными стволами, нервными узл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Times New Roman"/>
              </a:rPr>
              <a:t>Нервными стволами, нерв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>
            <a:hlinkClick r:id="" action="ppaction://hlinkshowjump?jump=nextslide"/>
          </p:cNvPr>
          <p:cNvSpPr/>
          <p:nvPr/>
        </p:nvSpPr>
        <p:spPr>
          <a:xfrm>
            <a:off x="468360" y="2492280"/>
            <a:ext cx="358560" cy="35892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00" h="21622">
                <a:moveTo>
                  <a:pt x="0" y="0"/>
                </a:moveTo>
                <a:lnTo>
                  <a:pt x="21600" y="0"/>
                </a:lnTo>
                <a:lnTo>
                  <a:pt x="21600" y="21622"/>
                </a:lnTo>
                <a:lnTo>
                  <a:pt x="0" y="21622"/>
                </a:lnTo>
                <a:close/>
              </a:path>
              <a:path fill="lightenLess" w="21600" h="216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2">
                <a:moveTo>
                  <a:pt x="21600" y="0"/>
                </a:moveTo>
                <a:lnTo>
                  <a:pt x="21600" y="21622"/>
                </a:lnTo>
                <a:lnTo>
                  <a:pt x="20200" y="20222"/>
                </a:lnTo>
                <a:lnTo>
                  <a:pt x="20200" y="1400"/>
                </a:lnTo>
                <a:close/>
              </a:path>
              <a:path fill="darkenLess" w="21600" h="21622">
                <a:moveTo>
                  <a:pt x="21600" y="21622"/>
                </a:moveTo>
                <a:lnTo>
                  <a:pt x="0" y="21622"/>
                </a:lnTo>
                <a:lnTo>
                  <a:pt x="1400" y="20222"/>
                </a:lnTo>
                <a:lnTo>
                  <a:pt x="20200" y="20222"/>
                </a:lnTo>
                <a:close/>
              </a:path>
              <a:path fill="lighten" w="21600" h="21622">
                <a:moveTo>
                  <a:pt x="0" y="216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68360" y="3068640"/>
            <a:ext cx="358560" cy="35892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00" h="21622">
                <a:moveTo>
                  <a:pt x="0" y="0"/>
                </a:moveTo>
                <a:lnTo>
                  <a:pt x="21600" y="0"/>
                </a:lnTo>
                <a:lnTo>
                  <a:pt x="21600" y="21622"/>
                </a:lnTo>
                <a:lnTo>
                  <a:pt x="0" y="21622"/>
                </a:lnTo>
                <a:close/>
              </a:path>
              <a:path fill="lightenLess" w="21600" h="216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2">
                <a:moveTo>
                  <a:pt x="21600" y="0"/>
                </a:moveTo>
                <a:lnTo>
                  <a:pt x="21600" y="21622"/>
                </a:lnTo>
                <a:lnTo>
                  <a:pt x="20200" y="20222"/>
                </a:lnTo>
                <a:lnTo>
                  <a:pt x="20200" y="1400"/>
                </a:lnTo>
                <a:close/>
              </a:path>
              <a:path fill="darkenLess" w="21600" h="21622">
                <a:moveTo>
                  <a:pt x="21600" y="21622"/>
                </a:moveTo>
                <a:lnTo>
                  <a:pt x="0" y="21622"/>
                </a:lnTo>
                <a:lnTo>
                  <a:pt x="1400" y="20222"/>
                </a:lnTo>
                <a:lnTo>
                  <a:pt x="20200" y="20222"/>
                </a:lnTo>
                <a:close/>
              </a:path>
              <a:path fill="lighten" w="21600" h="21622">
                <a:moveTo>
                  <a:pt x="0" y="216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>
            <a:hlinkClick r:id="" action="ppaction://hlinkshowjump?jump=nextslide"/>
          </p:cNvPr>
          <p:cNvSpPr/>
          <p:nvPr/>
        </p:nvSpPr>
        <p:spPr>
          <a:xfrm>
            <a:off x="468360" y="4149720"/>
            <a:ext cx="358560" cy="35892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00" h="21622">
                <a:moveTo>
                  <a:pt x="0" y="0"/>
                </a:moveTo>
                <a:lnTo>
                  <a:pt x="21600" y="0"/>
                </a:lnTo>
                <a:lnTo>
                  <a:pt x="21600" y="21622"/>
                </a:lnTo>
                <a:lnTo>
                  <a:pt x="0" y="21622"/>
                </a:lnTo>
                <a:close/>
              </a:path>
              <a:path fill="lightenLess" w="21600" h="216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2">
                <a:moveTo>
                  <a:pt x="21600" y="0"/>
                </a:moveTo>
                <a:lnTo>
                  <a:pt x="21600" y="21622"/>
                </a:lnTo>
                <a:lnTo>
                  <a:pt x="20200" y="20222"/>
                </a:lnTo>
                <a:lnTo>
                  <a:pt x="20200" y="1400"/>
                </a:lnTo>
                <a:close/>
              </a:path>
              <a:path fill="darkenLess" w="21600" h="21622">
                <a:moveTo>
                  <a:pt x="21600" y="21622"/>
                </a:moveTo>
                <a:lnTo>
                  <a:pt x="0" y="21622"/>
                </a:lnTo>
                <a:lnTo>
                  <a:pt x="1400" y="20222"/>
                </a:lnTo>
                <a:lnTo>
                  <a:pt x="20200" y="20222"/>
                </a:lnTo>
                <a:close/>
              </a:path>
              <a:path fill="lighten" w="21600" h="21622">
                <a:moveTo>
                  <a:pt x="0" y="216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>
            <a:hlinkClick r:id="" action="ppaction://hlinkshowjump?jump=nextslide"/>
          </p:cNvPr>
          <p:cNvSpPr/>
          <p:nvPr/>
        </p:nvSpPr>
        <p:spPr>
          <a:xfrm>
            <a:off x="468360" y="4724280"/>
            <a:ext cx="358560" cy="35892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00" h="21622">
                <a:moveTo>
                  <a:pt x="0" y="0"/>
                </a:moveTo>
                <a:lnTo>
                  <a:pt x="21600" y="0"/>
                </a:lnTo>
                <a:lnTo>
                  <a:pt x="21600" y="21622"/>
                </a:lnTo>
                <a:lnTo>
                  <a:pt x="0" y="21622"/>
                </a:lnTo>
                <a:close/>
              </a:path>
              <a:path fill="lightenLess" w="21600" h="216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2">
                <a:moveTo>
                  <a:pt x="21600" y="0"/>
                </a:moveTo>
                <a:lnTo>
                  <a:pt x="21600" y="21622"/>
                </a:lnTo>
                <a:lnTo>
                  <a:pt x="20200" y="20222"/>
                </a:lnTo>
                <a:lnTo>
                  <a:pt x="20200" y="1400"/>
                </a:lnTo>
                <a:close/>
              </a:path>
              <a:path fill="darkenLess" w="21600" h="21622">
                <a:moveTo>
                  <a:pt x="21600" y="21622"/>
                </a:moveTo>
                <a:lnTo>
                  <a:pt x="0" y="21622"/>
                </a:lnTo>
                <a:lnTo>
                  <a:pt x="1400" y="20222"/>
                </a:lnTo>
                <a:lnTo>
                  <a:pt x="20200" y="20222"/>
                </a:lnTo>
                <a:close/>
              </a:path>
              <a:path fill="lighten" w="21600" h="21622">
                <a:moveTo>
                  <a:pt x="0" y="216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1332000" y="907920"/>
            <a:ext cx="61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вет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верны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1258920" y="3357720"/>
            <a:ext cx="5478480" cy="1228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НЕПРАВИЛЬНО!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4" name="">
            <a:hlinkClick r:id="" action="ppaction://hlinkshowjump?jump=previousslide"/>
          </p:cNvPr>
          <p:cNvSpPr/>
          <p:nvPr/>
        </p:nvSpPr>
        <p:spPr>
          <a:xfrm>
            <a:off x="250920" y="602136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b99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fill="hold">
                      <p:stCondLst>
                        <p:cond delay="0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after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6" repeatCount="10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286000" y="2421000"/>
            <a:ext cx="4572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8ae8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332000" y="907920"/>
            <a:ext cx="61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Ответ верны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1619280" y="3141720"/>
            <a:ext cx="5184720" cy="1014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498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99ff"/>
                    </a:gs>
                    <a:gs pos="100000">
                      <a:srgbClr val="2f4675"/>
                    </a:gs>
                  </a:gsLst>
                  <a:lin ang="5400000"/>
                </a:gradFill>
                <a:latin typeface="Times New Roman"/>
              </a:rPr>
              <a:t>МОЛОДЕЦ !!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99ff"/>
                  </a:gs>
                  <a:gs pos="100000">
                    <a:srgbClr val="2f4675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98" name="">
            <a:hlinkClick r:id="" action="ppaction://hlinkshowjump?jump=nextslide"/>
          </p:cNvPr>
          <p:cNvSpPr/>
          <p:nvPr/>
        </p:nvSpPr>
        <p:spPr>
          <a:xfrm>
            <a:off x="250920" y="6021360"/>
            <a:ext cx="718920" cy="71928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00" h="21611">
                <a:moveTo>
                  <a:pt x="0" y="0"/>
                </a:moveTo>
                <a:lnTo>
                  <a:pt x="21600" y="0"/>
                </a:lnTo>
                <a:lnTo>
                  <a:pt x="21600" y="21611"/>
                </a:lnTo>
                <a:lnTo>
                  <a:pt x="0" y="21611"/>
                </a:lnTo>
                <a:close/>
              </a:path>
              <a:path fill="lightenLess" w="21600" h="216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1">
                <a:moveTo>
                  <a:pt x="21600" y="0"/>
                </a:moveTo>
                <a:lnTo>
                  <a:pt x="21600" y="21611"/>
                </a:lnTo>
                <a:lnTo>
                  <a:pt x="20200" y="20211"/>
                </a:lnTo>
                <a:lnTo>
                  <a:pt x="20200" y="1400"/>
                </a:lnTo>
                <a:close/>
              </a:path>
              <a:path fill="darkenLess" w="21600" h="21611">
                <a:moveTo>
                  <a:pt x="21600" y="21611"/>
                </a:moveTo>
                <a:lnTo>
                  <a:pt x="0" y="21611"/>
                </a:lnTo>
                <a:lnTo>
                  <a:pt x="1400" y="20211"/>
                </a:lnTo>
                <a:lnTo>
                  <a:pt x="20200" y="20211"/>
                </a:lnTo>
                <a:close/>
              </a:path>
              <a:path fill="lighten" w="21600" h="21611">
                <a:moveTo>
                  <a:pt x="0" y="216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1"/>
                </a:lnTo>
                <a:close/>
              </a:path>
              <a:path fill="darken" w="21600" h="21611">
                <a:moveTo>
                  <a:pt x="3794" y="3799"/>
                </a:moveTo>
                <a:lnTo>
                  <a:pt x="17806" y="10805"/>
                </a:lnTo>
                <a:lnTo>
                  <a:pt x="3794" y="17812"/>
                </a:lnTo>
                <a:close/>
              </a:path>
            </a:pathLst>
          </a:custGeom>
          <a:solidFill>
            <a:srgbClr val="0b99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07" dur="indefinite" restart="never" nodeType="tmRoot">
          <p:childTnLst>
            <p:seq>
              <p:cTn id="1108" dur="indefinite" nodeType="mainSeq">
                <p:childTnLst>
                  <p:par>
                    <p:cTn id="1109" fill="hold">
                      <p:stCondLst>
                        <p:cond delay="0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3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4" dur="2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2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2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324000" y="765000"/>
            <a:ext cx="3889080" cy="27990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324000" y="3809880"/>
            <a:ext cx="3887640" cy="27450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5076720" y="3860640"/>
            <a:ext cx="3672000" cy="27162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611280" y="3068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Times New Roman"/>
              </a:rPr>
              <a:t>ОСЬМИНО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39640" y="5877000"/>
            <a:ext cx="29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1280" y="602136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ПЕРЛОВИЦ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084720" y="587700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СЛИЗЕН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4"/>
          <a:stretch/>
        </p:blipFill>
        <p:spPr>
          <a:xfrm>
            <a:off x="5076720" y="765000"/>
            <a:ext cx="3673440" cy="275616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5148360" y="299736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Times New Roman"/>
              </a:rPr>
              <a:t>ВИНОГРАДНАЯ УЛИТ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547640" y="115920"/>
            <a:ext cx="58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Times New Roman"/>
              </a:rPr>
              <a:t>НАЙДИТЕ ОТЛИЧ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6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500"/>
                            </p:stCondLst>
                            <p:childTnLst>
                              <p:par>
                                <p:cTn id="20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9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cecff"/>
                </a:solidFill>
                <a:uFillTx/>
                <a:latin typeface="Times New Roman"/>
              </a:rPr>
              <a:t>По способу размножения брюхоногие моллюски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Times New Roman"/>
              </a:rPr>
              <a:t>Раздельнопол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Times New Roman"/>
              </a:rPr>
              <a:t>Одни – гермафродиты, другие - раздельнополы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Times New Roman"/>
              </a:rPr>
              <a:t>Размножаются бесполым путё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Times New Roman"/>
              </a:rPr>
              <a:t>Гермафроди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68360" y="2492280"/>
            <a:ext cx="358560" cy="35892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00" h="21622">
                <a:moveTo>
                  <a:pt x="0" y="0"/>
                </a:moveTo>
                <a:lnTo>
                  <a:pt x="21600" y="0"/>
                </a:lnTo>
                <a:lnTo>
                  <a:pt x="21600" y="21622"/>
                </a:lnTo>
                <a:lnTo>
                  <a:pt x="0" y="21622"/>
                </a:lnTo>
                <a:close/>
              </a:path>
              <a:path fill="lightenLess" w="21600" h="216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2">
                <a:moveTo>
                  <a:pt x="21600" y="0"/>
                </a:moveTo>
                <a:lnTo>
                  <a:pt x="21600" y="21622"/>
                </a:lnTo>
                <a:lnTo>
                  <a:pt x="20200" y="20222"/>
                </a:lnTo>
                <a:lnTo>
                  <a:pt x="20200" y="1400"/>
                </a:lnTo>
                <a:close/>
              </a:path>
              <a:path fill="darkenLess" w="21600" h="21622">
                <a:moveTo>
                  <a:pt x="21600" y="21622"/>
                </a:moveTo>
                <a:lnTo>
                  <a:pt x="0" y="21622"/>
                </a:lnTo>
                <a:lnTo>
                  <a:pt x="1400" y="20222"/>
                </a:lnTo>
                <a:lnTo>
                  <a:pt x="20200" y="20222"/>
                </a:lnTo>
                <a:close/>
              </a:path>
              <a:path fill="lighten" w="21600" h="21622">
                <a:moveTo>
                  <a:pt x="0" y="216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68360" y="3068640"/>
            <a:ext cx="358560" cy="35892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00" h="21622">
                <a:moveTo>
                  <a:pt x="0" y="0"/>
                </a:moveTo>
                <a:lnTo>
                  <a:pt x="21600" y="0"/>
                </a:lnTo>
                <a:lnTo>
                  <a:pt x="21600" y="21622"/>
                </a:lnTo>
                <a:lnTo>
                  <a:pt x="0" y="21622"/>
                </a:lnTo>
                <a:close/>
              </a:path>
              <a:path fill="lightenLess" w="21600" h="216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2">
                <a:moveTo>
                  <a:pt x="21600" y="0"/>
                </a:moveTo>
                <a:lnTo>
                  <a:pt x="21600" y="21622"/>
                </a:lnTo>
                <a:lnTo>
                  <a:pt x="20200" y="20222"/>
                </a:lnTo>
                <a:lnTo>
                  <a:pt x="20200" y="1400"/>
                </a:lnTo>
                <a:close/>
              </a:path>
              <a:path fill="darkenLess" w="21600" h="21622">
                <a:moveTo>
                  <a:pt x="21600" y="21622"/>
                </a:moveTo>
                <a:lnTo>
                  <a:pt x="0" y="21622"/>
                </a:lnTo>
                <a:lnTo>
                  <a:pt x="1400" y="20222"/>
                </a:lnTo>
                <a:lnTo>
                  <a:pt x="20200" y="20222"/>
                </a:lnTo>
                <a:close/>
              </a:path>
              <a:path fill="lighten" w="21600" h="21622">
                <a:moveTo>
                  <a:pt x="0" y="216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68360" y="4149720"/>
            <a:ext cx="358560" cy="35892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00" h="21622">
                <a:moveTo>
                  <a:pt x="0" y="0"/>
                </a:moveTo>
                <a:lnTo>
                  <a:pt x="21600" y="0"/>
                </a:lnTo>
                <a:lnTo>
                  <a:pt x="21600" y="21622"/>
                </a:lnTo>
                <a:lnTo>
                  <a:pt x="0" y="21622"/>
                </a:lnTo>
                <a:close/>
              </a:path>
              <a:path fill="lightenLess" w="21600" h="216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2">
                <a:moveTo>
                  <a:pt x="21600" y="0"/>
                </a:moveTo>
                <a:lnTo>
                  <a:pt x="21600" y="21622"/>
                </a:lnTo>
                <a:lnTo>
                  <a:pt x="20200" y="20222"/>
                </a:lnTo>
                <a:lnTo>
                  <a:pt x="20200" y="1400"/>
                </a:lnTo>
                <a:close/>
              </a:path>
              <a:path fill="darkenLess" w="21600" h="21622">
                <a:moveTo>
                  <a:pt x="21600" y="21622"/>
                </a:moveTo>
                <a:lnTo>
                  <a:pt x="0" y="21622"/>
                </a:lnTo>
                <a:lnTo>
                  <a:pt x="1400" y="20222"/>
                </a:lnTo>
                <a:lnTo>
                  <a:pt x="20200" y="20222"/>
                </a:lnTo>
                <a:close/>
              </a:path>
              <a:path fill="lighten" w="21600" h="21622">
                <a:moveTo>
                  <a:pt x="0" y="216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68360" y="4724280"/>
            <a:ext cx="358560" cy="35892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00" h="21622">
                <a:moveTo>
                  <a:pt x="0" y="0"/>
                </a:moveTo>
                <a:lnTo>
                  <a:pt x="21600" y="0"/>
                </a:lnTo>
                <a:lnTo>
                  <a:pt x="21600" y="21622"/>
                </a:lnTo>
                <a:lnTo>
                  <a:pt x="0" y="21622"/>
                </a:lnTo>
                <a:close/>
              </a:path>
              <a:path fill="lightenLess" w="21600" h="216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2">
                <a:moveTo>
                  <a:pt x="21600" y="0"/>
                </a:moveTo>
                <a:lnTo>
                  <a:pt x="21600" y="21622"/>
                </a:lnTo>
                <a:lnTo>
                  <a:pt x="20200" y="20222"/>
                </a:lnTo>
                <a:lnTo>
                  <a:pt x="20200" y="1400"/>
                </a:lnTo>
                <a:close/>
              </a:path>
              <a:path fill="darkenLess" w="21600" h="21622">
                <a:moveTo>
                  <a:pt x="21600" y="21622"/>
                </a:moveTo>
                <a:lnTo>
                  <a:pt x="0" y="21622"/>
                </a:lnTo>
                <a:lnTo>
                  <a:pt x="1400" y="20222"/>
                </a:lnTo>
                <a:lnTo>
                  <a:pt x="20200" y="20222"/>
                </a:lnTo>
                <a:close/>
              </a:path>
              <a:path fill="lighten" w="21600" h="21622">
                <a:moveTo>
                  <a:pt x="0" y="216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1332000" y="907920"/>
            <a:ext cx="61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вет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верны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1258920" y="3357720"/>
            <a:ext cx="5478480" cy="1228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НЕПРАВИЛЬНО!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7" name="">
            <a:hlinkClick r:id="" action="ppaction://hlinkshowjump?jump=previousslide"/>
          </p:cNvPr>
          <p:cNvSpPr/>
          <p:nvPr/>
        </p:nvSpPr>
        <p:spPr>
          <a:xfrm>
            <a:off x="250920" y="602136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b99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17" dur="indefinite" restart="never" nodeType="tmRoot">
          <p:childTnLst>
            <p:seq>
              <p:cTn id="1118" dur="indefinite" nodeType="mainSeq">
                <p:childTnLst>
                  <p:par>
                    <p:cTn id="1119" fill="hold">
                      <p:stCondLst>
                        <p:cond delay="0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after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6" repeatCount="10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2286000" y="2421000"/>
            <a:ext cx="4572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8ae8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332000" y="907920"/>
            <a:ext cx="61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Ответ верны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1619280" y="3141720"/>
            <a:ext cx="5184720" cy="1014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498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99ff"/>
                    </a:gs>
                    <a:gs pos="100000">
                      <a:srgbClr val="2f4675"/>
                    </a:gs>
                  </a:gsLst>
                  <a:lin ang="5400000"/>
                </a:gradFill>
                <a:latin typeface="Times New Roman"/>
              </a:rPr>
              <a:t>МОЛОДЕЦ !!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99ff"/>
                  </a:gs>
                  <a:gs pos="100000">
                    <a:srgbClr val="2f4675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11" name="">
            <a:hlinkClick r:id="" action="ppaction://hlinkshowjump?jump=nextslide"/>
          </p:cNvPr>
          <p:cNvSpPr/>
          <p:nvPr/>
        </p:nvSpPr>
        <p:spPr>
          <a:xfrm>
            <a:off x="250920" y="6021360"/>
            <a:ext cx="718920" cy="71928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00" h="21611">
                <a:moveTo>
                  <a:pt x="0" y="0"/>
                </a:moveTo>
                <a:lnTo>
                  <a:pt x="21600" y="0"/>
                </a:lnTo>
                <a:lnTo>
                  <a:pt x="21600" y="21611"/>
                </a:lnTo>
                <a:lnTo>
                  <a:pt x="0" y="21611"/>
                </a:lnTo>
                <a:close/>
              </a:path>
              <a:path fill="lightenLess" w="21600" h="216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1">
                <a:moveTo>
                  <a:pt x="21600" y="0"/>
                </a:moveTo>
                <a:lnTo>
                  <a:pt x="21600" y="21611"/>
                </a:lnTo>
                <a:lnTo>
                  <a:pt x="20200" y="20211"/>
                </a:lnTo>
                <a:lnTo>
                  <a:pt x="20200" y="1400"/>
                </a:lnTo>
                <a:close/>
              </a:path>
              <a:path fill="darkenLess" w="21600" h="21611">
                <a:moveTo>
                  <a:pt x="21600" y="21611"/>
                </a:moveTo>
                <a:lnTo>
                  <a:pt x="0" y="21611"/>
                </a:lnTo>
                <a:lnTo>
                  <a:pt x="1400" y="20211"/>
                </a:lnTo>
                <a:lnTo>
                  <a:pt x="20200" y="20211"/>
                </a:lnTo>
                <a:close/>
              </a:path>
              <a:path fill="lighten" w="21600" h="21611">
                <a:moveTo>
                  <a:pt x="0" y="216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1"/>
                </a:lnTo>
                <a:close/>
              </a:path>
              <a:path fill="darken" w="21600" h="21611">
                <a:moveTo>
                  <a:pt x="3794" y="3799"/>
                </a:moveTo>
                <a:lnTo>
                  <a:pt x="17806" y="10805"/>
                </a:lnTo>
                <a:lnTo>
                  <a:pt x="3794" y="17812"/>
                </a:lnTo>
                <a:close/>
              </a:path>
            </a:pathLst>
          </a:custGeom>
          <a:solidFill>
            <a:srgbClr val="0b99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55" dur="indefinite" restart="never" nodeType="tmRoot">
          <p:childTnLst>
            <p:seq>
              <p:cTn id="1156" dur="indefinite" nodeType="mainSeq">
                <p:childTnLst>
                  <p:par>
                    <p:cTn id="1157" fill="hold">
                      <p:stCondLst>
                        <p:cond delay="0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1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2" dur="2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2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cecff"/>
                </a:solidFill>
                <a:uFillTx/>
                <a:latin typeface="Times New Roman"/>
              </a:rPr>
              <a:t>Выберите двустворчатых моллюсков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Times New Roman"/>
              </a:rPr>
              <a:t>Виноградные улит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Times New Roman"/>
              </a:rPr>
              <a:t>Мид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Times New Roman"/>
              </a:rPr>
              <a:t>Осьминог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Times New Roman"/>
              </a:rPr>
              <a:t>Наутилус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>
            <a:hlinkClick r:id="" action="ppaction://hlinkshowjump?jump=nextslide"/>
          </p:cNvPr>
          <p:cNvSpPr/>
          <p:nvPr/>
        </p:nvSpPr>
        <p:spPr>
          <a:xfrm>
            <a:off x="468360" y="2492280"/>
            <a:ext cx="358560" cy="35892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00" h="21622">
                <a:moveTo>
                  <a:pt x="0" y="0"/>
                </a:moveTo>
                <a:lnTo>
                  <a:pt x="21600" y="0"/>
                </a:lnTo>
                <a:lnTo>
                  <a:pt x="21600" y="21622"/>
                </a:lnTo>
                <a:lnTo>
                  <a:pt x="0" y="21622"/>
                </a:lnTo>
                <a:close/>
              </a:path>
              <a:path fill="lightenLess" w="21600" h="216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2">
                <a:moveTo>
                  <a:pt x="21600" y="0"/>
                </a:moveTo>
                <a:lnTo>
                  <a:pt x="21600" y="21622"/>
                </a:lnTo>
                <a:lnTo>
                  <a:pt x="20200" y="20222"/>
                </a:lnTo>
                <a:lnTo>
                  <a:pt x="20200" y="1400"/>
                </a:lnTo>
                <a:close/>
              </a:path>
              <a:path fill="darkenLess" w="21600" h="21622">
                <a:moveTo>
                  <a:pt x="21600" y="21622"/>
                </a:moveTo>
                <a:lnTo>
                  <a:pt x="0" y="21622"/>
                </a:lnTo>
                <a:lnTo>
                  <a:pt x="1400" y="20222"/>
                </a:lnTo>
                <a:lnTo>
                  <a:pt x="20200" y="20222"/>
                </a:lnTo>
                <a:close/>
              </a:path>
              <a:path fill="lighten" w="21600" h="21622">
                <a:moveTo>
                  <a:pt x="0" y="216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68360" y="3068640"/>
            <a:ext cx="358560" cy="35892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00" h="21622">
                <a:moveTo>
                  <a:pt x="0" y="0"/>
                </a:moveTo>
                <a:lnTo>
                  <a:pt x="21600" y="0"/>
                </a:lnTo>
                <a:lnTo>
                  <a:pt x="21600" y="21622"/>
                </a:lnTo>
                <a:lnTo>
                  <a:pt x="0" y="21622"/>
                </a:lnTo>
                <a:close/>
              </a:path>
              <a:path fill="lightenLess" w="21600" h="216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2">
                <a:moveTo>
                  <a:pt x="21600" y="0"/>
                </a:moveTo>
                <a:lnTo>
                  <a:pt x="21600" y="21622"/>
                </a:lnTo>
                <a:lnTo>
                  <a:pt x="20200" y="20222"/>
                </a:lnTo>
                <a:lnTo>
                  <a:pt x="20200" y="1400"/>
                </a:lnTo>
                <a:close/>
              </a:path>
              <a:path fill="darkenLess" w="21600" h="21622">
                <a:moveTo>
                  <a:pt x="21600" y="21622"/>
                </a:moveTo>
                <a:lnTo>
                  <a:pt x="0" y="21622"/>
                </a:lnTo>
                <a:lnTo>
                  <a:pt x="1400" y="20222"/>
                </a:lnTo>
                <a:lnTo>
                  <a:pt x="20200" y="20222"/>
                </a:lnTo>
                <a:close/>
              </a:path>
              <a:path fill="lighten" w="21600" h="21622">
                <a:moveTo>
                  <a:pt x="0" y="216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>
            <a:hlinkClick r:id="" action="ppaction://hlinkshowjump?jump=nextslide"/>
          </p:cNvPr>
          <p:cNvSpPr/>
          <p:nvPr/>
        </p:nvSpPr>
        <p:spPr>
          <a:xfrm>
            <a:off x="468360" y="3645000"/>
            <a:ext cx="358560" cy="3585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>
            <a:hlinkClick r:id="" action="ppaction://hlinkshowjump?jump=nextslide"/>
          </p:cNvPr>
          <p:cNvSpPr/>
          <p:nvPr/>
        </p:nvSpPr>
        <p:spPr>
          <a:xfrm>
            <a:off x="468360" y="4221000"/>
            <a:ext cx="358560" cy="35892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00" h="21622">
                <a:moveTo>
                  <a:pt x="0" y="0"/>
                </a:moveTo>
                <a:lnTo>
                  <a:pt x="21600" y="0"/>
                </a:lnTo>
                <a:lnTo>
                  <a:pt x="21600" y="21622"/>
                </a:lnTo>
                <a:lnTo>
                  <a:pt x="0" y="21622"/>
                </a:lnTo>
                <a:close/>
              </a:path>
              <a:path fill="lightenLess" w="21600" h="216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2">
                <a:moveTo>
                  <a:pt x="21600" y="0"/>
                </a:moveTo>
                <a:lnTo>
                  <a:pt x="21600" y="21622"/>
                </a:lnTo>
                <a:lnTo>
                  <a:pt x="20200" y="20222"/>
                </a:lnTo>
                <a:lnTo>
                  <a:pt x="20200" y="1400"/>
                </a:lnTo>
                <a:close/>
              </a:path>
              <a:path fill="darkenLess" w="21600" h="21622">
                <a:moveTo>
                  <a:pt x="21600" y="21622"/>
                </a:moveTo>
                <a:lnTo>
                  <a:pt x="0" y="21622"/>
                </a:lnTo>
                <a:lnTo>
                  <a:pt x="1400" y="20222"/>
                </a:lnTo>
                <a:lnTo>
                  <a:pt x="20200" y="20222"/>
                </a:lnTo>
                <a:close/>
              </a:path>
              <a:path fill="lighten" w="21600" h="21622">
                <a:moveTo>
                  <a:pt x="0" y="216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1332000" y="907920"/>
            <a:ext cx="61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вет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верны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1258920" y="3357720"/>
            <a:ext cx="5478480" cy="1228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НЕПРАВИЛЬНО!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20" name="">
            <a:hlinkClick r:id="" action="ppaction://hlinkshowjump?jump=previousslide"/>
          </p:cNvPr>
          <p:cNvSpPr/>
          <p:nvPr/>
        </p:nvSpPr>
        <p:spPr>
          <a:xfrm>
            <a:off x="250920" y="602136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b99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65" dur="indefinite" restart="never" nodeType="tmRoot">
          <p:childTnLst>
            <p:seq>
              <p:cTn id="1166" dur="indefinite" nodeType="mainSeq">
                <p:childTnLst>
                  <p:par>
                    <p:cTn id="1167" fill="hold">
                      <p:stCondLst>
                        <p:cond delay="0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after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6" repeatCount="10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2286000" y="2421000"/>
            <a:ext cx="4572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8ae8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332000" y="907920"/>
            <a:ext cx="61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Ответ верны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1619280" y="3141720"/>
            <a:ext cx="5184720" cy="1014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498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99ff"/>
                    </a:gs>
                    <a:gs pos="100000">
                      <a:srgbClr val="2f4675"/>
                    </a:gs>
                  </a:gsLst>
                  <a:lin ang="5400000"/>
                </a:gradFill>
                <a:latin typeface="Times New Roman"/>
              </a:rPr>
              <a:t>МОЛОДЕЦ !!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99ff"/>
                  </a:gs>
                  <a:gs pos="100000">
                    <a:srgbClr val="2f4675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24" name="">
            <a:hlinkClick r:id="" action="ppaction://hlinkshowjump?jump=nextslide"/>
          </p:cNvPr>
          <p:cNvSpPr/>
          <p:nvPr/>
        </p:nvSpPr>
        <p:spPr>
          <a:xfrm>
            <a:off x="250920" y="6021360"/>
            <a:ext cx="718920" cy="71928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00" h="21611">
                <a:moveTo>
                  <a:pt x="0" y="0"/>
                </a:moveTo>
                <a:lnTo>
                  <a:pt x="21600" y="0"/>
                </a:lnTo>
                <a:lnTo>
                  <a:pt x="21600" y="21611"/>
                </a:lnTo>
                <a:lnTo>
                  <a:pt x="0" y="21611"/>
                </a:lnTo>
                <a:close/>
              </a:path>
              <a:path fill="lightenLess" w="21600" h="216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1">
                <a:moveTo>
                  <a:pt x="21600" y="0"/>
                </a:moveTo>
                <a:lnTo>
                  <a:pt x="21600" y="21611"/>
                </a:lnTo>
                <a:lnTo>
                  <a:pt x="20200" y="20211"/>
                </a:lnTo>
                <a:lnTo>
                  <a:pt x="20200" y="1400"/>
                </a:lnTo>
                <a:close/>
              </a:path>
              <a:path fill="darkenLess" w="21600" h="21611">
                <a:moveTo>
                  <a:pt x="21600" y="21611"/>
                </a:moveTo>
                <a:lnTo>
                  <a:pt x="0" y="21611"/>
                </a:lnTo>
                <a:lnTo>
                  <a:pt x="1400" y="20211"/>
                </a:lnTo>
                <a:lnTo>
                  <a:pt x="20200" y="20211"/>
                </a:lnTo>
                <a:close/>
              </a:path>
              <a:path fill="lighten" w="21600" h="21611">
                <a:moveTo>
                  <a:pt x="0" y="216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1"/>
                </a:lnTo>
                <a:close/>
              </a:path>
              <a:path fill="darken" w="21600" h="21611">
                <a:moveTo>
                  <a:pt x="3794" y="3799"/>
                </a:moveTo>
                <a:lnTo>
                  <a:pt x="17806" y="10805"/>
                </a:lnTo>
                <a:lnTo>
                  <a:pt x="3794" y="17812"/>
                </a:lnTo>
                <a:close/>
              </a:path>
            </a:pathLst>
          </a:custGeom>
          <a:solidFill>
            <a:srgbClr val="0b99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03" dur="indefinite" restart="never" nodeType="tmRoot">
          <p:childTnLst>
            <p:seq>
              <p:cTn id="1204" dur="indefinite" nodeType="mainSeq">
                <p:childTnLst>
                  <p:par>
                    <p:cTn id="1205" fill="hold">
                      <p:stCondLst>
                        <p:cond delay="0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9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0" dur="2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2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2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cecff"/>
                </a:solidFill>
                <a:uFillTx/>
                <a:latin typeface="Times New Roman"/>
              </a:rPr>
              <a:t>Выберите брюхоногих моллюсков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Times New Roman"/>
              </a:rPr>
              <a:t>Устриц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Times New Roman"/>
              </a:rPr>
              <a:t>Слиз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Times New Roman"/>
              </a:rPr>
              <a:t>Осьминог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Times New Roman"/>
              </a:rPr>
              <a:t>Каракатиц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>
            <a:hlinkClick r:id="" action="ppaction://hlinkshowjump?jump=nextslide"/>
          </p:cNvPr>
          <p:cNvSpPr/>
          <p:nvPr/>
        </p:nvSpPr>
        <p:spPr>
          <a:xfrm>
            <a:off x="468360" y="2492280"/>
            <a:ext cx="358560" cy="35892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00" h="21622">
                <a:moveTo>
                  <a:pt x="0" y="0"/>
                </a:moveTo>
                <a:lnTo>
                  <a:pt x="21600" y="0"/>
                </a:lnTo>
                <a:lnTo>
                  <a:pt x="21600" y="21622"/>
                </a:lnTo>
                <a:lnTo>
                  <a:pt x="0" y="21622"/>
                </a:lnTo>
                <a:close/>
              </a:path>
              <a:path fill="lightenLess" w="21600" h="216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2">
                <a:moveTo>
                  <a:pt x="21600" y="0"/>
                </a:moveTo>
                <a:lnTo>
                  <a:pt x="21600" y="21622"/>
                </a:lnTo>
                <a:lnTo>
                  <a:pt x="20200" y="20222"/>
                </a:lnTo>
                <a:lnTo>
                  <a:pt x="20200" y="1400"/>
                </a:lnTo>
                <a:close/>
              </a:path>
              <a:path fill="darkenLess" w="21600" h="21622">
                <a:moveTo>
                  <a:pt x="21600" y="21622"/>
                </a:moveTo>
                <a:lnTo>
                  <a:pt x="0" y="21622"/>
                </a:lnTo>
                <a:lnTo>
                  <a:pt x="1400" y="20222"/>
                </a:lnTo>
                <a:lnTo>
                  <a:pt x="20200" y="20222"/>
                </a:lnTo>
                <a:close/>
              </a:path>
              <a:path fill="lighten" w="21600" h="21622">
                <a:moveTo>
                  <a:pt x="0" y="216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68360" y="3068640"/>
            <a:ext cx="358560" cy="35892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00" h="21622">
                <a:moveTo>
                  <a:pt x="0" y="0"/>
                </a:moveTo>
                <a:lnTo>
                  <a:pt x="21600" y="0"/>
                </a:lnTo>
                <a:lnTo>
                  <a:pt x="21600" y="21622"/>
                </a:lnTo>
                <a:lnTo>
                  <a:pt x="0" y="21622"/>
                </a:lnTo>
                <a:close/>
              </a:path>
              <a:path fill="lightenLess" w="21600" h="216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2">
                <a:moveTo>
                  <a:pt x="21600" y="0"/>
                </a:moveTo>
                <a:lnTo>
                  <a:pt x="21600" y="21622"/>
                </a:lnTo>
                <a:lnTo>
                  <a:pt x="20200" y="20222"/>
                </a:lnTo>
                <a:lnTo>
                  <a:pt x="20200" y="1400"/>
                </a:lnTo>
                <a:close/>
              </a:path>
              <a:path fill="darkenLess" w="21600" h="21622">
                <a:moveTo>
                  <a:pt x="21600" y="21622"/>
                </a:moveTo>
                <a:lnTo>
                  <a:pt x="0" y="21622"/>
                </a:lnTo>
                <a:lnTo>
                  <a:pt x="1400" y="20222"/>
                </a:lnTo>
                <a:lnTo>
                  <a:pt x="20200" y="20222"/>
                </a:lnTo>
                <a:close/>
              </a:path>
              <a:path fill="lighten" w="21600" h="21622">
                <a:moveTo>
                  <a:pt x="0" y="216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>
            <a:hlinkClick r:id="" action="ppaction://hlinkshowjump?jump=nextslide"/>
          </p:cNvPr>
          <p:cNvSpPr/>
          <p:nvPr/>
        </p:nvSpPr>
        <p:spPr>
          <a:xfrm>
            <a:off x="468360" y="3645000"/>
            <a:ext cx="358560" cy="3585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>
            <a:hlinkClick r:id="" action="ppaction://hlinkshowjump?jump=nextslide"/>
          </p:cNvPr>
          <p:cNvSpPr/>
          <p:nvPr/>
        </p:nvSpPr>
        <p:spPr>
          <a:xfrm>
            <a:off x="468360" y="4221000"/>
            <a:ext cx="358560" cy="35892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00" h="21622">
                <a:moveTo>
                  <a:pt x="0" y="0"/>
                </a:moveTo>
                <a:lnTo>
                  <a:pt x="21600" y="0"/>
                </a:lnTo>
                <a:lnTo>
                  <a:pt x="21600" y="21622"/>
                </a:lnTo>
                <a:lnTo>
                  <a:pt x="0" y="21622"/>
                </a:lnTo>
                <a:close/>
              </a:path>
              <a:path fill="lightenLess" w="21600" h="216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2">
                <a:moveTo>
                  <a:pt x="21600" y="0"/>
                </a:moveTo>
                <a:lnTo>
                  <a:pt x="21600" y="21622"/>
                </a:lnTo>
                <a:lnTo>
                  <a:pt x="20200" y="20222"/>
                </a:lnTo>
                <a:lnTo>
                  <a:pt x="20200" y="1400"/>
                </a:lnTo>
                <a:close/>
              </a:path>
              <a:path fill="darkenLess" w="21600" h="21622">
                <a:moveTo>
                  <a:pt x="21600" y="21622"/>
                </a:moveTo>
                <a:lnTo>
                  <a:pt x="0" y="21622"/>
                </a:lnTo>
                <a:lnTo>
                  <a:pt x="1400" y="20222"/>
                </a:lnTo>
                <a:lnTo>
                  <a:pt x="20200" y="20222"/>
                </a:lnTo>
                <a:close/>
              </a:path>
              <a:path fill="lighten" w="21600" h="21622">
                <a:moveTo>
                  <a:pt x="0" y="216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1332000" y="907920"/>
            <a:ext cx="61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вет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верны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1258920" y="3357720"/>
            <a:ext cx="5478480" cy="1228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НЕПРАВИЛЬНО!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33" name="">
            <a:hlinkClick r:id="" action="ppaction://hlinkshowjump?jump=previousslide"/>
          </p:cNvPr>
          <p:cNvSpPr/>
          <p:nvPr/>
        </p:nvSpPr>
        <p:spPr>
          <a:xfrm>
            <a:off x="250920" y="602136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b99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13" dur="indefinite" restart="never" nodeType="tmRoot">
          <p:childTnLst>
            <p:seq>
              <p:cTn id="1214" dur="indefinite" nodeType="mainSeq">
                <p:childTnLst>
                  <p:par>
                    <p:cTn id="1215" fill="hold">
                      <p:stCondLst>
                        <p:cond delay="0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after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6" repeatCount="10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2286000" y="2421000"/>
            <a:ext cx="4572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8ae8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332000" y="907920"/>
            <a:ext cx="61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Ответ верны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1619280" y="3141720"/>
            <a:ext cx="5184720" cy="1014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498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99ff"/>
                    </a:gs>
                    <a:gs pos="100000">
                      <a:srgbClr val="2f4675"/>
                    </a:gs>
                  </a:gsLst>
                  <a:lin ang="5400000"/>
                </a:gradFill>
                <a:latin typeface="Times New Roman"/>
              </a:rPr>
              <a:t>МОЛОДЕЦ !!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99ff"/>
                  </a:gs>
                  <a:gs pos="100000">
                    <a:srgbClr val="2f4675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37" name="">
            <a:hlinkClick r:id="" action="ppaction://hlinkshowjump?jump=nextslide"/>
          </p:cNvPr>
          <p:cNvSpPr/>
          <p:nvPr/>
        </p:nvSpPr>
        <p:spPr>
          <a:xfrm>
            <a:off x="250920" y="6021360"/>
            <a:ext cx="718920" cy="71928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00" h="21611">
                <a:moveTo>
                  <a:pt x="0" y="0"/>
                </a:moveTo>
                <a:lnTo>
                  <a:pt x="21600" y="0"/>
                </a:lnTo>
                <a:lnTo>
                  <a:pt x="21600" y="21611"/>
                </a:lnTo>
                <a:lnTo>
                  <a:pt x="0" y="21611"/>
                </a:lnTo>
                <a:close/>
              </a:path>
              <a:path fill="lightenLess" w="21600" h="216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1">
                <a:moveTo>
                  <a:pt x="21600" y="0"/>
                </a:moveTo>
                <a:lnTo>
                  <a:pt x="21600" y="21611"/>
                </a:lnTo>
                <a:lnTo>
                  <a:pt x="20200" y="20211"/>
                </a:lnTo>
                <a:lnTo>
                  <a:pt x="20200" y="1400"/>
                </a:lnTo>
                <a:close/>
              </a:path>
              <a:path fill="darkenLess" w="21600" h="21611">
                <a:moveTo>
                  <a:pt x="21600" y="21611"/>
                </a:moveTo>
                <a:lnTo>
                  <a:pt x="0" y="21611"/>
                </a:lnTo>
                <a:lnTo>
                  <a:pt x="1400" y="20211"/>
                </a:lnTo>
                <a:lnTo>
                  <a:pt x="20200" y="20211"/>
                </a:lnTo>
                <a:close/>
              </a:path>
              <a:path fill="lighten" w="21600" h="21611">
                <a:moveTo>
                  <a:pt x="0" y="216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1"/>
                </a:lnTo>
                <a:close/>
              </a:path>
              <a:path fill="darken" w="21600" h="21611">
                <a:moveTo>
                  <a:pt x="3794" y="3799"/>
                </a:moveTo>
                <a:lnTo>
                  <a:pt x="17806" y="10805"/>
                </a:lnTo>
                <a:lnTo>
                  <a:pt x="3794" y="17812"/>
                </a:lnTo>
                <a:close/>
              </a:path>
            </a:pathLst>
          </a:custGeom>
          <a:solidFill>
            <a:srgbClr val="0b99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51" dur="indefinite" restart="never" nodeType="tmRoot">
          <p:childTnLst>
            <p:seq>
              <p:cTn id="1252" dur="indefinite" nodeType="mainSeq">
                <p:childTnLst>
                  <p:par>
                    <p:cTn id="1253" fill="hold">
                      <p:stCondLst>
                        <p:cond delay="0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7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8" dur="2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2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2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cecff"/>
                </a:solidFill>
                <a:uFillTx/>
                <a:latin typeface="Times New Roman"/>
              </a:rPr>
              <a:t>Выберите головоногих моллюсков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Times New Roman"/>
              </a:rPr>
              <a:t>Устриц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Times New Roman"/>
              </a:rPr>
              <a:t>Осьминог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Times New Roman"/>
              </a:rPr>
              <a:t>Тридак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Times New Roman"/>
              </a:rPr>
              <a:t>Мид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>
            <a:hlinkClick r:id="" action="ppaction://hlinkshowjump?jump=nextslide"/>
          </p:cNvPr>
          <p:cNvSpPr/>
          <p:nvPr/>
        </p:nvSpPr>
        <p:spPr>
          <a:xfrm>
            <a:off x="468360" y="2492280"/>
            <a:ext cx="358560" cy="35892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00" h="21622">
                <a:moveTo>
                  <a:pt x="0" y="0"/>
                </a:moveTo>
                <a:lnTo>
                  <a:pt x="21600" y="0"/>
                </a:lnTo>
                <a:lnTo>
                  <a:pt x="21600" y="21622"/>
                </a:lnTo>
                <a:lnTo>
                  <a:pt x="0" y="21622"/>
                </a:lnTo>
                <a:close/>
              </a:path>
              <a:path fill="lightenLess" w="21600" h="216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2">
                <a:moveTo>
                  <a:pt x="21600" y="0"/>
                </a:moveTo>
                <a:lnTo>
                  <a:pt x="21600" y="21622"/>
                </a:lnTo>
                <a:lnTo>
                  <a:pt x="20200" y="20222"/>
                </a:lnTo>
                <a:lnTo>
                  <a:pt x="20200" y="1400"/>
                </a:lnTo>
                <a:close/>
              </a:path>
              <a:path fill="darkenLess" w="21600" h="21622">
                <a:moveTo>
                  <a:pt x="21600" y="21622"/>
                </a:moveTo>
                <a:lnTo>
                  <a:pt x="0" y="21622"/>
                </a:lnTo>
                <a:lnTo>
                  <a:pt x="1400" y="20222"/>
                </a:lnTo>
                <a:lnTo>
                  <a:pt x="20200" y="20222"/>
                </a:lnTo>
                <a:close/>
              </a:path>
              <a:path fill="lighten" w="21600" h="21622">
                <a:moveTo>
                  <a:pt x="0" y="216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68360" y="3068640"/>
            <a:ext cx="358560" cy="35892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00" h="21622">
                <a:moveTo>
                  <a:pt x="0" y="0"/>
                </a:moveTo>
                <a:lnTo>
                  <a:pt x="21600" y="0"/>
                </a:lnTo>
                <a:lnTo>
                  <a:pt x="21600" y="21622"/>
                </a:lnTo>
                <a:lnTo>
                  <a:pt x="0" y="21622"/>
                </a:lnTo>
                <a:close/>
              </a:path>
              <a:path fill="lightenLess" w="21600" h="216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2">
                <a:moveTo>
                  <a:pt x="21600" y="0"/>
                </a:moveTo>
                <a:lnTo>
                  <a:pt x="21600" y="21622"/>
                </a:lnTo>
                <a:lnTo>
                  <a:pt x="20200" y="20222"/>
                </a:lnTo>
                <a:lnTo>
                  <a:pt x="20200" y="1400"/>
                </a:lnTo>
                <a:close/>
              </a:path>
              <a:path fill="darkenLess" w="21600" h="21622">
                <a:moveTo>
                  <a:pt x="21600" y="21622"/>
                </a:moveTo>
                <a:lnTo>
                  <a:pt x="0" y="21622"/>
                </a:lnTo>
                <a:lnTo>
                  <a:pt x="1400" y="20222"/>
                </a:lnTo>
                <a:lnTo>
                  <a:pt x="20200" y="20222"/>
                </a:lnTo>
                <a:close/>
              </a:path>
              <a:path fill="lighten" w="21600" h="21622">
                <a:moveTo>
                  <a:pt x="0" y="216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>
            <a:hlinkClick r:id="" action="ppaction://hlinkshowjump?jump=nextslide"/>
          </p:cNvPr>
          <p:cNvSpPr/>
          <p:nvPr/>
        </p:nvSpPr>
        <p:spPr>
          <a:xfrm>
            <a:off x="468360" y="3645000"/>
            <a:ext cx="358560" cy="3585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>
            <a:hlinkClick r:id="" action="ppaction://hlinkshowjump?jump=nextslide"/>
          </p:cNvPr>
          <p:cNvSpPr/>
          <p:nvPr/>
        </p:nvSpPr>
        <p:spPr>
          <a:xfrm>
            <a:off x="468360" y="4221000"/>
            <a:ext cx="358560" cy="35892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00" h="21622">
                <a:moveTo>
                  <a:pt x="0" y="0"/>
                </a:moveTo>
                <a:lnTo>
                  <a:pt x="21600" y="0"/>
                </a:lnTo>
                <a:lnTo>
                  <a:pt x="21600" y="21622"/>
                </a:lnTo>
                <a:lnTo>
                  <a:pt x="0" y="21622"/>
                </a:lnTo>
                <a:close/>
              </a:path>
              <a:path fill="lightenLess" w="21600" h="216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2">
                <a:moveTo>
                  <a:pt x="21600" y="0"/>
                </a:moveTo>
                <a:lnTo>
                  <a:pt x="21600" y="21622"/>
                </a:lnTo>
                <a:lnTo>
                  <a:pt x="20200" y="20222"/>
                </a:lnTo>
                <a:lnTo>
                  <a:pt x="20200" y="1400"/>
                </a:lnTo>
                <a:close/>
              </a:path>
              <a:path fill="darkenLess" w="21600" h="21622">
                <a:moveTo>
                  <a:pt x="21600" y="21622"/>
                </a:moveTo>
                <a:lnTo>
                  <a:pt x="0" y="21622"/>
                </a:lnTo>
                <a:lnTo>
                  <a:pt x="1400" y="20222"/>
                </a:lnTo>
                <a:lnTo>
                  <a:pt x="20200" y="20222"/>
                </a:lnTo>
                <a:close/>
              </a:path>
              <a:path fill="lighten" w="21600" h="21622">
                <a:moveTo>
                  <a:pt x="0" y="216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ecff"/>
                </a:solidFill>
                <a:latin typeface="Times New Roman"/>
              </a:rPr>
              <a:t>КЛАССИФИКАЦИЯ МОЛЛЮСКОВ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468360" y="4797360"/>
            <a:ext cx="2448000" cy="157968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1403280" y="141300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личество видов более 130 тысяч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635280" y="1989000"/>
            <a:ext cx="1873440" cy="9352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ип Моллюск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55640" y="3573360"/>
            <a:ext cx="1655640" cy="863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лас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рюхоног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 flipV="1" rot="10806600">
            <a:off x="177480" y="6328800"/>
            <a:ext cx="193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780000" y="3573360"/>
            <a:ext cx="1728720" cy="8654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лас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вустворчаты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516720" y="3573360"/>
            <a:ext cx="165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88000" y="3573360"/>
            <a:ext cx="1656000" cy="863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лас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оловоног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1835280" y="2924280"/>
            <a:ext cx="2232000" cy="64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643280" y="2924280"/>
            <a:ext cx="0" cy="64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92720" y="2924280"/>
            <a:ext cx="2160720" cy="64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6516720" y="4797360"/>
            <a:ext cx="2016000" cy="158436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3635280" y="4797360"/>
            <a:ext cx="2232000" cy="15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8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1332000" y="907920"/>
            <a:ext cx="61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вет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верны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1258920" y="3357720"/>
            <a:ext cx="5478480" cy="1228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НЕПРАВИЛЬНО!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46" name="">
            <a:hlinkClick r:id="" action="ppaction://hlinkshowjump?jump=previousslide"/>
          </p:cNvPr>
          <p:cNvSpPr/>
          <p:nvPr/>
        </p:nvSpPr>
        <p:spPr>
          <a:xfrm>
            <a:off x="250920" y="602136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b99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61" dur="indefinite" restart="never" nodeType="tmRoot">
          <p:childTnLst>
            <p:seq>
              <p:cTn id="1262" dur="indefinite" nodeType="mainSeq">
                <p:childTnLst>
                  <p:par>
                    <p:cTn id="1263" fill="hold">
                      <p:stCondLst>
                        <p:cond delay="0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after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6" repeatCount="10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2286000" y="2421000"/>
            <a:ext cx="4572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8ae8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332000" y="907920"/>
            <a:ext cx="61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Ответ верны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1619280" y="3141720"/>
            <a:ext cx="5184720" cy="1014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498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99ff"/>
                    </a:gs>
                    <a:gs pos="100000">
                      <a:srgbClr val="2f4675"/>
                    </a:gs>
                  </a:gsLst>
                  <a:lin ang="5400000"/>
                </a:gradFill>
                <a:latin typeface="Times New Roman"/>
              </a:rPr>
              <a:t>МОЛОДЕЦ !!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99ff"/>
                  </a:gs>
                  <a:gs pos="100000">
                    <a:srgbClr val="2f4675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50" name="">
            <a:hlinkClick r:id="" action="ppaction://hlinkshowjump?jump=nextslide"/>
          </p:cNvPr>
          <p:cNvSpPr/>
          <p:nvPr/>
        </p:nvSpPr>
        <p:spPr>
          <a:xfrm>
            <a:off x="250920" y="6021360"/>
            <a:ext cx="718920" cy="71928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00" h="21611">
                <a:moveTo>
                  <a:pt x="0" y="0"/>
                </a:moveTo>
                <a:lnTo>
                  <a:pt x="21600" y="0"/>
                </a:lnTo>
                <a:lnTo>
                  <a:pt x="21600" y="21611"/>
                </a:lnTo>
                <a:lnTo>
                  <a:pt x="0" y="21611"/>
                </a:lnTo>
                <a:close/>
              </a:path>
              <a:path fill="lightenLess" w="21600" h="216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1">
                <a:moveTo>
                  <a:pt x="21600" y="0"/>
                </a:moveTo>
                <a:lnTo>
                  <a:pt x="21600" y="21611"/>
                </a:lnTo>
                <a:lnTo>
                  <a:pt x="20200" y="20211"/>
                </a:lnTo>
                <a:lnTo>
                  <a:pt x="20200" y="1400"/>
                </a:lnTo>
                <a:close/>
              </a:path>
              <a:path fill="darkenLess" w="21600" h="21611">
                <a:moveTo>
                  <a:pt x="21600" y="21611"/>
                </a:moveTo>
                <a:lnTo>
                  <a:pt x="0" y="21611"/>
                </a:lnTo>
                <a:lnTo>
                  <a:pt x="1400" y="20211"/>
                </a:lnTo>
                <a:lnTo>
                  <a:pt x="20200" y="20211"/>
                </a:lnTo>
                <a:close/>
              </a:path>
              <a:path fill="lighten" w="21600" h="21611">
                <a:moveTo>
                  <a:pt x="0" y="216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1"/>
                </a:lnTo>
                <a:close/>
              </a:path>
              <a:path fill="darken" w="21600" h="21611">
                <a:moveTo>
                  <a:pt x="3794" y="3799"/>
                </a:moveTo>
                <a:lnTo>
                  <a:pt x="17806" y="10805"/>
                </a:lnTo>
                <a:lnTo>
                  <a:pt x="3794" y="17812"/>
                </a:lnTo>
                <a:close/>
              </a:path>
            </a:pathLst>
          </a:custGeom>
          <a:solidFill>
            <a:srgbClr val="0b99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99" dur="indefinite" restart="never" nodeType="tmRoot">
          <p:childTnLst>
            <p:seq>
              <p:cTn id="1300" dur="indefinite" nodeType="mainSeq">
                <p:childTnLst>
                  <p:par>
                    <p:cTn id="1301" fill="hold">
                      <p:stCondLst>
                        <p:cond delay="0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5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6" dur="2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2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2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476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ccecff"/>
                </a:solidFill>
                <a:uFillTx/>
                <a:latin typeface="Times New Roman"/>
              </a:rPr>
              <a:t>Ну вот и всё!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1160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afe1ff"/>
                </a:solidFill>
                <a:latin typeface="Times New Roman"/>
              </a:rPr>
              <a:t>Надеюсь, вы узнали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afe1ff"/>
                </a:solidFill>
                <a:latin typeface="Times New Roman"/>
              </a:rPr>
              <a:t>много новог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afe1ff"/>
                </a:solidFill>
                <a:latin typeface="Times New Roman"/>
              </a:rPr>
              <a:t>и интересного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afe1ff"/>
                </a:solidFill>
                <a:latin typeface="Times New Roman"/>
              </a:rPr>
              <a:t>До новых встреч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3" name="" descr="Картинка 20 из 5006"/>
          <p:cNvPicPr/>
          <p:nvPr/>
        </p:nvPicPr>
        <p:blipFill>
          <a:blip r:embed="rId1"/>
          <a:stretch/>
        </p:blipFill>
        <p:spPr>
          <a:xfrm>
            <a:off x="324000" y="333360"/>
            <a:ext cx="25430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9" dur="indefinite" restart="never" nodeType="tmRoot">
          <p:childTnLst>
            <p:seq>
              <p:cTn id="1310" dur="indefinite" nodeType="mainSeq">
                <p:childTnLst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5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fill="hold">
                            <p:stCondLst>
                              <p:cond delay="500"/>
                            </p:stCondLst>
                            <p:childTnLst>
                              <p:par>
                                <p:cTn id="13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9" dur="500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3" dur="500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7" dur="500"/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1" dur="500"/>
                                        <p:tgtEl>
                                          <p:spTgt spid="5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ecff"/>
                </a:solidFill>
                <a:latin typeface="Times New Roman"/>
              </a:rPr>
              <a:t>ОБРАЗ ЖИЗНИ МОЛЛЮСКОВ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4464000" cy="244008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684360" y="292428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УСТРИЦ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5148360" y="981000"/>
            <a:ext cx="3527280" cy="230364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5292720" y="292428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Verdana"/>
              </a:rPr>
              <a:t>ПРУДОВИ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3"/>
          <a:stretch/>
        </p:blipFill>
        <p:spPr>
          <a:xfrm>
            <a:off x="468360" y="3621240"/>
            <a:ext cx="4248000" cy="282888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684360" y="5950080"/>
            <a:ext cx="31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Verdana"/>
              </a:rPr>
              <a:t>КАЛЬМА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4"/>
          <a:stretch/>
        </p:blipFill>
        <p:spPr>
          <a:xfrm>
            <a:off x="4932360" y="3645000"/>
            <a:ext cx="3743280" cy="280836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4859280" y="580536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Verdana"/>
              </a:rPr>
              <a:t>Виноградная улит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ecff"/>
                </a:solidFill>
                <a:latin typeface="Times New Roman"/>
              </a:rPr>
              <a:t>ВНЕШНЕЕ СТРОЕНИЕ МОЛЛЮСКОВ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1116000" y="3789360"/>
            <a:ext cx="6764400" cy="281160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4716360" y="1052640"/>
            <a:ext cx="4176720" cy="23763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3"/>
          <a:stretch/>
        </p:blipFill>
        <p:spPr>
          <a:xfrm>
            <a:off x="250920" y="836640"/>
            <a:ext cx="410508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-171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cecff"/>
                </a:solidFill>
                <a:uFillTx/>
                <a:latin typeface="Times New Roman"/>
              </a:rPr>
              <a:t>Части тела моллюсков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6407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Times New Roman"/>
              </a:rPr>
              <a:t>1. Голова (у двустворчатых – нет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Times New Roman"/>
              </a:rPr>
              <a:t>2. Туловищ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Times New Roman"/>
              </a:rPr>
              <a:t>3. Нога (щупальца – у головоногих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Times New Roman"/>
              </a:rPr>
              <a:t>4. Мант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Times New Roman"/>
              </a:rPr>
              <a:t>5. Ракови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Times New Roman"/>
              </a:rPr>
              <a:t>Симметрия тела большинства моллюсков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afe1ff"/>
                </a:solidFill>
                <a:uFillTx/>
                <a:latin typeface="Times New Roman"/>
              </a:rPr>
              <a:t>двустороння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Times New Roman"/>
              </a:rPr>
              <a:t>Брюхоногие – </a:t>
            </a:r>
            <a:r>
              <a:rPr b="1" i="1" lang="ru-RU" sz="3200" spc="-1" strike="noStrike" u="sng">
                <a:solidFill>
                  <a:srgbClr val="afe1ff"/>
                </a:solidFill>
                <a:uFillTx/>
                <a:latin typeface="Times New Roman"/>
              </a:rPr>
              <a:t>асимметричные </a:t>
            </a:r>
            <a:r>
              <a:rPr b="1" i="1" lang="ru-RU" sz="3200" spc="-1" strike="noStrike">
                <a:solidFill>
                  <a:srgbClr val="afe1ff"/>
                </a:solidFill>
                <a:latin typeface="Times New Roman"/>
              </a:rPr>
              <a:t>животны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итонище</cp:lastModifiedBy>
  <dcterms:modified xsi:type="dcterms:W3CDTF">2009-02-16T21:07:23Z</dcterms:modified>
  <cp:revision>190</cp:revision>
  <dc:subject/>
  <dc:title>PowerPoint Presentation</dc:title>
</cp:coreProperties>
</file>