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7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9.jpeg" ContentType="image/jpeg"/>
  <Override PartName="/ppt/media/image89.png" ContentType="image/png"/>
  <Override PartName="/ppt/media/image50.jpeg" ContentType="image/jpeg"/>
  <Override PartName="/ppt/media/image54.png" ContentType="image/png"/>
  <Override PartName="/ppt/media/image76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86C-3190-43BA-8FAD-45F4AB40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ACB-0D79-4072-829E-DDFC6A43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E09-8E6C-448E-B4B0-E412238C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3CC-4F95-4707-93F3-2214D4A0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E32A-862E-41C9-BDE6-2E307B4C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EFF8-BC70-4C5A-BD5A-425662FF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7FB-289A-477A-940D-D6E55A7A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A0D-4399-48FA-B723-CDBA6F3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1B5A-5E1B-4A2C-8374-A9EDAF6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A88C-19DB-4C35-8CA7-4C68618B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FDC-2C20-42B4-B698-F23B8E9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CB9-27CB-4BC0-B72D-7DA3BFAD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ECB-76BF-48A1-B2C2-ADBBF64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7D51-395E-45F9-A1E0-58AADFE8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BBF-308F-422B-BE07-6C4F0967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516-F22E-481C-87FF-DF6DFA6A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868-6124-4B8D-A43B-CC454342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A1B-3406-44B2-B99C-F1F30689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65B-19B2-4B0E-8016-3EBF221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14D-C43B-4011-8E88-C14134A3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857-3294-4288-BE7D-88675876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D2B-82C5-4DB3-908C-67D9736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A47-A31A-4515-80F8-7ACA163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417-F1B4-4D87-A6CC-D0B4884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F377-CA7A-44BE-BFAA-3293A89168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D4F-E670-498C-BB44-766788D68B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14.jpeg"/><Relationship Id="rId5" Type="http://schemas.openxmlformats.org/officeDocument/2006/relationships/image" Target="../media/image18.jpeg"/><Relationship Id="rId6" Type="http://schemas.openxmlformats.org/officeDocument/2006/relationships/image" Target="../media/image15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hyperlink" Target="http://www.brixbrum.ru/terem/ris_terem/416.gif" TargetMode="External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79640" y="2421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3336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Тип Моллюск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1197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59280" y="3517920"/>
            <a:ext cx="3967200" cy="2975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У НЕКОТОРЫХ  ВИДОВ РАКОВИНЫ НЕ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672000" cy="2406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672000" cy="2874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3911760" cy="2316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РАЗНООБРАЗИЕ РАКОВ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545080" cy="5256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940200" cy="5256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6918480" cy="4151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619280" y="1341360"/>
            <a:ext cx="5977080" cy="4618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55640" y="1106640"/>
            <a:ext cx="7345440" cy="5510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43280" y="1125360"/>
            <a:ext cx="3673440" cy="5732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2411280" y="1197000"/>
            <a:ext cx="4467240" cy="5319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619280" y="1341360"/>
            <a:ext cx="6359400" cy="477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2268360" y="1268280"/>
            <a:ext cx="3940200" cy="525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2268360" y="1268280"/>
            <a:ext cx="44085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УТРЕН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35280" y="1463760"/>
            <a:ext cx="5545080" cy="4689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003640" y="3284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Times New Roman"/>
              </a:rPr>
              <a:t>РАДУЛА (ТЁРКА) БРЮХОНОГИ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484360" y="1590840"/>
            <a:ext cx="4608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УТРЕН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284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98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ОРГАНЫ ЧУВСТ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745080" cy="2763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211640" y="1197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1197000"/>
            <a:ext cx="482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сязания – на голове, в ноге, жабр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зрения – на голо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боняния – на голове, в кож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равновесия в ног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химического чувства – в жабр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427640" y="3716280"/>
            <a:ext cx="4249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Отличительные черты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реда обитания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оря, пресные водоёмы, су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имметрия тел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Двуст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защищено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ков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покрыто кожной складкой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ежду телом и мантией находи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йная пол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оллюсков состоит из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Головы, туловища, ноги, раковины, мант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Кровенос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замкну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дыха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Лёгкое или жаб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В пищеварительной системе появляю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дула (тёрка), печень, слюнные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-218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893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выделе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П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Нерв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рвные узлы, нервные стволы, нер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чувст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Осязания, обоняния, зрения, равновесия, химического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По способу размножения моллюски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здельнополые и гермафрод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Брюхоног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808000" cy="2108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2054160" cy="2736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1944720" cy="1497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3059280" y="422100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2349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алый прудов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16720" y="328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риат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лый слиз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86560" y="6237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иноградная ули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ту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хатин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6588000" y="47628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843280" y="981000"/>
            <a:ext cx="31017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«…карась лежит, зарывшись в ил, и выбирает оттуда микроскопических ракушек ради продовольствия и рассуждает: «Да и устроена она (ракушка) так, что никак невозможно её проглотить. Потяни рылом воду, ан в зобу у тебя  уж видимо-невидимо ракушек кишит»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М.Е. Салтыков-Щед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«Карась-идеалист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Догадались ли вы, каких животных мы в повседневной жизни называем ракушк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1189080" y="0"/>
            <a:ext cx="945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Двустворчаты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190600" cy="1704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457360" cy="1638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2400120" cy="1600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9640" y="278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д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стр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4360" y="162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е уш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2720" y="3933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идак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708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лов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й гребе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059280" y="3860640"/>
            <a:ext cx="3311280" cy="2208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6588000" y="45813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2539800" cy="2539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443640" y="2205000"/>
            <a:ext cx="237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Головоноги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1638360" cy="1714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00000" cy="1171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7093080" y="1484280"/>
            <a:ext cx="1834920" cy="1376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268360" y="1413000"/>
            <a:ext cx="2270160" cy="1525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1958760" cy="2952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50920" y="400536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2268360" y="3213000"/>
            <a:ext cx="2233800" cy="14367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5435640" y="33577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948360" y="5157720"/>
            <a:ext cx="1816200" cy="1384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7093080" y="3860640"/>
            <a:ext cx="1833480" cy="137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350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ракат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2421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ьмино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6165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льм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851280" y="4941720"/>
            <a:ext cx="2290680" cy="1638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700360" y="6093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утилу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500"/>
                            </p:stCondLst>
                            <p:childTnLst>
                              <p:par>
                                <p:cTn id="6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ОБЫКНОВЕННАЯ ПРОГУ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ОБЫКНОВЕННЫ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МАГАЗИ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ПРОДОВОЛЬСТВЕН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119400" cy="4416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391280" cy="3297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364000" y="1123920"/>
            <a:ext cx="2376720" cy="1849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5128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ид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89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3741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29120" y="1700280"/>
            <a:ext cx="3859200" cy="4775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33200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рицы на об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97240" cy="5040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256360" y="1844640"/>
            <a:ext cx="3406680" cy="4541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78000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ноградная улитка на обе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535280" cy="23814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137040" cy="2352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076720" y="1557360"/>
            <a:ext cx="3684600" cy="484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68360" y="314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ьминог и кальмар на уж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ЮВЕЛИР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311280" cy="2759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3139920" cy="235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3378240" cy="2955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5435640" y="3645000"/>
            <a:ext cx="3378240" cy="28652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087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Тридак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Украшения из жемчуг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3828960" cy="2638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Хозяйствен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876400" cy="28810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2313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741840" cy="2524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851280" y="59500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н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0400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аку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3276720" y="1197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492360" y="400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урек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й гребе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Тип Моллюски  или Мягкотелы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оллюски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– от латинского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olluskus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», что в перевод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значает –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ягкий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Галантерей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951280" cy="2360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651640" y="1484280"/>
            <a:ext cx="3203280" cy="2421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3924360" y="1125360"/>
            <a:ext cx="2432160" cy="2746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6877080" y="3573360"/>
            <a:ext cx="1960560" cy="2737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763640" cy="2417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2124000" y="4437000"/>
            <a:ext cx="1747800" cy="1898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009880" cy="2547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3276720" y="3429000"/>
            <a:ext cx="1944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500"/>
                            </p:stCondLst>
                            <p:childTnLst>
                              <p:par>
                                <p:cTn id="8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0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0"/>
                            </p:stCondLst>
                            <p:childTnLst>
                              <p:par>
                                <p:cTn id="8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Проверь свои знания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afe1ff"/>
                </a:solidFill>
                <a:uFillTx/>
                <a:latin typeface="Times New Roman"/>
              </a:rPr>
              <a:t>Тест – тренажё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т осьминог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виноградной ули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и морского гребе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Картинка 20 из 50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254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Среда обитания моллюск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, моря, пресные водоё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, мо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ресные водоё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Тело большинства моллюсков состоит из</a:t>
            </a:r>
            <a:r>
              <a:rPr b="1" i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ноги, раков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, ноги, ман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, ноги, щупал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Органы дыхания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Лёг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лёгкое, у других - 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Дышат всем те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НООБРАЗИЕ МОЛЛЮС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199280" cy="4505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391280" cy="4464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4248000" cy="396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900000" y="1557360"/>
            <a:ext cx="7201080" cy="4535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773360"/>
            <a:ext cx="7272360" cy="4392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971640" y="1628640"/>
            <a:ext cx="7345440" cy="4537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971640" y="1484280"/>
            <a:ext cx="7416720" cy="482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900000" y="1557360"/>
            <a:ext cx="7344000" cy="475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755640" y="1700280"/>
            <a:ext cx="7561440" cy="459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4360" y="1557360"/>
            <a:ext cx="7056360" cy="478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539640" y="1484280"/>
            <a:ext cx="7272360" cy="496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826920" y="1844640"/>
            <a:ext cx="7417080" cy="4632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611280" y="1773360"/>
            <a:ext cx="6913440" cy="420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2627280" y="1916280"/>
            <a:ext cx="4265640" cy="3617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5"/>
          <a:stretch/>
        </p:blipFill>
        <p:spPr>
          <a:xfrm>
            <a:off x="1332000" y="1700280"/>
            <a:ext cx="61196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ровеносная система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тсутству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замкну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Замкну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замкнутая, у других – незамкну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Органы выделения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еч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печень, у других – п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Нервная система моллюсков представлен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узлами, нервными стволами, нер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стволами, нервными уз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стволами, нер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nextslide"/>
          </p:cNvPr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4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889080" cy="279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24000" y="3809880"/>
            <a:ext cx="3887640" cy="2745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672000" cy="2716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ОСЬМИН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5877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ЛОВ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ИЗЕ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3673440" cy="275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148360" y="29973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ВИНОГРАДНАЯ УЛИ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11592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АЙДИТЕ ОТ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По способу размножения брюхоногие моллюс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Раздельнопо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дни – гермафродиты, другие - раздельнопо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Размножаются бесполым пут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ермафрод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1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двустворчаты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Виноградные ули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Ми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аутил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брюхоноги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с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л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Карака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3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головоноги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с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Тридак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Ми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Times New Roman"/>
              </a:rPr>
              <a:t>КЛАССИФИКАЦИЯ МОЛЛЮС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448000" cy="1579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видов более 130 тыся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1989000"/>
            <a:ext cx="187344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 Моллюс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3573360"/>
            <a:ext cx="165564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юхоног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 rot="10806600">
            <a:off x="177480" y="6328800"/>
            <a:ext cx="193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3573360"/>
            <a:ext cx="1728720" cy="8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створча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573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3573360"/>
            <a:ext cx="165600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оног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5280" y="2924280"/>
            <a:ext cx="223200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3280" y="2924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2924280"/>
            <a:ext cx="2160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2320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Ну вот и всё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Надеюсь, вы узна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много нов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и интерес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До новых встреч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Картинка 20 из 5006"/>
          <p:cNvPicPr/>
          <p:nvPr/>
        </p:nvPicPr>
        <p:blipFill>
          <a:blip r:embed="rId1"/>
          <a:stretch/>
        </p:blipFill>
        <p:spPr>
          <a:xfrm>
            <a:off x="324000" y="333360"/>
            <a:ext cx="254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3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7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1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ОБРАЗ ЖИЗНИ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464000" cy="2440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2924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СТР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527280" cy="2303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292720" y="2924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ПРУДОВ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68360" y="3621240"/>
            <a:ext cx="4248000" cy="2828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4360" y="59500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КАЛЬМ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85928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Виноградная ули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ЕШ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6764400" cy="281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1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4105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Части тела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640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1. Голова (у двустворчатых – 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2. Тулов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3. Нога (щупальца – у головоноги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4. Ман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5. Рако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имметрия тела большинства моллюсков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двусто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Брюхоногие – </a:t>
            </a: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асимметричные </a:t>
            </a: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иво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итонище</cp:lastModifiedBy>
  <dcterms:modified xsi:type="dcterms:W3CDTF">2009-02-16T21:07:23Z</dcterms:modified>
  <cp:revision>190</cp:revision>
  <dc:subject/>
  <dc:title>PowerPoint Presentation</dc:title>
</cp:coreProperties>
</file>