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AC0B-693F-4EBA-8D9E-67B3D3DC688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берите из данных примеров только словосочет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EAFD-B4E9-4A3A-A419-5B75275FE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2A76-A56E-470E-BA3B-8B251C57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533F-07C9-4A91-B38A-BE88D82C9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C9F5-E000-4D7E-9DA9-C7E5A2F45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30D1-A8FA-44A2-A581-8163B5C58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4071-819E-43A4-B0E1-93D0AF7E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03DE-0DF0-4F47-B412-607C3A29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1362A-836F-4973-90E1-A774D41A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A70C-8B87-4CA3-9951-FF824FE2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3121-6DF4-40F2-AE1E-84A2B180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807A-E940-4A86-A874-FACCF04E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2221-DE8E-4782-BDCC-979011BC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B080-8D31-41E9-9D88-90CDD9AC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8E767-54C9-463C-A19C-5DBDF9EC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A6A99-D28B-4D67-9EEF-F4385A22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E3F1-F26F-415F-8A45-8472043EC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F510-3818-4561-AF18-AAE8F160F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81CA-8051-472B-8717-B64CFE30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702A-D412-4B80-AF48-909204E5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122A-39BD-410A-BA02-071663E0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5FB1-01B6-4E23-80F3-5E4D8990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17D6-5C97-4B88-8796-1FD0F5D4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5517-13A6-4E90-A795-9FCDBF15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133E-906D-48AD-8F1B-91C272F8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70F9-B90F-4F87-B79C-596D08F78A0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EEC9-1076-45F6-96F1-C8468C5667C0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ипы связи слов в словосочетании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дчинительные словосочета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Примыкание-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способ подчинительной связи, при котором зависимое слово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3733560"/>
            <a:ext cx="7391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Главное слово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лагол, деепричасти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частие, наречие, прилагательное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уществительно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висимое слово-  наречие, деепричастие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финитив, сравнительная форма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изменяемое прилагательно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057400"/>
            <a:ext cx="7696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связано с главным только по смыслу и интонационно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актический сове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йти словосочетание с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мыканием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жно, отыскав неизменяемое слово, а затем установив слово, от которого оно зависи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81080" y="350496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зличать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4267080"/>
            <a:ext cx="43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мыкание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го книг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ё слов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х де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4876920" y="4191120"/>
            <a:ext cx="32004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правле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жу е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кликнул е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звал и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762120"/>
            <a:ext cx="8915400" cy="228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мыка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Внимательно слушать,собираться уехать, идти не оглядываясь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яйца всмятку, желание учить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832120" y="693720"/>
            <a:ext cx="527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99"/>
                </a:solidFill>
                <a:latin typeface="Tahoma"/>
              </a:rPr>
              <a:t>Осторожно! Грамматическая ошибка.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4343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правильно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Установить о причинах авар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Не касаться к этим вопроса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Оплатить за проез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Характерная им особеннос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Партнер в игре в голь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По завершению работ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Плохая погода препятствует 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затягивает уборку урожа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4419720" y="1447920"/>
            <a:ext cx="44956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авильн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cc"/>
                </a:solidFill>
                <a:latin typeface="Times New Roman"/>
              </a:rPr>
              <a:t>Установить причи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cc"/>
                </a:solidFill>
                <a:latin typeface="Times New Roman"/>
              </a:rPr>
              <a:t>Не касаться этих вопрос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cc"/>
                </a:solidFill>
                <a:latin typeface="Times New Roman"/>
              </a:rPr>
              <a:t>Оплатить проез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cc"/>
                </a:solidFill>
                <a:latin typeface="Times New Roman"/>
              </a:rPr>
              <a:t>Характерная для ни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cc"/>
                </a:solidFill>
                <a:latin typeface="Times New Roman"/>
              </a:rPr>
              <a:t>особенность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cc"/>
                </a:solidFill>
                <a:latin typeface="Times New Roman"/>
              </a:rPr>
              <a:t>Партнер по игре в голь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cc"/>
                </a:solidFill>
                <a:latin typeface="Times New Roman"/>
              </a:rPr>
              <a:t>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cc"/>
                </a:solidFill>
                <a:latin typeface="Times New Roman"/>
              </a:rPr>
              <a:t>Плохая погода препятствуе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cc"/>
                </a:solidFill>
                <a:latin typeface="Times New Roman"/>
              </a:rPr>
              <a:t>Уборке урожая и затягивает её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679480" y="617400"/>
            <a:ext cx="5041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Трудные случаи управления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ahoma"/>
              </a:rPr>
              <a:t>1)Согласно,благодаря, вопреки, подобно +Дат п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ahoma"/>
              </a:rPr>
              <a:t>2)В меру, в заключение, в виде, в течение, в продолжение, в силу, наподобие, посредством, +Род.п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ahoma"/>
              </a:rPr>
              <a:t>3)По+Пред.п.( обозначает действие, событие, после которого что-либо совершается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4495680" y="1828800"/>
            <a:ext cx="4267440" cy="4648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гласно приказ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лагодаря помощ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преки предсказан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обно взрыв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меру си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заключение выступ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виде цвет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течение сут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продолжение д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прибытии, по приезд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окончании, по завершен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Словосочетание- это соединение двух или нескольких знаменательных слов, связанных друг с другом по смыслу и грамматически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20570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следний звонок, бегущая стро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2819520"/>
            <a:ext cx="6400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шать задачу, подключение к се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3657600"/>
            <a:ext cx="495288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йствовать решительно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итать лёжа, очень хорош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50292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коло до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0080" y="4952880"/>
            <a:ext cx="3276720" cy="762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то следующ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коро зим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05720" y="1447920"/>
            <a:ext cx="1904760" cy="7617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глас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10280" y="2819520"/>
            <a:ext cx="1905120" cy="533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прав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53080" y="3962520"/>
            <a:ext cx="1828800" cy="6094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мык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81080" y="6095880"/>
            <a:ext cx="4267440" cy="457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является словосочетани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172200" y="167616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705720" y="312408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81480" y="4267080"/>
            <a:ext cx="13716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62320" y="53341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343400" y="533412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Не являются словосочетаниями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)сочетание самостоятельного слова с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лужебным: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еред грозой, пусть поёт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373392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сочетания слов в составе фразеологизмов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бить баклуши, сломя голову, валять дурак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4724280"/>
            <a:ext cx="7925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подлежащее и сказуемое: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Наступила ноч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548640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) составные словоформы: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более светлый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будет ходи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07760" y="617040"/>
            <a:ext cx="6953400" cy="11430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Способы подчинительной связи между словам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3200400"/>
            <a:ext cx="3733920" cy="9144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ГЛАСОВА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5257800" y="3200400"/>
            <a:ext cx="3429000" cy="6858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ПРАВЛ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43200" y="5029200"/>
            <a:ext cx="3962520" cy="10666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ЫК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1828800"/>
            <a:ext cx="75960" cy="31240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905120" y="1752480"/>
            <a:ext cx="1828800" cy="1447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19920" y="1752480"/>
            <a:ext cx="1752480" cy="1371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СОГЛАСОВАНИЕ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способ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3504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Главное слово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существительно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Зависимое слово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лагательное,причастие, местоимение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рядковое числительно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5562720"/>
            <a:ext cx="754380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лодая берёзка, кипящая вода, наш друг, первый сне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1905120"/>
            <a:ext cx="8153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одчинительной связи,когда зависимое слово уподобляется главному в формах рода, числа и падеж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актический сове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бы найти словосочетание с согласованием, надо выделить в предложении слово,отвечающее на вопрос  </a:t>
            </a: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КАКОЙ?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, а затем найти слово,от которого оно зависи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Управление-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способ подчинительной связи, при котором главное слово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520" y="3809880"/>
            <a:ext cx="72392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Главное слово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глагол и его формы (причастие, деепричастие), существительное, прилагательное, числительно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Зависимое слово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уществительное, местоимение, числительно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914400" y="1905120"/>
            <a:ext cx="769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требует от зависимого постановки в определённом падеже с предлогом и без предлог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Управл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581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мога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мога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могал б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2362320"/>
            <a:ext cx="2514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ц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4038480"/>
            <a:ext cx="32763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бить(что?) др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ря(во что?) в дружб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ое(из кого?) из ни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волен (кем?) тоб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19720" y="3200400"/>
            <a:ext cx="3581280" cy="914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и дерева (им.вин.п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и дочери (им.п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актический совет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иск словосочетания с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управлением-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это поиск слова( с предлогом или без) , отвечающего на падежный вопрос, а затем установление главного слова, чаще всего глагола или существительног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1T12:35:15Z</dcterms:created>
  <dc:creator>МАРИНА</dc:creator>
  <dc:description/>
  <dc:language>en-US</dc:language>
  <cp:lastModifiedBy>МАРИНА</cp:lastModifiedBy>
  <dcterms:modified xsi:type="dcterms:W3CDTF">2008-06-24T04:22:42Z</dcterms:modified>
  <cp:revision>12</cp:revision>
  <dc:subject/>
  <dc:title>PowerPoint Presentation</dc:title>
</cp:coreProperties>
</file>