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9A2F-41E2-4992-BAD4-6608F22454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из данных примеров только словосоче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48B-98BD-4131-A0E9-29A9B0E2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8CB-98AB-4386-8295-6CE35B90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42A-A634-433B-95F2-7AA921D4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947-88F3-4C02-BFD0-576DAF31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3AAE-A917-4A00-B9FF-AF01DA49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2107-E4C1-4944-80F3-306B9574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8324-2826-432D-83DE-B45B8D07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2B40-0588-4FA6-A8D7-2E652F7E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CB42-83D9-468E-937C-A4BBE6A8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06AF-11E7-4B66-9FAA-A5F58F93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0B73-B833-4A44-92AB-D29581D2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1B7-96A2-4CAF-B228-24293525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DA58-49F8-47E6-B293-295DAA7C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9CBC-7898-4EB9-A891-7EA2790F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FDE2-6D4F-4DB4-B872-EA3E9FF7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6490-3A8E-4DB8-948B-7E27DF88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96FE-20BE-4934-AEFE-AE8BF59C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FED-B440-4855-B604-E7B10CC7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F01-29AB-4A77-853E-C6E06287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8DE-1421-4B83-A60D-A62F0C75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BDF-E83E-48FE-B368-E22C4BE6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944-5721-411E-A853-9962DF18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AEC-52E9-43BC-A63F-D8D85CA2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DDB-44D9-498D-9CD0-215358A8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D506-4CDA-42E3-9705-AA8957547BE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6C40-4FAF-4212-BF8E-A5E7271691D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ипы связи слов в словосочетани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чинительные словосочет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римыкание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пособ подчинительной связи, при котором зависимое слово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37335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гол, деепричаст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частие, наречие, прилагательное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ществ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висимое слово-  наречие, деепричасти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инитив, сравнительная форм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изменяемое прилага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вязано с главным только по смыслу и интонационно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словосочетание 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ыкание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, отыскав неизменяемое слово, а затем установив слово, от которого оно завис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1080" y="35049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личать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ык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книг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ё сло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х де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4191120"/>
            <a:ext cx="3200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рав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жу е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ликнул е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л 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89154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ык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нимательно слушать,собираться уехать, идти не оглядываяс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яйца всмятку, желание учи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32120" y="693720"/>
            <a:ext cx="527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Tahoma"/>
              </a:rPr>
              <a:t>Осторожно! Грамматическая ошибка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авиль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Установить о причинах ава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е касаться к этим вопро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платить за проез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Характерная им особен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артнер в игре в голь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о завершению рабо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лохая погода препятствует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затягивает уборку урож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1447920"/>
            <a:ext cx="4495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Установить прич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Не касаться этих вопро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Оплатить проез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Характерная для 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особен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Партнер по игре в голь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Плохая погода препятству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Уборке урожая и затягивает е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79480" y="617400"/>
            <a:ext cx="5041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удные случаи управления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1)Согласно,благодаря, вопреки, подобно +Дат 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2)В меру, в заключение, в виде, в течение, в продолжение, в силу, наподобие, посредством, +Род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3)По+Пред.п.( обозначает действие, событие, после которого что-либо совершаетс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1828800"/>
            <a:ext cx="426744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но прика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даря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еки предсказа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бно взры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ру с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аключение выступ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цв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чение су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должение д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ибытии, по приез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окончании, по заверш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ловосочетание- это соединение двух или нескольких знаменательных слов, связанных друг с другом по смыслу и грамматическ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ледний звонок, бегущая стро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819520"/>
            <a:ext cx="6400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ать задачу, подключение к с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657600"/>
            <a:ext cx="4952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овать решительн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тать лёжа, очень хорош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0292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оло д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4952880"/>
            <a:ext cx="327672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следующ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 зи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1447920"/>
            <a:ext cx="190476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2819520"/>
            <a:ext cx="19051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962520"/>
            <a:ext cx="182880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ык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6095880"/>
            <a:ext cx="426744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ется словосочет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172200" y="16761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705720" y="31240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42670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3341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53341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е являются словосочетани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сочетание самостоятельного слова с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жебным: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еред грозой, пусть поёт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7339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очетания слов в составе фразеологизм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ить баклуши, сломя голову, валять дура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724280"/>
            <a:ext cx="7925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одлежащее и сказуемое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аступила н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48640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составные словоформы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олее светл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удет ходи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7760" y="617040"/>
            <a:ext cx="6953400" cy="1143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особы подчинительной связи между словам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3733920" cy="914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ГЛАС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3200400"/>
            <a:ext cx="3429000" cy="685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5029200"/>
            <a:ext cx="3962520" cy="1066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828800"/>
            <a:ext cx="75960" cy="3124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05120" y="1752480"/>
            <a:ext cx="1828800" cy="1447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1752480"/>
            <a:ext cx="1752480" cy="1371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ОГЛАСОВАНИЕ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посо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3504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существ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висимое слов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лагательное,причастие, местоимени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рядковое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562720"/>
            <a:ext cx="7543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одая берёзка, кипящая вода, наш друг, первый сне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90512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чинительной связи,когда зависимое слово уподобляется главному в формах рода, числа и падеж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айти словосочетание с согласованием, надо выделить в предложении слово,отвечающее на вопрос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КАКОЙ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, а затем найти слово,от которого оно завис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вление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способ подчинительной связи, при котором главное слово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3809880"/>
            <a:ext cx="7239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лагол и его формы (причастие, деепричастие), существительное, прилагательное,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висимое слово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уществительное, местоимение,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19051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ебует от зависимого постановки в определённом падеже с предлогом и без предло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в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л 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362320"/>
            <a:ext cx="2514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ц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03848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ить(что?) др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я(во что?) в друж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ое(из кого?) из н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олен (кем?) тоб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3200400"/>
            <a:ext cx="358128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дерева (им.вин.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дочери (им.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иск словосочетания 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правлением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то поиск слова( с предлогом или без) , отвечающего на падежный вопрос, а затем установление главного слова, чаще всего глагола или существительн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2:35:15Z</dcterms:created>
  <dc:creator>МАРИНА</dc:creator>
  <dc:description/>
  <dc:language>en-US</dc:language>
  <cp:lastModifiedBy>МАРИНА</cp:lastModifiedBy>
  <dcterms:modified xsi:type="dcterms:W3CDTF">2008-06-24T04:22:42Z</dcterms:modified>
  <cp:revision>12</cp:revision>
  <dc:subject/>
  <dc:title>PowerPoint Presentation</dc:title>
</cp:coreProperties>
</file>