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30D-6CEE-43F1-B304-6DF25866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B14-11E2-44EF-89C6-A3AB59E9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6D3-C022-440F-A28D-42AA9A49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E2C-F8C2-4ED9-B24F-AFC909D4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03F5-F6B1-4FF8-ADBB-331EB0D6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59C3-9AA3-45D0-B139-9A1DAE58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DA05-F91A-4503-AC24-68CCA9B0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5F69-A832-4F38-95F7-9566D95C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69E7-A829-443B-8A72-EB63CEEA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C8DA-1816-4CC2-914A-B2BC1640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D72D-EE48-4358-9F1C-B4F5511E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07C-9FCB-4458-97FC-A35A03DB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136E-03A6-4240-BD26-3E4987D2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56F6-AA94-468C-BFDF-9EECE7BC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3A4C-F40B-47A0-A3DF-EBB9E476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F0AE-9264-4F10-B407-46388C44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72A1-C736-45F7-A3A0-6AA6CE90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54C-A7E9-4199-BB8E-979FA399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124-A17C-4948-A73D-EB7862A1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4B1-71B1-4829-8047-5D1274DF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EF7-0563-4B12-9914-E85724E6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A8C-7850-4D17-B5A3-24C98C14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826-AF52-4105-9532-56BC991A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55A-6A09-46DA-B8B2-FEB2AB6E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7A0E-8103-473A-AF4A-B989B67625CB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8346-BCF4-449F-B5C3-CD8C0091ED63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ложноподчинённое предложе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ипы придаточных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ак определить тип придаточных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ужно установить смысловые отношения между главным и придаточным предложениями при помощи вопрос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304920"/>
            <a:ext cx="82296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идаточные изъяснительны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752480"/>
            <a:ext cx="83059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вязаны с глаголом со значением мысли, чувства, восприяти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ЗНАТЬ, ПОНИМАТЬ, ЧУВСТВОВАТЬ, ЛЮБИТЬ, ВИДЕТЬ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ЛЫШАТЬ И ТД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343400"/>
            <a:ext cx="2514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знаю (ЧТО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352680"/>
            <a:ext cx="3200400" cy="3048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ТО ты скажеш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ТО приходил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АК это сделат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АКОЙ сегодня ден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ОГДА  он вернётс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ДЕ он живёт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ЧЁМУ ты молчиш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ЗАЧЕМ он приходил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1066680"/>
            <a:ext cx="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752480" y="2971800"/>
            <a:ext cx="2819520" cy="1219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648320"/>
            <a:ext cx="274320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952880"/>
            <a:ext cx="281952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304920"/>
            <a:ext cx="83055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 определительны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371600"/>
            <a:ext cx="83822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тносятся к существительному или местоимению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гут быть связаны с главным предложением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 помощью союзных слов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495680"/>
            <a:ext cx="32763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ы вошли в ту комнат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(КАКУЮ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733920"/>
            <a:ext cx="45720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ОТОРАЯ была ярко освещен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ЧТО находилась справ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УДА нас пригласила хозяйк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ТКУДА доносились голос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ДЕ были сложены вещ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99072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057400" y="2666880"/>
            <a:ext cx="2209680" cy="1828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472428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0" y="228600"/>
            <a:ext cx="5715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 обстоятельственны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1295280"/>
            <a:ext cx="4419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ЗЛИЧАТЬ 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05120"/>
            <a:ext cx="44197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СЛЕДСТВИ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( ТАК ЧТО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1905120"/>
            <a:ext cx="4114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 СТЕПЕН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( ЧТО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124080"/>
            <a:ext cx="289548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Было очень темно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ак что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приходилось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ащупывать дорог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971800"/>
            <a:ext cx="281952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Было так темно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то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ходилось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ащупывать дорог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5257800"/>
            <a:ext cx="4343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ыражает степень п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омощи указания на следстви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2743200"/>
            <a:ext cx="7632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495288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438280" y="2819520"/>
            <a:ext cx="7632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304920"/>
            <a:ext cx="79246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 обстоятельст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1371600"/>
            <a:ext cx="5181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ЗЛИЧАТ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133720"/>
            <a:ext cx="38098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ЧИН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133720"/>
            <a:ext cx="33526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ЦЕЛ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3124080"/>
            <a:ext cx="3733560" cy="3200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ы остановилис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(С КАКОЙ ЦЕЛЬЮ?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ТОБЫ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абрать воды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124080"/>
            <a:ext cx="381024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ы остановилис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(ПОЧЕМУ?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ТОМУ ЧТ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ужно было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абрать воды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914400"/>
            <a:ext cx="7632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352320" y="1828800"/>
            <a:ext cx="129564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1828800"/>
            <a:ext cx="13716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2895480"/>
            <a:ext cx="7632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2819520"/>
            <a:ext cx="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04920"/>
            <a:ext cx="7848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братить вниман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447920"/>
            <a:ext cx="79246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 присоединительны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362320"/>
            <a:ext cx="807732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бозначают добавочные сведения, замечания к тому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 чём говорится в главном предложении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) конкретный вопрос поставить невозможно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3)относятся ко всему главному предложению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4) Присоединяются союзными словами ЧТО,ЧЕМ, О ЧЕМ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ТТОГО, ЗАЧЕМ, ПОЧЕМУ И ДР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638680"/>
            <a:ext cx="81532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ала роса,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то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обещало хорошую пого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1066680"/>
            <a:ext cx="75960" cy="3812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1981080"/>
            <a:ext cx="7632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2:21:47Z</dcterms:created>
  <dc:creator>МАРИНА</dc:creator>
  <dc:description/>
  <dc:language>en-US</dc:language>
  <cp:lastModifiedBy>МАРИНА</cp:lastModifiedBy>
  <dcterms:modified xsi:type="dcterms:W3CDTF">2008-06-24T04:33:53Z</dcterms:modified>
  <cp:revision>4</cp:revision>
  <dc:subject/>
  <dc:title>PowerPoint Presentation</dc:title>
</cp:coreProperties>
</file>