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E64-01DB-46EF-910C-E95AF7A0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5DF-8815-4B12-BF66-5CD05BE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7B9-C5EE-4BC6-8DD1-605638FE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B7C-7A33-4332-A75A-F0670E89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779-35C8-4B9A-AD5F-9EAF6A53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5FF-9B7A-41B5-9F1D-3FDF60F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469-C0F7-4868-ABDB-A6D30DC9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2C2-6289-42E0-AA55-D092CB75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CA60-FB79-4A28-A2C3-E038D43F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C94F-9FFF-498C-967D-744A8FC1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F8A-9AA3-4DBF-9BF6-FFFD427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D5A-8211-4341-B761-2F801C1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92BD-DA56-4F5E-B9B6-47EA0DB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FF47-DA77-462F-A9D8-CF3044A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5BA-9CCB-4E01-987B-529D3A9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152B-3762-417A-8808-6175BA42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0A94-A890-43E4-946B-02ADCCB0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7B7-B874-423E-A5DA-AC3AB6F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D6B-76F5-4EB6-BD02-58B744A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E8C-3196-437E-A270-876E74F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4F2-8C9E-45DC-A4FA-EFF7A68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F1C-0D90-4D01-B3E5-EBD6544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59F-6E4A-42A5-BBE8-26C3DBD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FA7-A067-433F-B431-3EF8A5D9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A4A-22FD-4C35-BBB4-55D8DF3FA9D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0679-38B4-412B-BF1B-7D4AE4CEDEF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ложноподчинённое предложе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ипы придаточных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ак определить тип придаточных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ужно установить смысловые отношения между главным и придаточным предложениями при помощи вопрос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304920"/>
            <a:ext cx="8229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даточные изъясн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752480"/>
            <a:ext cx="830592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вязаны с глаголом со значением мысли, чувства, восприят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ЗНАТЬ, ПОНИМАТЬ, ЧУВСТВОВАТЬ, ЛЮБИТЬ, ВИДЕТЬ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ЛЫШАТЬ И ТД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2514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знаю (ЧТО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352680"/>
            <a:ext cx="3200400" cy="3048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ТО ты скажеш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ТО приходи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 это сделат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АКОЙ сегодня ден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ОГДА  он вернётся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ДЕ он живёт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ЧЁМУ ты молчиш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АЧЕМ он приходил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066680"/>
            <a:ext cx="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752480" y="2971800"/>
            <a:ext cx="281952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648320"/>
            <a:ext cx="274320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952880"/>
            <a:ext cx="281952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04920"/>
            <a:ext cx="8305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предел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371600"/>
            <a:ext cx="83822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носятся к существительному или местоимению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гут быть связаны с главным предложением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 помощью союзных сло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95680"/>
            <a:ext cx="32763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вошли в ту комнат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КАКУЮ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733920"/>
            <a:ext cx="45720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ОТОРАЯ была ярко освещен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ТО находилась справ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УДА нас пригласила хозяйк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КУДА доносились голос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ДЕ были сложены вещ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99072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57400" y="2666880"/>
            <a:ext cx="2209680" cy="1828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472428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28600"/>
            <a:ext cx="5715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бстоятельственны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1295280"/>
            <a:ext cx="4419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ЗЛИЧАТЬ 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4419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СЛЕДСТВ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 ТАК ЧТО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905120"/>
            <a:ext cx="4114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СТЕПЕН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 ЧТО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124080"/>
            <a:ext cx="289548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ыло очень темно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ак чт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приходилос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971800"/>
            <a:ext cx="281952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ыло так темно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ходилос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щупывать дорог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5257800"/>
            <a:ext cx="4343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ыражает степень пр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омощи указания на следстви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74320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95288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438280" y="2819520"/>
            <a:ext cx="763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304920"/>
            <a:ext cx="79246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обстоятельств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1371600"/>
            <a:ext cx="5181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ЗЛИЧА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133720"/>
            <a:ext cx="38098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ЧИН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133720"/>
            <a:ext cx="33526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ЦЕЛ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124080"/>
            <a:ext cx="373356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С КАКОЙ ЦЕЛЬЮ?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Ы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124080"/>
            <a:ext cx="381024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ы остановилис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(ПОЧЕМУ?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ТОМУ ЧТ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ужно было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набрать во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914400"/>
            <a:ext cx="7632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352320" y="1828800"/>
            <a:ext cx="12956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828800"/>
            <a:ext cx="13716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89548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2819520"/>
            <a:ext cx="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04920"/>
            <a:ext cx="7848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ратить вниман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447920"/>
            <a:ext cx="792468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даточные присоединительны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362320"/>
            <a:ext cx="807732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ffff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означают добавочные сведения, замечания к тому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 чём говорится в главном предложении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) конкретный вопрос поставить невозможно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)относятся ко всему главному предложению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) Присоединяются союзными словами ЧТО,ЧЕМ, О ЧЕМ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ТТОГО, ЗАЧЕМ, ПОЧЕМУ И ДР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638680"/>
            <a:ext cx="8153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ала роса,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обещало хорошую погоду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066680"/>
            <a:ext cx="75960" cy="381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981080"/>
            <a:ext cx="7632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525780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2:21:47Z</dcterms:created>
  <dc:creator>МАРИНА</dc:creator>
  <dc:description/>
  <dc:language>en-US</dc:language>
  <cp:lastModifiedBy>МАРИНА</cp:lastModifiedBy>
  <dcterms:modified xsi:type="dcterms:W3CDTF">2008-06-24T04:33:53Z</dcterms:modified>
  <cp:revision>4</cp:revision>
  <dc:subject/>
  <dc:title>PowerPoint Presentation</dc:title>
</cp:coreProperties>
</file>