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3DB-AB61-4A50-BD2F-016268BF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443-E598-4046-AA1C-C8BCF3F9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82B-5051-4A72-A7FE-33250F8C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C44-C596-413C-93B4-F3D12CC8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4C85-49D4-45F1-88EC-6DE96152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44D8-ABD1-4C35-8C46-F4D11FAE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7C21-8B3B-4896-9949-539498FC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79D7-54F8-4B9E-BCBA-1C511960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10D0-2159-4338-BAC8-4185773C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00CD-DEB2-4A73-8E98-E047995E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F51D-629A-4EA1-A187-DBE96609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396-B6F3-4EF7-B3CA-DDC9F7B7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0566-6F4B-4A09-8CC9-48A4302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8080-7115-44FC-A86A-C2402690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B76C-0081-4DFC-AA05-21E0614A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5861-D35D-4705-A0A2-0DE9341C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69B7-6602-441A-B62F-7E5A639A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7CD-37E0-47FE-B6CB-0DF7FC42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BB3-995F-483D-87BD-4A7D5053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6FB-A792-4842-A1E3-B44F3C1C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B53-A88B-4089-BD72-B4EF9E35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C2A-C81F-471B-9C76-1CDEED77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27E-D128-42FC-B007-C8CCE5AF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E06-7A77-4E36-9F7F-29D8EA74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8E23-77C5-4832-9102-98C5FADF8F06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4D89-B1E9-481E-B312-10A1EA82B719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дносоставное предложени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Главный член- сказуемое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Односоставные личные предлож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7680" y="3166920"/>
          <a:ext cx="683280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7680" y="3166920"/>
                    <a:ext cx="683280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380880"/>
            <a:ext cx="3429000" cy="106704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пределённо- лич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523880"/>
            <a:ext cx="4191120" cy="14479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действующее лиц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мыслится определённо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(я, мы, ты,вы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380880"/>
            <a:ext cx="838080" cy="11430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895480"/>
            <a:ext cx="4419720" cy="25146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казуемого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1-е и 2-е л. наст. и буд.вр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зъявительного и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велительног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аклон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038120" y="2971800"/>
            <a:ext cx="6858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562720"/>
            <a:ext cx="4267080" cy="10666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Расскажу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тебе всё при встрече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Идите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скорее сюда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609588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647712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4572000"/>
            <a:ext cx="137160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533520"/>
            <a:ext cx="4114800" cy="8380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определённо- лич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28600"/>
            <a:ext cx="3429000" cy="1219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лицо мыслится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определённо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(кто- то, не важно кто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91440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362320"/>
            <a:ext cx="6096240" cy="15238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3-е л.мн.ч.наст. и буд.вр.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велит. накл.,мн.ч. прош.вр., мн.ч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условного наклон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1371600"/>
            <a:ext cx="175248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5029200"/>
            <a:ext cx="5638680" cy="15238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а стеной играют на рояле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чту ещё </a:t>
            </a:r>
            <a:r>
              <a:rPr b="0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не приносили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579132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886200"/>
            <a:ext cx="1828800" cy="10666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6172200"/>
            <a:ext cx="1752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228600"/>
            <a:ext cx="2819520" cy="7621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бобщённо- личны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304920"/>
            <a:ext cx="365760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лицо мыслится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бобщенно (всё, любой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каждый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133720"/>
            <a:ext cx="5943600" cy="13716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казуемого: как в опр-л или неопр.-л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редложениях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343400"/>
            <a:ext cx="4800600" cy="18288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На деньги ума </a:t>
            </a:r>
            <a:r>
              <a:rPr b="1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не купишь</a:t>
            </a: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Цыплят по осени </a:t>
            </a:r>
            <a:r>
              <a:rPr b="1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считают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563868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85800"/>
            <a:ext cx="106668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0400" y="1600200"/>
            <a:ext cx="26668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505320"/>
            <a:ext cx="2743200" cy="8380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Безличные предлож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762120"/>
          <a:ext cx="8839080" cy="5641920"/>
        </p:xfrm>
        <a:graphic>
          <a:graphicData uri="http://schemas.openxmlformats.org/drawingml/2006/table">
            <a:tbl>
              <a:tblPr/>
              <a:tblGrid>
                <a:gridCol w="4419720"/>
                <a:gridCol w="4419360"/>
              </a:tblGrid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Безличный глагол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Вечереет.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Подморозил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Личный глагол в значении безличног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деревьев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капал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Инфинитив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Вам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видать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таких сражений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одальное слово ( надо, нужно, можно, возможно, нельзя) в сочетании с инфинитивом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д снегом ещё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можно найти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свежие лесные цветы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Краткая форма страдательного причастия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У меня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прибран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лово состояния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не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грустно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оттого, что весело тебе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лово НЕТ( а также безличная форма глагола БЫТЬ)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Денег у него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т, не было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и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будет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5181480" y="5029200"/>
            <a:ext cx="990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5638680"/>
            <a:ext cx="457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5715000"/>
            <a:ext cx="16765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191120"/>
            <a:ext cx="15238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251460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3200400"/>
            <a:ext cx="14479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1828800"/>
            <a:ext cx="76176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14300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1143000"/>
            <a:ext cx="13716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601992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5715000"/>
            <a:ext cx="3808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5:47:56Z</dcterms:created>
  <dc:creator>МАРИНА</dc:creator>
  <dc:description/>
  <dc:language>en-US</dc:language>
  <cp:lastModifiedBy>ученик</cp:lastModifiedBy>
  <dcterms:modified xsi:type="dcterms:W3CDTF">2008-06-18T05:10:00Z</dcterms:modified>
  <cp:revision>9</cp:revision>
  <dc:subject/>
  <dc:title>PowerPoint Presentation</dc:title>
</cp:coreProperties>
</file>