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7AC-33F8-4945-A594-95BD46B6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D7B-90C3-4A83-89FE-50BEF9BC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1F5-8B1E-4C09-BFDA-C3E8663B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85A-11A0-475E-B0CC-E1C2BB9F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9A0-A008-4B95-AABA-F932B250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4252-66EC-490A-8A63-FE92105B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ED97-88D1-4918-A28F-88DFA4E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4991-1A41-4216-920B-0FF19F9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0CEC-6AE5-42CC-AE8B-00038DC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5DF6-CAA2-4D6D-9E49-83E04ADE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0CA-6FE0-4FD4-ADC2-5AE1650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6E0-EAD2-403C-A123-9674754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580-8D93-4F10-A986-5380C49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D45A-F99C-4024-AAFE-F3D27767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C50-1C8D-4F66-8086-2500A1AF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5D9-78B0-493B-B479-873E8F2A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C38B-EFF2-4B17-B69C-0EF013D6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924-9880-4E03-92E5-C9CD07D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140-63DA-47A2-AB05-A50F6CB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9AF-09ED-447D-97A5-2D8D4ED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108-7F62-4430-87A2-78A4CD4E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8A5-E601-498F-B63E-C51BC76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477-4A15-47D1-87CE-0B369F8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D5C-7D73-45A3-9687-B7DC5F7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83F-E960-4CA8-B2FF-7158A79F2214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115-8F3E-4A6C-B1A6-C1019585BBB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дносоставное предложени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Главный член- сказуемое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Односоставные 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7680" y="3166920"/>
          <a:ext cx="683280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7680" y="3166920"/>
                    <a:ext cx="6832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80880"/>
            <a:ext cx="3429000" cy="106704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523880"/>
            <a:ext cx="4191120" cy="14479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действующее лиц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мыслится 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я, мы, ты,вы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380880"/>
            <a:ext cx="838080" cy="1143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95480"/>
            <a:ext cx="4419720" cy="25146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1-е и 2-е л. наст. и буд.вр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изъявительного и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ельного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038120" y="2971800"/>
            <a:ext cx="685800" cy="3049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4267080" cy="10666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Расскажу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тебе всё при встрече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Идит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скорее сюда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60958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647712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4572000"/>
            <a:ext cx="137160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533520"/>
            <a:ext cx="4114800" cy="8380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- лично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28600"/>
            <a:ext cx="342900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неопределённо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(кто- то, не важно кто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91440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362320"/>
            <a:ext cx="6096240" cy="15238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3-е л.мн.ч.наст. и буд.вр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велит. накл.,мн.ч. прош.вр., мн.ч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условного наклонени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371600"/>
            <a:ext cx="1752480" cy="9907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5029200"/>
            <a:ext cx="5638680" cy="15238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а стеной играют на рояле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очту ещё </a:t>
            </a:r>
            <a:r>
              <a:rPr b="0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не приносил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7913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886200"/>
            <a:ext cx="1828800" cy="10666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58672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6172200"/>
            <a:ext cx="1752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28600"/>
            <a:ext cx="2819520" cy="7621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ённо- личные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304920"/>
            <a:ext cx="3657600" cy="129528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Значение: лицо мыслится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обобщенно (всё, любой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каждый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5943600" cy="13716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Форма сказуемого: как в опр-л или неопр.-л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предложениях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343400"/>
            <a:ext cx="4800600" cy="1828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На деньги ума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не купишь</a:t>
            </a: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imes New Roman"/>
              </a:rPr>
              <a:t>Цыплят по осени </a:t>
            </a:r>
            <a:r>
              <a:rPr b="1" lang="ru-RU" sz="2400" spc="-1" strike="noStrike" u="sng">
                <a:solidFill>
                  <a:srgbClr val="545472"/>
                </a:solidFill>
                <a:uFillTx/>
                <a:latin typeface="Times New Roman"/>
              </a:rPr>
              <a:t>считают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63868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8580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1600200"/>
            <a:ext cx="26668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505320"/>
            <a:ext cx="2743200" cy="8380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Безличные предлож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762120"/>
          <a:ext cx="8839080" cy="564192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Безличный глагол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Вечереет.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Подморозил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Личный глагол в значении безличног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 деревьев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капал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Инфинитив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Вам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видать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таких сражений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одальное слово ( надо, нужно, можно, возможно, нельзя) в сочетании с инфинитивом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Под снегом ещё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можно найти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свежие лесные цветы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Краткая форма страдательного причаст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У меня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прибрано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состояния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Мне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грустно 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оттого, что весело тебе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Слово НЕТ( а также безличная форма глагола БЫТЬ)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Денег у него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т, не было</a:t>
                      </a:r>
                      <a:r>
                        <a:rPr b="0" lang="ru-RU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2000" spc="-1" strike="noStrike" u="sng">
                          <a:solidFill>
                            <a:srgbClr val="545472"/>
                          </a:solidFill>
                          <a:uFillTx/>
                          <a:latin typeface="Tahoma"/>
                        </a:rPr>
                        <a:t>не будет.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181480" y="5029200"/>
            <a:ext cx="990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5638680"/>
            <a:ext cx="45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563868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5715000"/>
            <a:ext cx="16765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191120"/>
            <a:ext cx="1523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5146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3200400"/>
            <a:ext cx="14479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1828800"/>
            <a:ext cx="7617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1430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14300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601992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5715000"/>
            <a:ext cx="3808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5:47:56Z</dcterms:created>
  <dc:creator>МАРИНА</dc:creator>
  <dc:description/>
  <dc:language>en-US</dc:language>
  <cp:lastModifiedBy>ученик</cp:lastModifiedBy>
  <dcterms:modified xsi:type="dcterms:W3CDTF">2008-06-18T05:10:00Z</dcterms:modified>
  <cp:revision>9</cp:revision>
  <dc:subject/>
  <dc:title>PowerPoint Presentation</dc:title>
</cp:coreProperties>
</file>