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91D-A8EC-4E78-BC1B-FEDDB83B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EF7-B313-4174-AA12-E1E76227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8E5-B1BB-4387-9FBF-DEE37D56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7C4-4509-4F49-BAE2-A6899BB3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07E-EA8E-466D-BB49-38076FB5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939-21EB-493B-8E05-B6DF9AFF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B67-9E09-4D76-B80B-22DE41C3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948-AC25-4C3F-BCDB-D53A994A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DA2-CEA3-4112-8355-932F93E3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496-E4F7-4932-9174-6EC578D2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B6B-34F5-400D-964B-3AD1F45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6C2-6571-46E3-8A16-8E55E7F6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F338-D6A2-436D-A64D-4115C2E823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уральские горы.jpg"/>
          <p:cNvPicPr/>
          <p:nvPr/>
        </p:nvPicPr>
        <p:blipFill>
          <a:blip r:embed="rId1"/>
          <a:stretch/>
        </p:blipFill>
        <p:spPr>
          <a:xfrm>
            <a:off x="1562040" y="1600200"/>
            <a:ext cx="60199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2340000" y="549360"/>
            <a:ext cx="446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льские гор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уральские горы3.jpg"/>
          <p:cNvPicPr/>
          <p:nvPr/>
        </p:nvPicPr>
        <p:blipFill>
          <a:blip r:embed="rId1"/>
          <a:stretch/>
        </p:blipFill>
        <p:spPr>
          <a:xfrm>
            <a:off x="1397160" y="1779480"/>
            <a:ext cx="6349680" cy="4165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468360" y="692280"/>
            <a:ext cx="81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длинная горная цепь Росс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5:44Z</dcterms:created>
  <dc:creator>FuckYouBill</dc:creator>
  <dc:description/>
  <dc:language>en-US</dc:language>
  <cp:lastModifiedBy>FuckYouBill</cp:lastModifiedBy>
  <dcterms:modified xsi:type="dcterms:W3CDTF">2008-12-09T17:16:52Z</dcterms:modified>
  <cp:revision>1</cp:revision>
  <dc:subject/>
  <dc:title>Слайд 1</dc:title>
</cp:coreProperties>
</file>