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D76-8C7A-4773-AC3C-33C48C3F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C39-4361-4B64-A943-0DCA580F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F1B-23B4-4760-BED1-FA08ADBC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787-BB42-47BA-9BA1-E61C1E4C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28F-2470-424D-AD7B-9DD323F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8D5-D47E-4A0A-8A2B-B7C280FF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BC7-3DA2-43F7-A26C-E2BFEDED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C5A-AAC7-4E54-83D6-17A5181A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2C0-B6B5-4028-9B0E-8CE8A4DB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FF4-77E3-418A-A340-12B1311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494-1B69-46F4-AF7E-4FE4A39B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A8C-A566-49F7-911C-9FC1F25E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F2B2-FDF9-4FB3-8DD0-29F47ED2A2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6" descr="уральские горы.jpg"/>
          <p:cNvPicPr/>
          <p:nvPr/>
        </p:nvPicPr>
        <p:blipFill>
          <a:blip r:embed="rId1"/>
          <a:stretch/>
        </p:blipFill>
        <p:spPr>
          <a:xfrm>
            <a:off x="1562040" y="1600200"/>
            <a:ext cx="60199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2340000" y="549360"/>
            <a:ext cx="446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альские гор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6" descr="уральские горы3.jpg"/>
          <p:cNvPicPr/>
          <p:nvPr/>
        </p:nvPicPr>
        <p:blipFill>
          <a:blip r:embed="rId1"/>
          <a:stretch/>
        </p:blipFill>
        <p:spPr>
          <a:xfrm>
            <a:off x="1397160" y="1779480"/>
            <a:ext cx="6349680" cy="4165560"/>
          </a:xfrm>
          <a:prstGeom prst="rect">
            <a:avLst/>
          </a:prstGeom>
          <a:ln w="0">
            <a:noFill/>
          </a:ln>
        </p:spPr>
      </p:pic>
      <p:sp>
        <p:nvSpPr>
          <p:cNvPr id="46" name="WordArt 4"/>
          <p:cNvSpPr txBox="1"/>
          <p:nvPr/>
        </p:nvSpPr>
        <p:spPr>
          <a:xfrm>
            <a:off x="468360" y="692280"/>
            <a:ext cx="81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мая длинная горная цепь Росс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5:44Z</dcterms:created>
  <dc:creator>FuckYouBill</dc:creator>
  <dc:description/>
  <dc:language>en-US</dc:language>
  <cp:lastModifiedBy>FuckYouBill</cp:lastModifiedBy>
  <dcterms:modified xsi:type="dcterms:W3CDTF">2008-12-09T17:16:52Z</dcterms:modified>
  <cp:revision>1</cp:revision>
  <dc:subject/>
  <dc:title>Слайд 1</dc:title>
</cp:coreProperties>
</file>