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A2C9-4F4B-4AB8-9F8A-0C3FB690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C290-EA3B-44FF-83E9-C4DAA9D1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B40-D0BA-4AEE-875C-7C4C220F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D4AD-E9DC-4939-82D6-6DE45D67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6EC4-3651-43FC-85FE-C070DBAC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6A7-3E13-4FAE-BD4D-6A51971A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F69-88ED-4339-A053-BA5BD179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348-A90C-48F8-9734-EF3AF14B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74C-6CCE-4B47-BD9E-794A2C41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D9C-6017-4977-9B37-90B4AA00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772-A864-4CFB-9366-C7D1400C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412-128B-43D0-B38F-E8589928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0D8A-D8B3-4C72-B6CC-B194F579E2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6" descr="прикаспийская низменность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1116000" y="549360"/>
            <a:ext cx="698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каспийская низмен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6" descr="прикаспийская низменность3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468360" y="620640"/>
            <a:ext cx="820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28 метров ниже уровня мор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7:14:12Z</dcterms:created>
  <dc:creator>FuckYouBill</dc:creator>
  <dc:description/>
  <dc:language>en-US</dc:language>
  <cp:lastModifiedBy>FuckYouBill</cp:lastModifiedBy>
  <dcterms:modified xsi:type="dcterms:W3CDTF">2008-12-09T17:15:30Z</dcterms:modified>
  <cp:revision>1</cp:revision>
  <dc:subject/>
  <dc:title>Слайд 1</dc:title>
</cp:coreProperties>
</file>