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5C5-DA62-4B9A-9B4A-68C6D75A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DA5-467E-441C-BCAA-52E29E93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1E7-6ABD-48F2-B290-4E2048BC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0B9-AA54-4497-AA49-7414E450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561-F5C7-4FEC-81F7-F1ECC75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889-85DF-4DF0-9FA7-24312E2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146-A435-4D02-B560-25630A05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97E-D5BD-4D6C-ADA1-5D9ABA1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D4D-1277-4E8C-950F-E66E6652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2BB-71BE-4587-8387-6766E40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B73-B00F-43EE-8C85-A10A306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657-FC9F-42D4-8E57-D30F351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159-D8B5-4BD5-A286-CB531C6BB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прикаспийская низменность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16000" y="549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аспийская низмен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прикаспийская низменность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468360" y="620640"/>
            <a:ext cx="820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28 метров ниже уровня мор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4:12Z</dcterms:created>
  <dc:creator>FuckYouBill</dc:creator>
  <dc:description/>
  <dc:language>en-US</dc:language>
  <cp:lastModifiedBy>FuckYouBill</cp:lastModifiedBy>
  <dcterms:modified xsi:type="dcterms:W3CDTF">2008-12-09T17:15:30Z</dcterms:modified>
  <cp:revision>1</cp:revision>
  <dc:subject/>
  <dc:title>Слайд 1</dc:title>
</cp:coreProperties>
</file>