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1BE-55DE-4F27-AA5D-4798B8F0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7B6-AAA6-48C8-8DBF-73CD8A53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A7E-762E-4143-B34C-35700EB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A98-4460-4664-BC39-A678FF66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9A3-3FA2-4629-9D89-CE3CBB3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909-7E57-46DD-87C2-F9D2456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717-6D3D-43B0-85A0-D95A2A0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B26-BC14-432B-AE45-FC3EEAE2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271-BD66-4BDF-9E48-2C8C2293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859-7752-4FEC-BA32-B4927AA6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46D-6EA4-4E4F-9D23-630EE86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88E-B603-4F92-A28A-CD042DA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B22-DA34-4573-9C86-ECDB42A8C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эльбрус3.jpg"/>
          <p:cNvPicPr/>
          <p:nvPr/>
        </p:nvPicPr>
        <p:blipFill>
          <a:blip r:embed="rId1"/>
          <a:stretch/>
        </p:blipFill>
        <p:spPr>
          <a:xfrm>
            <a:off x="1357200" y="1600200"/>
            <a:ext cx="623268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2050920" y="549360"/>
            <a:ext cx="49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 Эльбрус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эльбрус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763640" y="620640"/>
            <a:ext cx="55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ысокая точка России</a:t>
            </a:r>
            <a:endParaRPr b="0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08:13Z</dcterms:created>
  <dc:creator>FuckYouBill</dc:creator>
  <dc:description/>
  <dc:language>en-US</dc:language>
  <cp:lastModifiedBy>FuckYouBill</cp:lastModifiedBy>
  <dcterms:modified xsi:type="dcterms:W3CDTF">2008-12-09T17:11:10Z</dcterms:modified>
  <cp:revision>1</cp:revision>
  <dc:subject/>
  <dc:title>Слайд 1</dc:title>
</cp:coreProperties>
</file>