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2B4-B903-455D-986F-74F27C82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0C7-3F7B-44F7-B202-482B0CE4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3C1-7CF0-44B0-84F0-61494537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3786-98D4-404F-A28E-D7B7DF14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537-5BF0-4898-9280-8EFBE0F2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212-F7FE-4B28-9D2F-F2D87633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1C4-8765-42E5-B398-796C0A08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226-E53F-4DDA-8A24-6B182D2A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D75-E596-46D4-AFA5-C292B50B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E59-491B-4EEC-9FDF-0D9FB18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3BE-97D5-4091-BAC4-2B9BC26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7D6-E4B6-4C71-962C-D88D6F4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A8C5-2312-466F-B7ED-849911F7E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эльбрус3.jpg"/>
          <p:cNvPicPr/>
          <p:nvPr/>
        </p:nvPicPr>
        <p:blipFill>
          <a:blip r:embed="rId1"/>
          <a:stretch/>
        </p:blipFill>
        <p:spPr>
          <a:xfrm>
            <a:off x="1357200" y="1600200"/>
            <a:ext cx="623268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2050920" y="549360"/>
            <a:ext cx="49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ра Эльбрус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эльбрус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1763640" y="620640"/>
            <a:ext cx="555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0504d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высокая точка России</a:t>
            </a:r>
            <a:endParaRPr b="0" lang="en-US" sz="1800" spc="1" strike="noStrike">
              <a:ln w="0">
                <a:noFill/>
              </a:ln>
              <a:solidFill>
                <a:srgbClr val="c0504d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08:13Z</dcterms:created>
  <dc:creator>FuckYouBill</dc:creator>
  <dc:description/>
  <dc:language>en-US</dc:language>
  <cp:lastModifiedBy>FuckYouBill</cp:lastModifiedBy>
  <dcterms:modified xsi:type="dcterms:W3CDTF">2008-12-09T17:11:10Z</dcterms:modified>
  <cp:revision>1</cp:revision>
  <dc:subject/>
  <dc:title>Слайд 1</dc:title>
</cp:coreProperties>
</file>