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2C9-8F56-4029-A9E0-60C6946C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C69-5B63-4EEE-AAE9-AAB08140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DC1F-1567-4FFD-B67A-04C7DE85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4265-7689-4175-9870-9C7462B5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09CE-B579-44FE-9D4E-E6B78782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1428-0798-4F6A-975C-99F0BDD9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6EDB-EE4B-4BBE-AEB3-3C3D0DC3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AF2E-6212-4D13-851A-FA435167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041B-9B66-404E-9B09-09BCE3FD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F020-AE0E-405B-9DDA-8DEFD0D1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4C5D-6102-4B13-A767-93B8E714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D59A-B2BA-45D9-8F30-B6D82F3D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5269-20E7-4F35-8D5A-71A7F5CC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6714-711D-4D96-BA87-43EC46F9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283D-D2D3-459E-B366-06CAB291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7FA8-B702-4775-A9DE-D264D6FA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6632-D2D1-4D62-B9DD-88F55BC8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DE5-6FB2-4165-B3DC-4D3C12EE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CE8-140C-4F7E-8E39-DD381338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11F9-B096-469B-8543-4704AFAC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789-983C-4013-9044-9589472D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7B28-9709-444F-A4F3-9A1C7B5F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FE76-2656-46CA-8A9E-01A962B5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2968-E9AA-4354-8C41-B97AFF51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E7EA-00D7-4B89-94B8-5E39BD3277F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7A08-3F19-48B9-89BE-372CF7888F5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fcb4f"/>
                </a:solidFill>
                <a:latin typeface="Arial"/>
              </a:rPr>
              <a:t>Яков Исидорович Перельман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49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882 - 194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348000" y="2637000"/>
            <a:ext cx="2192400" cy="331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Школьные годы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Любимыми предметами Якова были математика и физика. Якова восхищали уроки, на которых Бунимович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Е.Н., учитель математики и черчения,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емонстрировал приемы быстрого счета или устраивал «ристалища догадливых». Магические квадраты, числа-исполины и числа-карлики, древние задачи Диофанта, числовые тайны египетских пирамид, квадратура круга, трисекция угла – все это было на уроках математики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реподаватель физики А.А. Мазлумов был под стать своему коллеге-математику. Он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риучал реалистов к отысканию необычного в обычном, всячески поощрял их в таких упражнениях, побуждал к самостоятельной работе мысли, стремился привить интерес к физике, разбудить в учащихся любознательность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c3aa"/>
                </a:solidFill>
                <a:latin typeface="Arial"/>
              </a:rPr>
              <a:t>Основные даты жизни и творческой деятельности Я.И. Перельмана</a:t>
            </a:r>
            <a:br>
              <a:rPr sz="3200"/>
            </a:br>
            <a:endParaRPr b="0" lang="en-US" sz="3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2 ноября 1882 года – родился в г. Белостоке Гродненской губернии в семье мелкого служащег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8 августа 1895 года – поступил в Белостокское реальное училищ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901 г – поступил в петербургский Лесной институт. Первая публикация в журнале «Природа и люди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913г – вышла в свет первая часть книги «Занимательная физика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924-1929 г – работал в отделе науки ленинградской «Красной газеты»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932-1936 г – переписывался с С.П. Королевым по вопросам пропаганды космических знани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935 г – открытие ленинградского Дома занимательной нау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июля 1941 – февраль 1942 года – читал лекции воинам-разведчикам Ленинградского фронта и Краснознаменного Балтийского флота, а также партизанам об ориентировании на местности без прибор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6 марта 1942 года – скончался от голода в осажденном Ленинград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c3aa"/>
                </a:solidFill>
                <a:latin typeface="Arial"/>
              </a:rPr>
              <a:t>О.Д. Хвольсон</a:t>
            </a: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4c3aa"/>
                </a:solidFill>
                <a:latin typeface="Arial"/>
              </a:rPr>
              <a:t>(профессор, член – корреспондент Академии наук)</a:t>
            </a:r>
            <a:endParaRPr b="0" lang="en-US" sz="1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84360" y="1915920"/>
            <a:ext cx="4248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«Людей, которые умели бы так писать о физике, как пишите вы, нет вовсе. Мой вам настоятельный совет: продолжайте, обязательно продолжайте писать подобные книги и впредь!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5292720" y="2060640"/>
            <a:ext cx="3327480" cy="36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Книги Я.И. Перельман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Живая математ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гадки и диковинки в мире чисе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аучные задачи и развлеч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нимательная математика в рассказ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Физика на каждом шаг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нимательная астроном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нимательная арифмет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Занимательные сери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877080" y="4292640"/>
            <a:ext cx="1511280" cy="20890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084720" y="1557360"/>
            <a:ext cx="1393920" cy="21891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900000" y="4221000"/>
            <a:ext cx="1311480" cy="19512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3780000" y="1484280"/>
            <a:ext cx="1425240" cy="21891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1547640" y="1413000"/>
            <a:ext cx="1368720" cy="21603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6"/>
          <a:stretch/>
        </p:blipFill>
        <p:spPr>
          <a:xfrm>
            <a:off x="3708360" y="4221000"/>
            <a:ext cx="1584360" cy="21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Продолжатель идей </a:t>
            </a:r>
            <a:br>
              <a:rPr sz="4000"/>
            </a:b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Я.И. Перельмана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Японский математик Джин Акияма создал на берегу Охотского моря математический Диснейленд. В нем он разместил свои модели , которые оживают в его руках, в руках мальчишек и девчонок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651640" y="1989000"/>
            <a:ext cx="2881080" cy="37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7:33:40Z</dcterms:created>
  <dc:creator>Пименов Анатолий</dc:creator>
  <dc:description/>
  <dc:language>en-US</dc:language>
  <cp:lastModifiedBy>МИША</cp:lastModifiedBy>
  <dcterms:modified xsi:type="dcterms:W3CDTF">2009-02-09T10:08:07Z</dcterms:modified>
  <cp:revision>8</cp:revision>
  <dc:subject/>
  <dc:title>О.Д. Хвольсон</dc:title>
</cp:coreProperties>
</file>