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A9F-1754-4ABE-B6D7-B2CE53D6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B0A-8D10-4C17-970E-945F0C9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304-795A-4E12-B85A-39FF0B34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8BE-E3C2-48C4-96BF-851ECE68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964-A0DD-4847-B605-0F581174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ECFE-7829-4ED7-BAFC-7075C085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C376-0C48-4496-9632-09CD3029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F91F-AFF5-4664-886D-9FDE232F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8D75-F8E1-4A15-B359-9DA18F85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624F-C371-4735-B8D9-84AA769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FE09-91D8-451B-9226-EDE1431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9BD-73CC-486D-A229-083CEABD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C2A-72F0-4332-9190-6937885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E3B-E2BF-411A-8381-CDBD0F4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3FB-FCE1-4080-87A7-201D5176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82F-65B7-473F-9145-68FCBC3C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6C56-1286-430B-A84B-99660169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952-0E88-471F-971E-C91AAC26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EAB-4AB6-43FF-B3F0-BFA511A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E81-BB28-4A96-BE3A-4CA23FD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B0C-623B-49BD-A588-5DA2D99A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810-DC45-4155-9EF7-4BA417C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2A4-EE43-4BBB-94F6-CBC16BD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60F-E66C-46D7-9DDB-7CF3328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E52-827B-4B0D-89AB-E685EB0C964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953-487E-4510-A88C-191CF1A1BE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cb4f"/>
                </a:solidFill>
                <a:latin typeface="Arial"/>
              </a:rPr>
              <a:t>Яков Исидорович Перельман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882 - 194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1924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Школьные год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юбимыми предметами Якова были математика и физика. Якова восхищали уроки, на которых Бунимови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.Н., учитель математики и черчения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емонстрировал приемы быстрого счета или устраивал «ристалища догадливых». Магические квадраты, числа-исполины и числа-карлики, древние задачи Диофанта, числовые тайны египетских пирамид, квадратура круга, трисекция угла – все это было на уроках математики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подаватель физики А.А. Мазлумов был под стать своему коллеге-математику. О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иучал реалистов к отысканию необычного в обычном, всячески поощрял их в таких упражнениях, побуждал к самостоятельной работе мысли, стремился привить интерес к физике, разбудить в учащихся любознательност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c3aa"/>
                </a:solidFill>
                <a:latin typeface="Arial"/>
              </a:rPr>
              <a:t>Основные даты жизни и творческой деятельности Я.И. Перельмана</a:t>
            </a:r>
            <a:br>
              <a:rPr sz="3200"/>
            </a:b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2 ноября 1882 года – родился в г. Белостоке Гродненской губернии в семье мелкого служаще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8 августа 1895 года – поступил в Белостокское реальное училищ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01 г – поступил в петербургский Лесной институт. Первая публикация в журнале «Природа и люд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13г – вышла в свет первая часть книги «Занимательная физик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24-1929 г – работал в отделе науки ленинградской «Красной газеты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32-1936 г – переписывался с С.П. Королевым по вопросам пропаганды космических зна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35 г – открытие ленинградского Дома занимательной нау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июля 1941 – февраль 1942 года – читал лекции воинам-разведчикам Ленинградского фронта и Краснознаменного Балтийского флота, а также партизанам об ориентировании на местности без прибор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марта 1942 года – скончался от голода в осажденном Ленинград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О.Д. Хвольсон</a:t>
            </a: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4c3aa"/>
                </a:solidFill>
                <a:latin typeface="Arial"/>
              </a:rPr>
              <a:t>(профессор, член – корреспондент Академии наук)</a:t>
            </a:r>
            <a:endParaRPr b="0" lang="en-US" sz="1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4360" y="1915920"/>
            <a:ext cx="4248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Людей, которые умели бы так писать о физике, как пишите вы, нет вовсе. Мой вам настоятельный совет: продолжайте, обязательно продолжайте писать подобные книги и впредь!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2748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Книги Я.И. Перельман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Живая матема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гадки и диковинки в мире чисе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учные задачи и развле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математика в рассказ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изика на каждом шаг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астроном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арифме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Занимательные сер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511280" cy="2089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1393920" cy="2189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1311480" cy="1951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1425240" cy="2189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1547640" y="1413000"/>
            <a:ext cx="1368720" cy="2160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3708360" y="4221000"/>
            <a:ext cx="158436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Продолжатель идей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Я.И. Перельман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понский математик Джин Акияма создал на берегу Охотского моря математический Диснейленд. В нем он разместил свои модели , которые оживают в его руках, в руках мальчишек и девчонок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88108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33:40Z</dcterms:created>
  <dc:creator>Пименов Анатолий</dc:creator>
  <dc:description/>
  <dc:language>en-US</dc:language>
  <cp:lastModifiedBy>МИША</cp:lastModifiedBy>
  <dcterms:modified xsi:type="dcterms:W3CDTF">2009-02-09T10:08:07Z</dcterms:modified>
  <cp:revision>8</cp:revision>
  <dc:subject/>
  <dc:title>О.Д. Хвольсон</dc:title>
</cp:coreProperties>
</file>